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2E3-DD46-49DC-BD93-559EA174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33F-983E-40E1-A013-283146E0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3F2-D20F-4350-B389-5374C97B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659-2C88-4995-B9E0-01A25E65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8F7-E10C-4339-B9A1-B4CEC32F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1F6-467F-4209-AE83-92FF01F0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9CE-8BE2-45C9-9C6D-BDDEDD7D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A00-7F3F-47B3-A277-51CCFE1E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ACB-EE0E-4E2E-AFE9-7A92C29A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210-4059-4F10-8111-0F4B2DFB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2D9-2A88-4EFD-8928-5821261A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492-70FB-4018-8463-7E56C3B4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3AD0-A358-4F69-8395-28BB7D8EBD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991720" y="0"/>
            <a:ext cx="152280" cy="655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0" y="-360"/>
            <a:ext cx="380880" cy="30492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66760" y="-360"/>
            <a:ext cx="380880" cy="30492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399960" y="-360"/>
            <a:ext cx="381240" cy="30492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533520" y="-360"/>
            <a:ext cx="380880" cy="30492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V="1">
            <a:off x="133200" y="-360"/>
            <a:ext cx="381240" cy="30492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7164360" cy="244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Международное научно-техническое сотрудничество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и интеграционные процессы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486900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ойтко Сергей Васильевич,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кандидат экономических наук, доцент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15920"/>
            <a:ext cx="876312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12 – 15 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сентября 2005 г.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АЛУШ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научно-практическая конференция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«Проблемы и перспективы инновационного развития экономик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805360"/>
            <a:ext cx="75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Национальный технический университет Украи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«Киевский политехнический институт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64360" y="3284640"/>
            <a:ext cx="1892160" cy="25225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Тезисы 7</a:t>
            </a:r>
            <a:endParaRPr b="0" lang="en-US" sz="1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907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572000"/>
            <a:ext cx="10666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3962520"/>
            <a:ext cx="10666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10670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2743200"/>
            <a:ext cx="10670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209680"/>
            <a:ext cx="10666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1676520"/>
            <a:ext cx="10670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5715000"/>
            <a:ext cx="10666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5105520"/>
            <a:ext cx="10670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495680"/>
            <a:ext cx="10666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3886200"/>
            <a:ext cx="10666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3352680"/>
            <a:ext cx="10666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2819520"/>
            <a:ext cx="10666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752480" y="2743200"/>
            <a:ext cx="5105520" cy="2819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26672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блема 2000 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334120"/>
            <a:ext cx="26672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блема 2001 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9079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Малые и большие экономические цик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79280" y="2060640"/>
            <a:ext cx="8569440" cy="3313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Times New Roman"/>
              </a:rPr>
              <a:t>Тезисы 4</a:t>
            </a:r>
            <a:endParaRPr b="0" lang="en-US" sz="7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907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0"/>
            <a:ext cx="859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 CYR"/>
                <a:ea typeface="Times New Roman"/>
              </a:rPr>
              <a:t>Количественная структура сфер деятельности крупнейших компаний ми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0920" y="2060640"/>
          <a:ext cx="8607240" cy="36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060640"/>
                    <a:ext cx="86072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53737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Анализируя выше­приведенные данные, следует заметить, что около 50 % дохода приносят услуги высоких технологий и столько же товары этих сфер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0526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ссматривая численную структуру сфер деятельности крупнейших компаний, выручка которых за 2004 год превышала 300 миллионов долларов наблюдаем такое распред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179280" y="1557360"/>
            <a:ext cx="8713800" cy="4959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ЭТАПЫ ФОРМИРОВАНИЯ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ВЫСОКОТЕХНОЛОГИЧЕСКИХ И НАУКОЕМКИХ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ПРОИЗВОДСТВЕННЫХ СТРУКТУР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осреднический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редприятие экспортирует и реализует на внутреннем ринке высокотехнологическую продукцию другого предприятия (зарубежного), которое хорошо известно в мире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ервисный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этом этапе происходит создание сети сервис-центров с обслуживания реализованных товаров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роизводственный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Формируется производственная структура в стране реализации товаров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Исследовательский.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Создаются и развиваются научно-исследовательские подразделения, экспериментальное производство и др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Инновационный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акапливается опыт, патентируются собственные разработки, создаются принципиально новые узлы и комплектующие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7020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Затронутые выше вопросы наводят на мысль в необходимости концептуального рассмотрения тенденций развития международного научно-технического сотрудничества и интеграционных процессов. Базой исследования может служить цикличность развития мировой экономики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звитие таких высокотехнологических и наукоемких сфер как информационно-коммуникационные технологии, нанотехнологии, оптоэлектроника, аэрокосмическая техника и технологии способствует постепенному объединению стран, то есть происходят интеграционные процессы и развивается международное сотрудничество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948360" y="549360"/>
            <a:ext cx="2051280" cy="27352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948360" y="3573360"/>
            <a:ext cx="2043360" cy="272412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39640" y="5589720"/>
            <a:ext cx="5904000" cy="10080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216000" y="404640"/>
            <a:ext cx="8928000" cy="596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imes New Roman"/>
              </a:rPr>
              <a:t>Спасибо </a:t>
            </a:r>
            <a:endParaRPr b="0" lang="en-US" sz="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907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12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914400"/>
            <a:ext cx="8763120" cy="3782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Arial"/>
              </a:rPr>
              <a:t>за внимание 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Times New Roman"/>
              </a:rPr>
              <a:t>Тезисы 2</a:t>
            </a:r>
            <a:endParaRPr b="0" lang="en-US" sz="7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907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6094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 CYR"/>
                <a:ea typeface="Times New Roman"/>
              </a:rPr>
              <a:t>Постановка пробл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989000"/>
            <a:ext cx="8785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 CYR"/>
              </a:rPr>
              <a:t>Исследование процесса реализации международного научно-технического сотрудничества требует методического инструментария д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 CYR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 CYR"/>
              </a:rPr>
              <a:t>- анализ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 CYR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 CYR"/>
              </a:rPr>
              <a:t>- моделирования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 CYR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 CYR"/>
              </a:rPr>
              <a:t>- прогноз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 CYR"/>
              </a:rPr>
              <a:t>международной деятельности субъектов хозяйствования в научно-технической сфер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45320" y="115920"/>
            <a:ext cx="1278000" cy="18730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Times New Roman"/>
              </a:rPr>
              <a:t>Тезисы 2</a:t>
            </a:r>
            <a:endParaRPr b="0" lang="en-US" sz="7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907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404640"/>
            <a:ext cx="6912000" cy="4415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 CYR"/>
              </a:rPr>
              <a:t>особенност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наукоемкос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высокотехнологич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 CYR"/>
              </a:rPr>
              <a:t>взаимодействие следующих элемент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научны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технологически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технически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экономически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 CYR"/>
              </a:rPr>
              <a:t>международны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45320" y="115920"/>
            <a:ext cx="1278000" cy="18730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" name=""/>
          <p:cNvSpPr/>
          <p:nvPr/>
        </p:nvSpPr>
        <p:spPr>
          <a:xfrm>
            <a:off x="3635280" y="4149720"/>
            <a:ext cx="5400720" cy="21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Функционирование зависит о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инновационно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инвестиционно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производственной деятельности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Times New Roman"/>
              </a:rPr>
              <a:t>Тезисы 2</a:t>
            </a:r>
            <a:endParaRPr b="0" lang="en-US" sz="7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907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40464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YR"/>
              </a:rPr>
              <a:t>Международное научно-техническое сотрудничество объединя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45320" y="115920"/>
            <a:ext cx="1278000" cy="18730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2" name=""/>
          <p:cNvSpPr/>
          <p:nvPr/>
        </p:nvSpPr>
        <p:spPr>
          <a:xfrm>
            <a:off x="3564000" y="3573360"/>
            <a:ext cx="5184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международную торговлю наукоемкой и высокотехнологической продукци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844640"/>
            <a:ext cx="55087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 CYR"/>
              </a:rPr>
              <a:t>трансферт технологий (реализация достижений техники и технологи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Times New Roman"/>
              </a:rPr>
              <a:t>Тезисы 2</a:t>
            </a:r>
            <a:endParaRPr b="0" lang="en-US" sz="7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907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1592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YR"/>
              </a:rPr>
              <a:t>Механизм международного научно-техническое сотрудни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45320" y="115920"/>
            <a:ext cx="1278000" cy="18730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9" name="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4160" y="1204920"/>
          <a:ext cx="8275320" cy="517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1204920"/>
                    <a:ext cx="827532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Times New Roman"/>
              </a:rPr>
              <a:t>Тезисы 2</a:t>
            </a:r>
            <a:endParaRPr b="0" lang="en-US" sz="7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907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1592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YR"/>
              </a:rPr>
              <a:t>Механизм международного научно-техническое сотрудни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45320" y="115920"/>
            <a:ext cx="1278000" cy="18730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7" name="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9120" y="1130400"/>
          <a:ext cx="8502840" cy="500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120" y="1130400"/>
                    <a:ext cx="850284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179280" y="260280"/>
            <a:ext cx="6185160" cy="309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Times New Roman"/>
              </a:rPr>
              <a:t>Тезисы 3</a:t>
            </a:r>
            <a:endParaRPr b="0" lang="en-US" sz="7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907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92240" y="2133720"/>
            <a:ext cx="2133720" cy="761760"/>
            <a:chOff x="1992240" y="2133720"/>
            <a:chExt cx="2133720" cy="761760"/>
          </a:xfrm>
        </p:grpSpPr>
        <p:sp>
          <p:nvSpPr>
            <p:cNvPr id="96" name=""/>
            <p:cNvSpPr/>
            <p:nvPr/>
          </p:nvSpPr>
          <p:spPr>
            <a:xfrm>
              <a:off x="1992240" y="2133720"/>
              <a:ext cx="10670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59280" y="2133720"/>
              <a:ext cx="106668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04840" y="1268280"/>
            <a:ext cx="2133720" cy="762120"/>
            <a:chOff x="2004840" y="1268280"/>
            <a:chExt cx="2133720" cy="762120"/>
          </a:xfrm>
        </p:grpSpPr>
        <p:sp>
          <p:nvSpPr>
            <p:cNvPr id="99" name=""/>
            <p:cNvSpPr/>
            <p:nvPr/>
          </p:nvSpPr>
          <p:spPr>
            <a:xfrm>
              <a:off x="2004840" y="1268280"/>
              <a:ext cx="8384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3280" y="1268280"/>
              <a:ext cx="91440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7680" y="1268280"/>
              <a:ext cx="38088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004840" y="363600"/>
            <a:ext cx="2133720" cy="761760"/>
            <a:chOff x="2004840" y="363600"/>
            <a:chExt cx="2133720" cy="761760"/>
          </a:xfrm>
        </p:grpSpPr>
        <p:sp>
          <p:nvSpPr>
            <p:cNvPr id="103" name=""/>
            <p:cNvSpPr/>
            <p:nvPr/>
          </p:nvSpPr>
          <p:spPr>
            <a:xfrm>
              <a:off x="2004840" y="363600"/>
              <a:ext cx="6098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14680" y="363600"/>
              <a:ext cx="76176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76440" y="363600"/>
              <a:ext cx="7621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24000" y="3500280"/>
            <a:ext cx="8496000" cy="28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Интеграция информационно-коммуникационных технологий в структуру международной торгов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В этой структуре явно выделяются классические понятия товар и услуга, но «услугу» можно условно разделить на классическую «услугу» и «информационную услугу». А товар, в свою очередь, занимает место обслуживающего объекта информационных технологий, услуга является основой бизнеса. Но последняя пока занимает не ведущие место в этой сфере деятельности. Так, по анализу данных, приведенных в Business Week, на 15,3 % General Electric по капитализации опережает Microsoft; по чистой прибили 1 место занимает телекоммуникационная компания; наибольшие темпы роста характерные для производителей деталей и готовых издели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651640" y="620640"/>
            <a:ext cx="2663280" cy="2344680"/>
            <a:chOff x="5651640" y="620640"/>
            <a:chExt cx="2663280" cy="2344680"/>
          </a:xfrm>
        </p:grpSpPr>
        <p:sp>
          <p:nvSpPr>
            <p:cNvPr id="108" name=""/>
            <p:cNvSpPr/>
            <p:nvPr/>
          </p:nvSpPr>
          <p:spPr>
            <a:xfrm>
              <a:off x="5651640" y="620640"/>
              <a:ext cx="718920" cy="7621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51640" y="1413000"/>
              <a:ext cx="718920" cy="761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51640" y="2203560"/>
              <a:ext cx="718920" cy="761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70560" y="763560"/>
              <a:ext cx="194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Това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70560" y="1555920"/>
              <a:ext cx="194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Услуг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299280" y="23479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92360" y="2924280"/>
            <a:ext cx="3095640" cy="431640"/>
            <a:chOff x="1692360" y="2924280"/>
            <a:chExt cx="3095640" cy="431640"/>
          </a:xfrm>
        </p:grpSpPr>
        <p:sp>
          <p:nvSpPr>
            <p:cNvPr id="115" name=""/>
            <p:cNvSpPr/>
            <p:nvPr/>
          </p:nvSpPr>
          <p:spPr>
            <a:xfrm>
              <a:off x="1979640" y="3284640"/>
              <a:ext cx="2808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92360" y="29242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80000" y="292428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0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79640" y="3211560"/>
              <a:ext cx="0" cy="144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40360" y="3211560"/>
              <a:ext cx="0" cy="144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187280" y="2276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141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54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Тезисы 5</a:t>
            </a:r>
            <a:endParaRPr b="0" lang="en-US" sz="1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907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9552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705720" cy="3905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0920" y="404640"/>
            <a:ext cx="8642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Для наукоемкой продукции характерно применение комплектующих, производство которых может быть сосредоточено на одном-двух заводах, которые обеспечивают мировую потребность в этих изделиях при низких ценах и высоком качестве за счет массового производства. Сборочные производства в большинстве случаев сосредотачиваются в регионах реализации готовых това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Тезисы 6</a:t>
            </a:r>
            <a:endParaRPr b="0" lang="en-US" sz="1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907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47840" y="12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520" y="771480"/>
            <a:ext cx="7924680" cy="5419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304920"/>
            <a:ext cx="838188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Экономическая безопасность предприятия с наукоемкими производствами</a:t>
            </a:r>
            <a:r>
              <a:rPr b="1" lang="en-US" sz="1800" spc="-1" strike="noStrike">
                <a:solidFill>
                  <a:srgbClr val="000099"/>
                </a:solidFill>
                <a:latin typeface="TIMES NEW ROMAN CYR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 CYR"/>
                <a:ea typeface="Times New Roman"/>
              </a:rPr>
              <a:t>(на примере информационный технологий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7:45:02Z</dcterms:created>
  <dc:creator>SERGEY VOYTKO</dc:creator>
  <dc:description/>
  <dc:language>en-US</dc:language>
  <cp:lastModifiedBy>Cris</cp:lastModifiedBy>
  <dcterms:modified xsi:type="dcterms:W3CDTF">2005-10-03T13:57:35Z</dcterms:modified>
  <cp:revision>110</cp:revision>
  <dc:subject/>
  <dc:title>Наукоемкие производства и интеграционные процессы в мировой экономике</dc:title>
</cp:coreProperties>
</file>