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0CF-D931-4D79-94BC-34B07254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FDF-7EA1-42A4-AB49-038F758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D62-F24A-4032-9B22-1158C303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BE-06A4-4CF7-85A7-446EA0FF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8245-8FAE-4C4F-944A-0B0F6BB7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5E7-4574-4B82-8C9F-B4A0722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F325-EBA5-401F-9A17-E2B270C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4D9F-01F8-4BEA-AA27-7C92241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EE46-A493-463F-86EC-AE3CFF7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3B8E-A405-4FD1-9665-BE07C4A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6421-FA23-40F6-9089-AD78922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CD2-799C-4F3B-AF25-F6175FB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D9A4-C2A9-46F4-9B51-3B325AF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1533-C604-4864-9E17-38E3248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8356-DB08-4D62-87D2-6F49BB0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073-83C6-4CEC-B69E-ED8BC9ED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DEDF-4E1A-4097-A427-02109BBB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CB4-0911-433E-AE41-003EDD8B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903-7C54-4B62-B92E-801DCD4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306-E673-41C7-80D6-29282213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5C3-6125-4764-AA1D-544C556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CB0-B872-4CA5-A351-390EC80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42B-C434-43FA-AE80-436EB4FE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FD8-2038-4BEF-9436-98B7A80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B70-B605-4DAA-9AC1-643A4C0C9E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BD92-2630-4D61-8A55-F8AF3DFA09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312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Людмила Нехорошева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.э.н., профессор, зав. кафедрой экономики промышленных предприятий БГЭУ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3141720"/>
            <a:ext cx="842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9d8ff"/>
                </a:solidFill>
                <a:latin typeface="Arial"/>
              </a:rPr>
              <a:t>РАЗВИТИЕ РЕГИОНА В УСЛОВИЯХ ФОРМИРОВА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9d8ff"/>
                </a:solidFill>
                <a:latin typeface="Arial"/>
              </a:rPr>
              <a:t>«НОВОЙ ЭКОНОМИ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68360" y="1484280"/>
          <a:ext cx="8229600" cy="292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я вложений в НИОКР от ВВ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 - m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пония – 3 %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ША – 2,5-3 %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 – 2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веция -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3 % ВВ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реция -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0,5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.е. разрыв в 6 ра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620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Страны ЕС, в которых доля занятых в сфере услуг более 70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2852640"/>
            <a:ext cx="590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Великобрит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Люксембур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Нидерлан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 – Шве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981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ahoma"/>
              </a:rPr>
              <a:t>Создание дополнительных рабочих мест в ЕС (1990 – 1995 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852640"/>
            <a:ext cx="784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2 млн. – в непроизводственной сф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млн. – в промыш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0 тыс. – в сельском хозяй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260280"/>
            <a:ext cx="86421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обализац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едставляет собой растущую экономическую взаимозависимость стран всего мира в результа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зрастающего объема и разнообразия трансграничных трансакц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варов, услуг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еждународных потоков капитала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также благодаря все бол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быстрой и широкой диффузии технолог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ерты Международ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ютного фонда (МВ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260280"/>
            <a:ext cx="8497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ствия глобал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начал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окраще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экономического расстояни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между странам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.е. возможность получать необходимую информацию из любой точки планеты в реальном режиме времени, и быстро принимать решения по организации международного инвестирования капиталов, маркетинга, передачи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ысокая мобильност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технолог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ет возможность получать прибыль и сверхприбыль тем странам, регионам, в которых накоплены человеческий капитал в виде системы знаний, квалификации, есть благоприятные условия для протекания прогрессивных бизнес-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лад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едпосылки для глобализации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аких процессов, которые ранее были локальны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воей приро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76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волюция технологического тран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0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витие базовые отраслей, выпускающих стандартизированную продук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573360"/>
            <a:ext cx="1081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мпо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88000" y="206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393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адная Гер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,9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,8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407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7,5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2708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7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3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4076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,2 млн. до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263700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404640"/>
            <a:ext cx="7920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 для СШ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теря лидирующих позиций на мировом ран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ост отрицательного сальдо торгового балан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нижение торговых преимуществ в секторе высокотехнологичных това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ффект бумеранг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260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раструктура науки и технологии в штатах-участника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PSCo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 штатах, не участвующих в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PSC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907920"/>
          <a:ext cx="8229600" cy="4932360"/>
        </p:xfrm>
        <a:graphic>
          <a:graphicData uri="http://schemas.openxmlformats.org/drawingml/2006/table">
            <a:tbl>
              <a:tblPr/>
              <a:tblGrid>
                <a:gridCol w="4751280"/>
                <a:gridCol w="1224000"/>
                <a:gridCol w="1368360"/>
                <a:gridCol w="885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ты с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SC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ты без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SC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ир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Расходы на все выполненные НИОКР в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0000 валового продукта шта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.58 (142.4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3.96 (134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.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Расходы на выполнение для промышленности НИОКР в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$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 валового продукта шта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9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2.9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.74 (123.2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.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овые ресур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роцент гражданских работников со степенью бакалавра науки или тех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9 (0.5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6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роцент гражданских работников со степенью доктора науки или тех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 (0.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2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611280" y="5950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 Экспериментальная программа стимулирования конкурентных исслед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32360" y="260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ение табл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68360" y="692280"/>
          <a:ext cx="8229600" cy="5689080"/>
        </p:xfrm>
        <a:graphic>
          <a:graphicData uri="http://schemas.openxmlformats.org/drawingml/2006/table">
            <a:tbl>
              <a:tblPr/>
              <a:tblGrid>
                <a:gridCol w="4751280"/>
                <a:gridCol w="1224000"/>
                <a:gridCol w="1368360"/>
                <a:gridCol w="885960"/>
              </a:tblGrid>
              <a:tr h="55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вложения и помощь бизнес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умма инвестированного венчурного капитала 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$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 валового продукта шта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34 (14.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53 (87.3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Среднегодовая сумма собранного акционерного капитала 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 валового продукта шта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6 (15.1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97 (47.1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.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ческая интенсивность базы предприят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роцент предприятий в кодах высоких технологий стандартной промышленной классиф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4 (0.8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7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.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Процент занятости в кодах высоких технологий стандартной промышленной классиф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34 (2.2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6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он об ускорении регионального развития на основе высокотехнологичных комплексов          (Япония, 1983 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628640"/>
            <a:ext cx="835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ритерии отбора конкретных районов органами местного самоуправл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Наличие предприятий, потенциально способных выпускать высокотехнологичную продук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Население города – свыше 150 тыс. человек и развитой информационной, финансовой и социальной инфраструкту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Наличие университетов, осуществляющих подготовку кадров и исследования в области высоких технолог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Наличие аэропортов и высокоскоростных автодор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54720"/>
            <a:ext cx="82519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еделение технологий по годам после введения в практи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907920"/>
          <a:ext cx="874872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487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50920" y="5196600"/>
            <a:ext cx="8642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ертикальная шкала –  процент домовладельцев, пользующихся этими продук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изонтальная шкала – года после создания продукта до его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од 1 – год изобрет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260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он об инновациях и научных исследованиях (Франция, 1999 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197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он позволяет создавать условия, благоприятные для передачи технологий, полученных в результате научных исследований, проведенных в государственных (общественных) научных учреждениях, в производство и созданию инновационных предприят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141720"/>
            <a:ext cx="8820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он включает в себя четыре ч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Мобильность исследователей в направлении предпри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арианты сотрудничества между научными учреждениями и предприят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Налоговая регламентация инновационных пред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Юридические статус инновационных предприяти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7164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Мобильность исследователей в направлении предприя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197000"/>
            <a:ext cx="8820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он позволя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выплачивать зарплату создателю нового предприятия по месту своей прежней работы в период создания и становления предприятия, при этом закон создает защиту для карьерного роста ученых, которые взялись за создание инновационных предприят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исследовательскому персоналу оказывать свое научное содействие предприятию, которое внедряет результаты его исследований, оставаясь при этом государственным служащ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любому исследовательскому персоналу принять участие в капитале предприятия, которое использует результаты его научных исследований. Такое участие может доходить до 15 % капитала предпри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исследователям и преподавателям-исследователям иметь право также являться членами административного совета предприя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Варианты сотрудничества между научными учреждениями и предприят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1413000"/>
            <a:ext cx="79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 позволя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чреждениям высшего образования и научно-исследовательским учреждениям иметь право создавать производственные инкубато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университетам и исследовательским  учреждениям создавать «службы промышленной и коммерческой деятельност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упрощать создание филиалов и объединений общественной польз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которые объединяют научно-исследовательские учреждения, университеты и предприяти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95640" y="112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ahoma"/>
              </a:rPr>
              <a:t>Фонды Е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349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вропейский социальный фон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вропейский фонд регионального разви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вропейский аграрный фонд (кво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1125360"/>
          <a:ext cx="9144000" cy="5205600"/>
        </p:xfrm>
        <a:graphic>
          <a:graphicData uri="http://schemas.openxmlformats.org/drawingml/2006/table">
            <a:tbl>
              <a:tblPr/>
              <a:tblGrid>
                <a:gridCol w="2209680"/>
                <a:gridCol w="1287720"/>
                <a:gridCol w="56466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млн. эк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REG II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REG I + RE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трансграничного сотруднич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ADER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ельск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GIS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в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более удаленных райо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о равных возможностей для женщин, молодежи, инвали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APT 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APT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аптация рабочей силы к экономическим и технологическим изменениям в промышл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HAR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версия регионов угледобы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84360" y="260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Инициативы 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программы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)</a:t>
            </a: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 Европейского Сообщества (1994-2000гг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277920"/>
          <a:ext cx="8964720" cy="5891040"/>
        </p:xfrm>
        <a:graphic>
          <a:graphicData uri="http://schemas.openxmlformats.org/drawingml/2006/table">
            <a:tbl>
              <a:tblPr/>
              <a:tblGrid>
                <a:gridCol w="2095560"/>
                <a:gridCol w="1222200"/>
                <a:gridCol w="5646960"/>
              </a:tblGrid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HAR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версия районов предприятий сталелитейной промышл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T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версификация районов, зависящих от развития текстильной и швейной промышл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версия регионов, зависящих от оборонной промышл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конкурентоспособности малых и средних предприят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становление кризисных городских райо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S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версификация экономики районов, зависящих от развития рыбной промышл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держка  мирного урегулирования в Северной Ирландии и шести граничащих с ней стр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260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ины создания технопарков и инкубаторов в мировой прак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9640" y="1484280"/>
          <a:ext cx="8229600" cy="4626000"/>
        </p:xfrm>
        <a:graphic>
          <a:graphicData uri="http://schemas.openxmlformats.org/drawingml/2006/table">
            <a:tbl>
              <a:tblPr/>
              <a:tblGrid>
                <a:gridCol w="2592360"/>
                <a:gridCol w="5637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а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чины соз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тельский парк Эванстон при Северо-Западном штате Иллинойс (СШ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конкурентоспособности продукции, производимой в штате; тревога общественности по поводу «утечки мозгов», выезд высококвалифицированных специалистов и ученых в другие штаты; снижение объемов инновационной деятельности и производства, вызвавшее сокращение рабочих мест в штате; сокращение налоговых отчислений городу и штату, огранивающих возможности поддержки и стимулирования науки и 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219640" y="33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ение табл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765000"/>
          <a:ext cx="8229600" cy="575496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60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тельский инкубатор университета, г. Остин, штат Техас (СШ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ческий парк, г. Дортмунд; Инновационный технологический центр, г. Саарбрюкен; Технологический центр, г. Шверт; Технологический центр, г. Аахен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реодоления экономикой штата трудностей, связанных с проведением структурной перестройки; сокращение федеральных средств, выделяемых на проведение исследований, а также возможности штатов в финансовой поддержке вузов (бюджетные ассигнования сократились на 1/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мление к независимости от сталелитейного производства, к экономическому разнообразию (Дортмунд, Шверте, Саарбрюкен), выход из экономической депресс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24360" y="260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ение табл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692280"/>
          <a:ext cx="8229600" cy="5567400"/>
        </p:xfrm>
        <a:graphic>
          <a:graphicData uri="http://schemas.openxmlformats.org/drawingml/2006/table">
            <a:tbl>
              <a:tblPr/>
              <a:tblGrid>
                <a:gridCol w="3827520"/>
                <a:gridCol w="4402080"/>
              </a:tblGrid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ческий центр, г. Ганновер; Технологический центр, г. Мюнхен. Технополисы (Япония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кция на необходимость проводить структурную перестройку с ориентацией на развитие наукоемких отраслей, софтизацию экономики, развитие малых и средних наукоемких фирм, систему технологического трансфера; выход и борьба за лидерство на мировом рынке научно-технической продукции, создание точек роста в условиях стабилизации темпов экономического рос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отношение между рыночной и балансовой стоимостью комп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8360" y="1484280"/>
          <a:ext cx="8229600" cy="496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комп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тношение рыночной стоимости к балансов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aden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on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T Technologie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техн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ые технолог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нет-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одые компании, зарегистрированные на Франкфурской бирж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среднем 14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71640" y="47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ценка интеллектуального капитала предприятия (организ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844640"/>
            <a:ext cx="8209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Основное составляющ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человеческий капитал – способность предлагать нестандартные решения, создавать  и распространять иннов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рпоративные структур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система взаимоотношения с поставщиками и клиентами («потребительский»).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170028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Основная цель стран - членов ЕС 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сформировать экономику Европы к 2010 г. как «конкурентоспособную динамично развивающуюся и основанную на знаниях экономику»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(Лиссабон, 200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6920" y="836640"/>
            <a:ext cx="770436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ое условие достижения цел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дание единого Европейского исследовательского пространства. Для этого намечено повысить долю инвестиций в научный секто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 1,9% до 3% ВВП к 2010 г.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этом 2/3 этих инвестиций предположительно должен обеспечить частный сектор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(Барселона, 2002 г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428760"/>
            <a:ext cx="84247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ые барьеры развития общеевропейского научно-технологического простран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достаточное инвестирование в развитие рынка высокотехнологичной продукции в Е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достаточная поддержка малого и среднего наукоемкого бизнеса, что является необходимым условием развития высокотехнологичного сектора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(Европейская комиссия, 2002 г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981000"/>
            <a:ext cx="7848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комендации Комиссии ЕС новым членам ЕС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корректировать стратегию экономического развития, обеспечив создание экономики, базирующейся на знан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ссия, подписав Соглашение о научно-технической сотрудничестве с ЕС (2003-2006 гг.), должна учитывать сформулированные в ЕС приорите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4360" y="404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Интервалы по сферам деятельности (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max - min</a:t>
            </a: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ahoma"/>
              </a:rPr>
              <a:t>в странах ЕС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268280"/>
          <a:ext cx="8229600" cy="4933800"/>
        </p:xfrm>
        <a:graphic>
          <a:graphicData uri="http://schemas.openxmlformats.org/drawingml/2006/table">
            <a:tbl>
              <a:tblPr/>
              <a:tblGrid>
                <a:gridCol w="2174760"/>
                <a:gridCol w="1432080"/>
                <a:gridCol w="1349280"/>
                <a:gridCol w="1636920"/>
                <a:gridCol w="16365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ва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н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 – 1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лан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ксембу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1 – 1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ксембу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туга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рговля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порт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9 – 1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7 – 1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туга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лан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итель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 – 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льск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зя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 – 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ксембу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7:53:35Z</dcterms:created>
  <dc:creator>Ucheb040605001</dc:creator>
  <dc:description/>
  <dc:language>en-US</dc:language>
  <cp:lastModifiedBy>Cris</cp:lastModifiedBy>
  <dcterms:modified xsi:type="dcterms:W3CDTF">2005-10-03T14:12:17Z</dcterms:modified>
  <cp:revision>100</cp:revision>
  <dc:subject/>
  <dc:title>Людмила Нехорошева,  д.э.н., профессор, зав. кафедрой экономики промышленных предприятий БГЭУ </dc:title>
</cp:coreProperties>
</file>