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095-D41E-44B8-BD58-775780F0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2DE-D0AF-4A16-B7DE-E88845E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D2A-D30C-4C4C-A0F9-859F904F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B74-3A94-48E9-BA59-6A21C484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2B4-305F-44D4-9BF0-D6AFB53F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1E7-2D78-46E4-8207-A07CAE7F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0556-E33D-487B-B072-F2E18DA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4133-B603-4C75-93BE-B29B3DA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E544-D517-4583-AE93-8E2EBE1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3A7F-4912-4119-BB53-4A130F2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D285-92EA-4937-9D86-E893151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DF2-BD83-4E8D-ADF9-9C22C006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83DF-6DEB-47DA-BEF9-FC7811E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3BD1-7D66-4716-B7E6-A3A5F147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AE3-5C32-456D-9E8E-79134DA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70D-9BE4-422A-8042-16057689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CC92-DF27-47DD-A972-1D22ADD3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74D1-7199-474C-823B-D752CBE8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0713-FB16-4588-8920-E67F897F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8865-9E94-41AB-9DDE-BEE7C58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6165-43F0-4728-A144-1913022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EE8D-349A-4B83-A542-82F661E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2CB-F325-400D-952F-D4B9E32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D7D6-2471-45A5-99B4-BFDFA37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418E-7DF3-4038-8EAC-0B057FE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1576-F318-462D-89C1-FA3249F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638F-0423-4661-BCB7-224CFA0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86A2-26F5-4378-80FA-5E5D5EF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2356-C7C4-4098-96F6-627CC85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70D6-6E76-4BC0-A011-8E9436B3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09B2-4911-4D24-AB66-D3023260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E903-A950-4479-8674-BE4EDA56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31EC-9F00-4823-8BDE-0C37992B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FDE-0053-4369-A985-79E5171A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88CD-6050-4F0B-AB98-EEA9EB3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041D-D293-489C-B99A-AC6C257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00E2-2519-4DAD-B2B5-6AC42B8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A267-5405-4C34-8F91-BE95E9E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6C4E-71BF-44D6-9F50-B7E1D03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DFCA-43C4-445A-8940-3BDCAFF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A188-4AE3-4702-BC1B-38460AFA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E3CC-320C-4634-8C63-43730D5F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078E-A67B-4E93-A6A5-D9347DBE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FEE-02E8-46C1-88B7-215D653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CF4-C852-4DA2-A0E6-C5176821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D53-7EFE-4D00-9709-0305904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DDC-FCE9-4BEF-BCDA-123D11F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889-8EE6-4F38-BE3B-A02A040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F4B-E013-403B-BCCE-06C2018867E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F97-F95A-40A4-B0A5-4C92B7B16D3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873-58EE-4133-BD57-7208A6AF27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9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7E28-4327-45A2-A8DA-3794A51552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312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Людмила Нехорошева</a:t>
            </a: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д.э.н., профессор, зав. кафедрой экономики промышленных предприятий БГЭУ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2205000"/>
            <a:ext cx="842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d8ff"/>
                </a:solidFill>
                <a:latin typeface="Tahoma"/>
              </a:rPr>
              <a:t>ИННОВАЦИОННАЯ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9d8ff"/>
                </a:solidFill>
                <a:latin typeface="Tahoma"/>
              </a:rPr>
              <a:t>ПОЛИТИКА КАК ИНСТРУМЕНТ МОДЕРНИЗАЦИИ ПРОМЫШЛЕННОСТИ БЕЛАРУСИ И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3860640"/>
            <a:ext cx="8424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блемы и перспективы активизации инновационной деятельности в развитых стра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ценка инновационной активности предприятий промышленности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оценка инновационной активности предприятий промышленност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ела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11280" y="476280"/>
            <a:ext cx="813744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задачи активизации инновационной деятельности в научно-технической и производственной сферах в Рос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эффективности производства и конкурентоспособности продукции и услу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версификация и совершенствование структуры производства и экспор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вод экономики на инновационный путь развит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ование передовых производственных технолог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16000" y="620640"/>
            <a:ext cx="7201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оля страны в мировом объеме торговли гражданской наукоемкой продукции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ША – 36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пония – 3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рмания – 17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ай – 6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Росс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0,3 – 0,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4000" y="476280"/>
            <a:ext cx="8820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осприимчивость предприятий промышленности Беларуси к инновационным процесса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оля инновационно-активных предприятий в промышленности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Беларуси – 13,9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оссии – 7,7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США – 30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4000" y="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я высокотехнологичного экспорта в общем промышленном экспорте в процентах от общего экспор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1268280"/>
            <a:ext cx="47512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рландия – 4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ША – 3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веция – 26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нляндия – 2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-15 – 2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алия – 9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тугалия – 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ания – 5,2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еция – 4,9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ларусь – 3,1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9640" y="170028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Основная цель стран - членов ЕС 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сформировать экономику Европы к 2010 г. как «конкурентоспособную динамично развивающуюся и основанную на знаниях экономику»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(Лиссабон, 200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26920" y="836640"/>
            <a:ext cx="770436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ое условие достижения цели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оздание единого Европейского исследовательского пространства. Для этого намечено повысить долю инвестиций в научный секто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 1,9% до 3% ВВП к 2010 г.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этом 2/3 этих инвестиций предположительно должен обеспечить частный сектор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(Барселона, 2002 г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95280" y="428760"/>
            <a:ext cx="84247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ые барьеры развития общеевропейского научно-технологического простран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достаточное инвестирование в развитие рынка высокотехнологичной продукции в Е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достаточная поддержка малого и среднего наукоемкого бизнеса, что является необходимым условием развития высокотехнологичного сектора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(Европейская комиссия, 2002 г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9640" y="476280"/>
            <a:ext cx="79200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работан комплекс мероприятий по привлечению инвестиций в экономику ЕС дл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нансирования научных исследов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изации продвижения инноваций на рынках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высокотехнологичного и наукоемкого производ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я эффективности корпоративного управления на основе инновационных процессов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(«План действий»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вропейская комиссия, 2003 г)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11280" y="981000"/>
            <a:ext cx="7848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комендации Комиссии ЕС новым членам ЕС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корректировать стратегию экономического развития, обеспечив создание экономики, базирующейся на знан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ссия, подписав Соглашение о научно-технической сотрудничестве с ЕС (2003-2006 гг.), должна учитывать сформулированные в ЕС приорите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476280"/>
            <a:ext cx="83516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ценка инновационной активности предприятий российской промышленности (по данным Минпромнауки Российской Федерации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-первых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последние годы стало окончательно понятно, что улучшение предпринимательского и инвестиционного климата необходимо, но не достаточно для обеспечения желаемых темпов роста и диверсификации направлений развития российской экономики. Требуется сознательная концентрация ресурсов на направлениях, реализующих ее конкурентные преиму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-вторых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ледствие конъюнктуры мирового рынка, с учетом особенностей запасов естественных ресурсов на территории России, развитие сырьевого сектора не может дать желаемых результатов развития экономики. Поэтому естественный акцент в обсуждениях механизмов и перспектив ускорения роста делается на обрабатывающие отрасли промышленности и на научно-техническую сф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24000" y="333360"/>
            <a:ext cx="8604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конкурентные преимущества российской эконом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сительно высокие образовательный уровень и восприимчивость новых знаний работоспособным населени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ая сеть университетов, академических институтов и других государственных научных организ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учно-технические заделы в ряде областей, определяющих развитие мировой экономики, что позволяет расширять участие в становлении и развитии высокотехнологичных наукоемких отраслей и производ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личие больших запасов разнообразных природных ресур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26920" y="692280"/>
            <a:ext cx="784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Цель инновационной политики Росси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создание системы генерации знаний и стимулирования деловой активности, в рамках которой могут быть выявлены и реализованы проекты и программы создания конкурентоспособных товаров и услуг, основанные на указанных выше конкурентных преимущества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3:39:35Z</dcterms:created>
  <dc:creator>Ucheb040605001</dc:creator>
  <dc:description/>
  <dc:language>en-US</dc:language>
  <cp:lastModifiedBy>Cris</cp:lastModifiedBy>
  <dcterms:modified xsi:type="dcterms:W3CDTF">2005-10-03T14:12:48Z</dcterms:modified>
  <cp:revision>42</cp:revision>
  <dc:subject/>
  <dc:title>Людмила Нехорошева,  д.э.н., профессор, зав. кафедрой экономики промышленных предприятий БГЭУ </dc:title>
</cp:coreProperties>
</file>