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3333-40BF-4118-BA0D-B57E16480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365F-CD19-402A-97FC-746F25C1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101E-5ABE-4C77-A650-FBB918BD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947C-A3B0-454F-9B10-09642A8B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BCB6-8002-41C6-BB59-6C228206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1BD1-5320-4E24-A211-A648389B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8069-A315-4CA2-ABC2-C2E86920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9032-A3CD-4651-B13A-371E650C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371E-2B7D-4EA8-8232-0623CBD5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39B6-83EB-4EA3-916C-CF47BB39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CC26-8354-40BB-BECE-6DA46CB1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4BE6-1631-4569-9F5C-0A47E402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7985-EBE3-48C2-9E2B-953698B0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FDF1-65CD-4768-91E4-D6BA124C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EF05-F6B6-4F14-B906-94950D2F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8932-03AE-467E-BD51-505034C7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AFCC-2142-4021-87CC-BB62E7830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DBC2-F101-43CC-AEED-3E87A316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CDC8-EBAA-4285-8A13-D9E6BB3E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7254-5F08-4AEA-82B0-9B53CD10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73EA-64DB-4E6B-99CB-B2DE138E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A262-351F-4A89-8B9A-B068985C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C25A-3D32-4246-A3DA-AD8585CE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C6BF-0421-4EC8-9A3D-91B4F46B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538B-5DAE-4F5E-8C40-CA2D55391EB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BA60-DF29-49C0-B67E-6D38F234D12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Директор департаменту науково-технічного, інноваційного забезпечення Міністерства промислової політики України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71640" y="3284280"/>
            <a:ext cx="74880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00"/>
                </a:solidFill>
                <a:latin typeface="Times New Roman"/>
              </a:rPr>
              <a:t>Ноговіцин Олексій Володимирови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Перераховано платежів до бюджету </a:t>
            </a:r>
            <a:br>
              <a:rPr sz="3200"/>
            </a:b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та до державних цільових фондів технологічними паркам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0760" y="1852560"/>
            <a:ext cx="855036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cc00"/>
                </a:solidFill>
                <a:latin typeface="Times New Roman"/>
              </a:rPr>
              <a:t>Державне фінансування Світовий досвід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55640" y="242100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24210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c00"/>
                </a:solidFill>
                <a:latin typeface="Times New Roman"/>
              </a:rPr>
              <a:t>Державна інноваційна політ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90756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Arial"/>
              </a:rPr>
              <a:t>Створення національної інноваційної системи, для чого здійснит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- удосконалити</a:t>
            </a:r>
            <a:r>
              <a:rPr b="0" lang="uk-UA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систему органів управління інноваційним розвит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- сформувати мережу організаційно-економічних структу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- створити ефективний механізм визначення і реалізації пріоритетних напрямі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- розширити базу фінансового забезпечення та стимулюван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- забезпечити охорону прав ІВ шляхом комерціалізації та трансферу технологі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- удосконалити законодавчу та нормативно-правову баз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cc00"/>
                </a:solidFill>
                <a:latin typeface="Times New Roman"/>
              </a:rPr>
              <a:t>Управління інноваційним розвитком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Arial"/>
              </a:rPr>
              <a:t>Визначити функції, відповідальність та повноваження органів управлін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Arial"/>
              </a:rPr>
              <a:t>Удосконалити системи дорадчих орган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Arial"/>
              </a:rPr>
              <a:t>Регулярна звітність керівників перед К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uk-UA" sz="4800" spc="-1" strike="noStrike">
                <a:solidFill>
                  <a:srgbClr val="ffcc00"/>
                </a:solidFill>
                <a:latin typeface="Times New Roman"/>
              </a:rPr>
              <a:t>Фінансове забезпечення інноваційного розвитку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запровадити Держзамовлення на інноваційну продукцію </a:t>
            </a:r>
            <a:r>
              <a:rPr b="0" lang="uk-UA" sz="2000" spc="-1" strike="noStrike">
                <a:solidFill>
                  <a:srgbClr val="ffff00"/>
                </a:solidFill>
                <a:latin typeface="Times New Roman"/>
              </a:rPr>
              <a:t>за схемою </a:t>
            </a: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“прикладні розробки – інновації – ринок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запровадити в Держбюджеті “Бюджет інноваційного розвитку” (1% від загального) дл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"/>
              </a:rPr>
              <a:t>фінансування Держзамовлення на інноваційну продукці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"/>
              </a:rPr>
              <a:t>фінансова підтримка інфраструкту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створити “Державний фонд промислових інновацій” (1% від доданої вартості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кредитування проектів УДІ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створити “Державний венчурний фонд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забезпечити державні гарантії кредитування проект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запровадити форми заохочення банків та інвестор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на 2 роки продовжити пільговий режим інноваційної діяльності технопарк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496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Times New Roman"/>
              </a:rPr>
              <a:t>Розширення інноваційної інфраструктури на всіх рівнях за рахунок: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Times New Roman"/>
              </a:rPr>
              <a:t>- створення технопарків, технополісів, бізнес-інкубаторів, інноваційних бірж, лізингових та сертифікаційних фір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Times New Roman"/>
              </a:rPr>
              <a:t>- створення інноваційних центрів при технічних учбових закладах, академічних та галузевих інститут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Times New Roman"/>
              </a:rPr>
              <a:t>- створення регіональної інноваційної               інфраструктури – кластері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Times New Roman"/>
              </a:rPr>
              <a:t>створення технологічних парків за регіональним принцип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Times New Roman"/>
              </a:rPr>
              <a:t>створення маркетингових компаній, інноваційно-інформаційних центрі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Times New Roman"/>
              </a:rPr>
              <a:t>організація виставок і ярмарків інноваційної продукці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Times New Roman"/>
              </a:rPr>
              <a:t>організація конкурсів інноваці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107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c00"/>
                </a:solidFill>
                <a:latin typeface="Times New Roman"/>
              </a:rPr>
              <a:t>Комерціалізація ОІВ та трансфер технологі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5406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Шляхи комерціалізації ОІ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придбання ліцензій та “ноу-хау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спирання на науково-технічний потенціал </a:t>
            </a: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Украї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Трансфер технологі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виявлення об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єктів трансфер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визначення ринкової вартості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експертиза та сертифікаці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пряма або заставна закупівл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визначення умов реалізації результату </a:t>
            </a: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науково-технічної діяльност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Times New Roman"/>
              </a:rPr>
              <a:t>Удосконалення законодавчої бази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424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00"/>
                </a:solidFill>
                <a:latin typeface="Times New Roman"/>
              </a:rPr>
              <a:t>Внести зміни до Законів України</a:t>
            </a:r>
            <a:r>
              <a:rPr b="0" i="1" lang="uk-UA" sz="1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Про інноваційну діяльність”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Про спеціальний режим інвестиційної та </a:t>
            </a: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інноваційної діяльності технологічних </a:t>
            </a: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парків 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00"/>
                </a:solidFill>
                <a:latin typeface="Times New Roman"/>
              </a:rPr>
              <a:t>Ухвалити нові Закони України</a:t>
            </a:r>
            <a:r>
              <a:rPr b="0" i="1" lang="uk-UA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Про державне регулювання у сфері трансферу технологій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Про господарський обіг результатів </a:t>
            </a: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науково-технічної діяльності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Про державний реєстр накуково-технічної продукції, створеної за рахунок коштів </a:t>
            </a: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Державного </a:t>
            </a: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бюджету України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Про надання цільових субсидій” (автор І.Юхновськ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2492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Дякую за увагу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2133720"/>
            <a:ext cx="8510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cc00"/>
                </a:solidFill>
                <a:latin typeface="Times New Roman"/>
              </a:rPr>
              <a:t>Концепція розвитку інноваційнойної діяльності в Україні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Times New Roman"/>
              </a:rPr>
              <a:t>Законодавче пол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00"/>
                </a:solidFill>
                <a:latin typeface="Times New Roman"/>
              </a:rPr>
              <a:t>Закони Украї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Про інноваційну діяльність”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Про пріоритетні напрями інноваційної діяльності в Україні 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Про спеціальний режим інвестиційної та інноваційної діяльності технологічних парків 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Про наукову та науково-технічну діяльність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Показники інноваційної активності по Україні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9280" y="1341360"/>
          <a:ext cx="5905440" cy="525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341360"/>
                    <a:ext cx="59054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96000" y="1676160"/>
            <a:ext cx="30463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</a:rPr>
              <a:t>Вироблено інноваційної продукції за 1 півріччя 2005 р. на суму 10, 77 млрд. грн.(в 2004р. на суму 18,0 млрд. грн.; в 2003р. – 11,2 млрд. грн.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0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Кількість технопарків в зарубіжних країнах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Arial"/>
              </a:rPr>
              <a:t>1. Індія</a:t>
            </a:r>
            <a:r>
              <a:rPr b="0" lang="uk-UA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00"/>
                </a:solidFill>
                <a:latin typeface="Arial"/>
              </a:rPr>
              <a:t>3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Arial"/>
              </a:rPr>
              <a:t>2. Китай</a:t>
            </a:r>
            <a:r>
              <a:rPr b="0" lang="uk-UA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00"/>
                </a:solidFill>
                <a:latin typeface="Arial"/>
              </a:rPr>
              <a:t>5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Arial"/>
              </a:rPr>
              <a:t>3. Росія</a:t>
            </a:r>
            <a:r>
              <a:rPr b="0" lang="uk-UA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00"/>
                </a:solidFill>
                <a:latin typeface="Arial"/>
              </a:rPr>
              <a:t>7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Arial"/>
              </a:rPr>
              <a:t>4. США</a:t>
            </a:r>
            <a:r>
              <a:rPr b="0" lang="uk-UA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00"/>
                </a:solidFill>
                <a:latin typeface="Arial"/>
              </a:rPr>
              <a:t>більше   1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00"/>
                </a:solidFill>
                <a:latin typeface="Times New Roman"/>
              </a:rPr>
              <a:t>Інноваційна активність  за галузями промисловості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63640" y="1766880"/>
            <a:ext cx="3529080" cy="32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1. Машинобудуван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2. Хімічна та нафтохімічна промислові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3. Металургія та оброблення метал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79280" y="1773360"/>
          <a:ext cx="5222880" cy="508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773360"/>
                    <a:ext cx="522288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1484280"/>
          <a:ext cx="8713800" cy="51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84280"/>
                    <a:ext cx="87138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228600"/>
            <a:ext cx="86407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Times New Roman"/>
              </a:rPr>
              <a:t>Загальний обсяг реалізованої інноваційної продукції технологічними парками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7854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00"/>
                </a:solidFill>
                <a:latin typeface="Times New Roman"/>
              </a:rPr>
              <a:t>Загальний обсяг реалізованої інноваційної продукції технологічними паркам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01680" y="1844640"/>
            <a:ext cx="854064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Перераховано платежів до бюджету </a:t>
            </a:r>
            <a:br>
              <a:rPr sz="3200"/>
            </a:b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та до державних цільових фондів технологічними паркам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24000" y="1698480"/>
          <a:ext cx="8150040" cy="510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698480"/>
                    <a:ext cx="8150040" cy="51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5:22:00Z</dcterms:created>
  <dc:creator>1</dc:creator>
  <dc:description/>
  <dc:language>en-US</dc:language>
  <cp:lastModifiedBy>Cris</cp:lastModifiedBy>
  <dcterms:modified xsi:type="dcterms:W3CDTF">2005-10-03T14:13:40Z</dcterms:modified>
  <cp:revision>110</cp:revision>
  <dc:subject/>
  <dc:title>Слайд 1</dc:title>
</cp:coreProperties>
</file>