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EC6-22BD-49BB-B6C5-54503742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77D-2C00-4C84-9BCC-B689EDA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FD8-FEF4-42D3-8196-BB366D44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3B1-3019-402C-9A2B-5898E737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168-AF75-4342-A300-614BC98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45B-B82E-4285-A4BD-5A72574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42B-04C8-4296-BEF7-7597E77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135-D28B-4311-B07E-E440026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97A-4A1C-4B4A-806D-C9009F28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41D-02B8-4220-9FF5-CC8C0E6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A2E-E95B-4F49-9CAD-86CBEB1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B80-645D-4EDE-B941-D6B3897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C16-79CD-40DE-974C-68C50FFF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5800" y="981000"/>
            <a:ext cx="838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ФУНДАМЕНТАЛЬНАЯ НАУКА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 ИННОВАЦИОННОЙ ТРАНСФОРМАЦИИ ЭКОНОМ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96520" y="292392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ноприенко Валентин Ив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ктор философских наук, профессо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тр исследований научно-технического потенциала и истории нау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. Г.М. Доброва НАН Укра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6160" y="-360"/>
            <a:ext cx="8420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Основные тези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808200" y="620640"/>
            <a:ext cx="1071432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 различных сценариях инновационного развития экономики видное место отводится НАН Укра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изис существенно сократил и деформировал инновационные возможности академических уч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нновационный потенциал НАН Украины сформировался в рамках внедренческой стратегии советской на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нновационная стратегия иная, во многом противоположная внедренчес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на направлена не от науки к производству, а от компаний и фирм к на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ирмы и компании не будут содержать громоздкие академические институту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альная возможность реализовать инновационные возможности академических институтов - это обраст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х поясом малых инновационных предприят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лый инновационный бизнес должен стать локомотивом инновационного преобразования эконо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ечественные инновации не смогут покрыть всё поле преобразуемой эконо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 условиях заимствования зарубежных инноваций фундаментальная наука должна выполнять важную функц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х экспертизы и селекции для адаптации их на национальной поч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2880" y="-3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Times New Roman"/>
              </a:rPr>
              <a:t>Программа инновационной трансформации Академии наук (по аналогии с программой Китайской академии наук) предполагает:</a:t>
            </a:r>
            <a:r>
              <a:rPr b="1" lang="uk-UA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143000" y="1196640"/>
            <a:ext cx="11049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ущественно повысить результативность фундаментальных исследований в стратегических областях нау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увеличить численность исследователей в мультидисциплинарных областях, а также на стыке отдельных направлений нау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оздать совместные лаборатории с университет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рганизовать долгосрочную кооперацию с ведущими зарубежными университетам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исследовательскими институтами и компания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реобразовать 15-20 академических институтов в организации, нацеленные на получение прибыл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рганизовать инкубаторы в области высоких технологий совместно с местными органами вла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развить венчурную деятельность путем создания управляемых Академией наук венчурных фонд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 algn="just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реализовать акции компаний Академии наук на фондовых рынках внутри страны и за ее пределами для привлечения капитала с целью развития высокотехнологичных предприятий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05:40:55Z</dcterms:created>
  <dc:creator>1</dc:creator>
  <dc:description/>
  <dc:language>en-US</dc:language>
  <cp:lastModifiedBy>Cris</cp:lastModifiedBy>
  <dcterms:modified xsi:type="dcterms:W3CDTF">2005-10-03T14:14:20Z</dcterms:modified>
  <cp:revision>10</cp:revision>
  <dc:subject/>
  <dc:title>ФУНДАМЕНТАЛЬНАЯ НАУКА В ИННОВАЦИОННОЙ ТРАНСФОРМАЦИИ ЭКОНОМИКИ </dc:title>
</cp:coreProperties>
</file>