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CF89A-DA9E-48D4-B5BF-F779A6D829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96FF9-9D75-45CA-913E-C2D12D50BE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A7F32-3CAD-44C8-A65D-F2D9EE3847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65D15-6F7E-4F7C-9A5B-0A7A95D2AF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425F5-255C-4D4C-BCE2-E98F9D8510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F5E44-5A24-4B45-9003-1FF0E92EB0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85DFF-200A-4EB0-AF19-58A6551A2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63BB9-87F9-4CCF-9CEE-1286094C4F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C4B4F-CFB5-4A68-9AB6-651B54D8FA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F736F-6910-4CE4-8174-4EFB19D8F3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FBBCA-316E-482E-971E-7D0761FBB2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FD717-6466-4E86-9280-279A993126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467560" y="125280"/>
            <a:ext cx="508320" cy="507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72200" y="655272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00"/>
                </a:solidFill>
                <a:latin typeface="Arial"/>
              </a:rPr>
              <a:t>© НМетАУ, каф. ОТИ, С.В. Антоненко,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381520" y="1522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68F8-9420-4E60-BB29-D50BE2129DB4}" type="slidenum">
              <a:rPr b="0" lang="en-US" sz="2400" spc="-1" strike="noStrike">
                <a:solidFill>
                  <a:srgbClr val="0000ff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8827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игоров Г.С., Иващенко В.П., Антоненко С.В., Метлицкий Ю.В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33520" y="2666880"/>
            <a:ext cx="8076960" cy="2230560"/>
            <a:chOff x="533520" y="2666880"/>
            <a:chExt cx="8076960" cy="2230560"/>
          </a:xfrm>
        </p:grpSpPr>
        <p:sp>
          <p:nvSpPr>
            <p:cNvPr id="43" name=""/>
            <p:cNvSpPr txBox="1"/>
            <p:nvPr/>
          </p:nvSpPr>
          <p:spPr>
            <a:xfrm>
              <a:off x="533520" y="2666880"/>
              <a:ext cx="8076960" cy="858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12600">
                    <a:solidFill>
                      <a:srgbClr val="00008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ИНТЕЛЛЕКТУАЛЬНАЯ ТЕХНОЛОГИЯ СОЗИДАНИЯ</a:t>
              </a:r>
              <a:endParaRPr b="1" lang="en-US" sz="20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4" name=""/>
            <p:cNvSpPr txBox="1"/>
            <p:nvPr/>
          </p:nvSpPr>
          <p:spPr>
            <a:xfrm>
              <a:off x="609480" y="4038480"/>
              <a:ext cx="7848720" cy="858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12600">
                    <a:solidFill>
                      <a:srgbClr val="00008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и программа мобилизации интеллектуальных</a:t>
              </a:r>
              <a:endParaRPr b="1" lang="en-US" sz="20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12600">
                    <a:solidFill>
                      <a:srgbClr val="00008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резервов инновационного развития</a:t>
              </a:r>
              <a:endParaRPr b="1" lang="en-US" sz="20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E4F4B-0FB4-4CB0-9C3B-23DE9006B816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Программы мобилизации интеллектуальных резервов инновационного развития на основе ИТС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09480" y="2209680"/>
            <a:ext cx="7925040" cy="35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Arial"/>
              </a:rPr>
              <a:t>№ </a:t>
            </a:r>
            <a:r>
              <a:rPr b="0" lang="ru-RU" sz="2800" spc="-1" strike="noStrike">
                <a:solidFill>
                  <a:srgbClr val="66ff33"/>
                </a:solidFill>
                <a:latin typeface="Arial"/>
              </a:rPr>
              <a:t>1 – «Подготовка инноваторов»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Arial"/>
              </a:rPr>
              <a:t>№ </a:t>
            </a:r>
            <a:r>
              <a:rPr b="0" lang="ru-RU" sz="2800" spc="-1" strike="noStrike">
                <a:solidFill>
                  <a:srgbClr val="66ff33"/>
                </a:solidFill>
                <a:latin typeface="Arial"/>
              </a:rPr>
              <a:t>2 – «Молодая элита»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Arial"/>
              </a:rPr>
              <a:t>№ </a:t>
            </a:r>
            <a:r>
              <a:rPr b="0" lang="ru-RU" sz="2800" spc="-1" strike="noStrike">
                <a:solidFill>
                  <a:srgbClr val="66ff33"/>
                </a:solidFill>
                <a:latin typeface="Arial"/>
              </a:rPr>
              <a:t>3 – «Наука – инновациям и мобилизации интеллектуальных резервов»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Arial"/>
              </a:rPr>
              <a:t>№ </a:t>
            </a:r>
            <a:r>
              <a:rPr b="0" lang="ru-RU" sz="2800" spc="-1" strike="noStrike">
                <a:solidFill>
                  <a:srgbClr val="66ff33"/>
                </a:solidFill>
                <a:latin typeface="Arial"/>
              </a:rPr>
              <a:t>4 – «ИТС – для разработчиков НИИ и КБ»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Arial"/>
              </a:rPr>
              <a:t>№ </a:t>
            </a:r>
            <a:r>
              <a:rPr b="0" lang="ru-RU" sz="2800" spc="-1" strike="noStrike">
                <a:solidFill>
                  <a:srgbClr val="66ff33"/>
                </a:solidFill>
                <a:latin typeface="Arial"/>
              </a:rPr>
              <a:t>5 – «Инновационная культура»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Arial"/>
              </a:rPr>
              <a:t>№ </a:t>
            </a:r>
            <a:r>
              <a:rPr b="0" lang="ru-RU" sz="2800" spc="-1" strike="noStrike">
                <a:solidFill>
                  <a:srgbClr val="66ff33"/>
                </a:solidFill>
                <a:latin typeface="Arial"/>
              </a:rPr>
              <a:t>6 – «Посредники активизации инноваций»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5590F-C677-4CEF-9738-F97831499657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"/>
          <p:cNvGrpSpPr/>
          <p:nvPr/>
        </p:nvGrpSpPr>
        <p:grpSpPr>
          <a:xfrm>
            <a:off x="2209680" y="1523880"/>
            <a:ext cx="4648320" cy="4038840"/>
            <a:chOff x="2209680" y="1523880"/>
            <a:chExt cx="4648320" cy="4038840"/>
          </a:xfrm>
        </p:grpSpPr>
        <p:grpSp>
          <p:nvGrpSpPr>
            <p:cNvPr id="374" name=""/>
            <p:cNvGrpSpPr/>
            <p:nvPr/>
          </p:nvGrpSpPr>
          <p:grpSpPr>
            <a:xfrm>
              <a:off x="2209680" y="2282760"/>
              <a:ext cx="4648320" cy="3279600"/>
              <a:chOff x="2209680" y="2282760"/>
              <a:chExt cx="4648320" cy="3279600"/>
            </a:xfrm>
          </p:grpSpPr>
          <p:sp>
            <p:nvSpPr>
              <p:cNvPr id="375" name=""/>
              <p:cNvSpPr/>
              <p:nvPr/>
            </p:nvSpPr>
            <p:spPr>
              <a:xfrm flipV="1">
                <a:off x="2855880" y="3376440"/>
                <a:ext cx="3355920" cy="1092240"/>
              </a:xfrm>
              <a:custGeom>
                <a:avLst/>
                <a:gdLst>
                  <a:gd name="textAreaLeft" fmla="*/ 627840 w 3355920"/>
                  <a:gd name="textAreaRight" fmla="*/ 2728080 w 3355920"/>
                  <a:gd name="textAreaTop" fmla="*/ 204480 h 1092240"/>
                  <a:gd name="textAreaBottom" fmla="*/ 887760 h 10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473" y="21600"/>
                    </a:lnTo>
                    <a:lnTo>
                      <a:pt x="4127" y="2160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3500280" y="2282760"/>
                <a:ext cx="2067120" cy="1093680"/>
              </a:xfrm>
              <a:custGeom>
                <a:avLst/>
                <a:gdLst>
                  <a:gd name="textAreaLeft" fmla="*/ 521640 w 2067120"/>
                  <a:gd name="textAreaRight" fmla="*/ 1545480 w 2067120"/>
                  <a:gd name="textAreaTop" fmla="*/ 276120 h 1093680"/>
                  <a:gd name="textAreaBottom" fmla="*/ 817560 h 109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935" y="21600"/>
                    </a:lnTo>
                    <a:lnTo>
                      <a:pt x="6665" y="2160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2209680" y="4467960"/>
                <a:ext cx="4648320" cy="1094040"/>
              </a:xfrm>
              <a:custGeom>
                <a:avLst/>
                <a:gdLst>
                  <a:gd name="textAreaLeft" fmla="*/ 742680 w 4648320"/>
                  <a:gd name="textAreaRight" fmla="*/ 3905640 w 4648320"/>
                  <a:gd name="textAreaTop" fmla="*/ 174600 h 1094040"/>
                  <a:gd name="textAreaBottom" fmla="*/ 919440 h 1094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38" y="21600"/>
                    </a:lnTo>
                    <a:lnTo>
                      <a:pt x="3062" y="2160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4495680" y="1523880"/>
              <a:ext cx="2362320" cy="4038840"/>
            </a:xfrm>
            <a:prstGeom prst="rtTriangl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2244600" y="1599840"/>
              <a:ext cx="2286000" cy="396252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flipV="1">
              <a:off x="4495680" y="1599840"/>
              <a:ext cx="2362320" cy="396252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914400" y="5715000"/>
            <a:ext cx="7620120" cy="533520"/>
            <a:chOff x="914400" y="5715000"/>
            <a:chExt cx="7620120" cy="533520"/>
          </a:xfrm>
        </p:grpSpPr>
        <p:grpSp>
          <p:nvGrpSpPr>
            <p:cNvPr id="382" name=""/>
            <p:cNvGrpSpPr/>
            <p:nvPr/>
          </p:nvGrpSpPr>
          <p:grpSpPr>
            <a:xfrm>
              <a:off x="914400" y="5715000"/>
              <a:ext cx="533520" cy="533520"/>
              <a:chOff x="914400" y="5715000"/>
              <a:chExt cx="533520" cy="533520"/>
            </a:xfrm>
          </p:grpSpPr>
          <p:sp>
            <p:nvSpPr>
              <p:cNvPr id="383" name=""/>
              <p:cNvSpPr/>
              <p:nvPr/>
            </p:nvSpPr>
            <p:spPr>
              <a:xfrm>
                <a:off x="914400" y="579132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00"/>
                    </a:solidFill>
                    <a:latin typeface="Arial"/>
                  </a:rPr>
                  <a:t>№</a:t>
                </a:r>
                <a:endParaRPr b="0" lang="en-US" sz="2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914400" y="5715000"/>
                <a:ext cx="533520" cy="533520"/>
              </a:xfrm>
              <a:prstGeom prst="ellipse">
                <a:avLst/>
              </a:prstGeom>
              <a:noFill/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1676520" y="5791320"/>
              <a:ext cx="685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- номера программ, образующих конус роста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609480" y="1522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Конус роста стратегии и программ инновационных прорывов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4100400" y="2438280"/>
            <a:ext cx="876240" cy="858960"/>
            <a:chOff x="4100400" y="2438280"/>
            <a:chExt cx="876240" cy="858960"/>
          </a:xfrm>
        </p:grpSpPr>
        <p:sp>
          <p:nvSpPr>
            <p:cNvPr id="388" name=""/>
            <p:cNvSpPr/>
            <p:nvPr/>
          </p:nvSpPr>
          <p:spPr>
            <a:xfrm>
              <a:off x="4100400" y="2438280"/>
              <a:ext cx="876240" cy="858960"/>
            </a:xfrm>
            <a:prstGeom prst="ellipse">
              <a:avLst/>
            </a:prstGeom>
            <a:solidFill>
              <a:srgbClr val="0000ff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100400" y="2504880"/>
              <a:ext cx="876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5448240" y="4551480"/>
            <a:ext cx="876240" cy="858600"/>
            <a:chOff x="5448240" y="4551480"/>
            <a:chExt cx="876240" cy="858600"/>
          </a:xfrm>
        </p:grpSpPr>
        <p:sp>
          <p:nvSpPr>
            <p:cNvPr id="391" name=""/>
            <p:cNvSpPr/>
            <p:nvPr/>
          </p:nvSpPr>
          <p:spPr>
            <a:xfrm>
              <a:off x="5448240" y="4551480"/>
              <a:ext cx="876240" cy="858600"/>
            </a:xfrm>
            <a:prstGeom prst="ellipse">
              <a:avLst/>
            </a:prstGeom>
            <a:solidFill>
              <a:srgbClr val="0000ff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448240" y="4618080"/>
              <a:ext cx="876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2819520" y="4551480"/>
            <a:ext cx="876240" cy="858600"/>
            <a:chOff x="2819520" y="4551480"/>
            <a:chExt cx="876240" cy="858600"/>
          </a:xfrm>
        </p:grpSpPr>
        <p:sp>
          <p:nvSpPr>
            <p:cNvPr id="394" name=""/>
            <p:cNvSpPr/>
            <p:nvPr/>
          </p:nvSpPr>
          <p:spPr>
            <a:xfrm>
              <a:off x="2819520" y="4551480"/>
              <a:ext cx="876240" cy="858600"/>
            </a:xfrm>
            <a:prstGeom prst="ellipse">
              <a:avLst/>
            </a:prstGeom>
            <a:solidFill>
              <a:srgbClr val="0000ff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819520" y="4618080"/>
              <a:ext cx="876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842000" y="3495600"/>
            <a:ext cx="876240" cy="857160"/>
            <a:chOff x="4842000" y="3495600"/>
            <a:chExt cx="876240" cy="857160"/>
          </a:xfrm>
        </p:grpSpPr>
        <p:sp>
          <p:nvSpPr>
            <p:cNvPr id="397" name=""/>
            <p:cNvSpPr/>
            <p:nvPr/>
          </p:nvSpPr>
          <p:spPr>
            <a:xfrm>
              <a:off x="4842000" y="3495600"/>
              <a:ext cx="876240" cy="857160"/>
            </a:xfrm>
            <a:prstGeom prst="ellipse">
              <a:avLst/>
            </a:prstGeom>
            <a:solidFill>
              <a:srgbClr val="0000ff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42000" y="3562200"/>
              <a:ext cx="876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3425760" y="3495600"/>
            <a:ext cx="876240" cy="857160"/>
            <a:chOff x="3425760" y="3495600"/>
            <a:chExt cx="876240" cy="857160"/>
          </a:xfrm>
        </p:grpSpPr>
        <p:sp>
          <p:nvSpPr>
            <p:cNvPr id="400" name=""/>
            <p:cNvSpPr/>
            <p:nvPr/>
          </p:nvSpPr>
          <p:spPr>
            <a:xfrm>
              <a:off x="3425760" y="3495600"/>
              <a:ext cx="876240" cy="857160"/>
            </a:xfrm>
            <a:prstGeom prst="ellipse">
              <a:avLst/>
            </a:prstGeom>
            <a:solidFill>
              <a:srgbClr val="0000ff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425760" y="3562200"/>
              <a:ext cx="876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4495680" y="4952880"/>
            <a:ext cx="990720" cy="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3657600" y="4952880"/>
            <a:ext cx="838080" cy="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4453560" y="4284000"/>
            <a:ext cx="635040" cy="66132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flipV="1">
            <a:off x="4038480" y="4343040"/>
            <a:ext cx="457200" cy="60948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4100400" y="4551480"/>
            <a:ext cx="876240" cy="858600"/>
            <a:chOff x="4100400" y="4551480"/>
            <a:chExt cx="876240" cy="858600"/>
          </a:xfrm>
        </p:grpSpPr>
        <p:sp>
          <p:nvSpPr>
            <p:cNvPr id="407" name=""/>
            <p:cNvSpPr/>
            <p:nvPr/>
          </p:nvSpPr>
          <p:spPr>
            <a:xfrm>
              <a:off x="4100400" y="4551480"/>
              <a:ext cx="876240" cy="858600"/>
            </a:xfrm>
            <a:prstGeom prst="ellipse">
              <a:avLst/>
            </a:prstGeom>
            <a:solidFill>
              <a:srgbClr val="0000ff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00400" y="4618080"/>
              <a:ext cx="876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4495680" y="3276720"/>
            <a:ext cx="0" cy="1295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4495680" y="1600200"/>
            <a:ext cx="0" cy="838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D7197-4311-46AC-80F8-73678F416A94}" type="slidenum">
              <a:t>11</a:t>
            </a:fld>
          </a:p>
        </p:txBody>
      </p:sp>
    </p:spTree>
  </p:cSld>
  <p:transition>
    <p:fade thruBlk="true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500"/>
                            </p:stCondLst>
                            <p:childTnLst>
                              <p:par>
                                <p:cTn id="37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500"/>
                            </p:stCondLst>
                            <p:childTnLst>
                              <p:par>
                                <p:cTn id="38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500"/>
                            </p:stCondLst>
                            <p:childTnLst>
                              <p:par>
                                <p:cTn id="39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6000"/>
                            </p:stCondLst>
                            <p:childTnLst>
                              <p:par>
                                <p:cTn id="4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6500"/>
                            </p:stCondLst>
                            <p:childTnLst>
                              <p:par>
                                <p:cTn id="40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7000"/>
                            </p:stCondLst>
                            <p:childTnLst>
                              <p:par>
                                <p:cTn id="4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7500"/>
                            </p:stCondLst>
                            <p:childTnLst>
                              <p:par>
                                <p:cTn id="41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8000"/>
                            </p:stCondLst>
                            <p:childTnLst>
                              <p:par>
                                <p:cTn id="42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Программа </a:t>
            </a:r>
            <a:r>
              <a:rPr b="0" lang="ru-RU" sz="3200" spc="-1" strike="noStrike" u="sng">
                <a:solidFill>
                  <a:srgbClr val="66ff33"/>
                </a:solidFill>
                <a:uFillTx/>
                <a:latin typeface="Arial"/>
              </a:rPr>
              <a:t>№ 1 – «Подготовка инноваторов»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04920" y="2666880"/>
            <a:ext cx="8534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введение новой специальности «Инноватика» </a:t>
            </a:r>
            <a:r>
              <a:rPr b="0" lang="ru-RU" sz="2200" spc="-1" strike="noStrike">
                <a:solidFill>
                  <a:srgbClr val="66ff33"/>
                </a:solidFill>
                <a:latin typeface="Arial"/>
              </a:rPr>
              <a:t>и смежных (например, «Системная аналитика и прогнозирование»);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усиление блока инновационно-творческих дисциплин</a:t>
            </a:r>
            <a:r>
              <a:rPr b="0" lang="ru-RU" sz="2200" spc="-1" strike="noStrike">
                <a:solidFill>
                  <a:srgbClr val="66ff33"/>
                </a:solidFill>
                <a:latin typeface="Arial"/>
              </a:rPr>
              <a:t> в учебных планах инновационных специальностей;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создание кафедр инноватики</a:t>
            </a:r>
            <a:r>
              <a:rPr b="0" lang="ru-RU" sz="2200" spc="-1" strike="noStrike">
                <a:solidFill>
                  <a:srgbClr val="66ff33"/>
                </a:solidFill>
                <a:latin typeface="Arial"/>
              </a:rPr>
              <a:t> в вузах;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введение</a:t>
            </a:r>
            <a:r>
              <a:rPr b="0" lang="ru-RU" sz="2200" spc="-1" strike="noStrike">
                <a:solidFill>
                  <a:srgbClr val="66ff33"/>
                </a:solidFill>
                <a:latin typeface="Arial"/>
              </a:rPr>
              <a:t> ВАК Украины </a:t>
            </a: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специальности «инноватика»</a:t>
            </a:r>
            <a:r>
              <a:rPr b="0" lang="ru-RU" sz="2200" spc="-1" strike="noStrike">
                <a:solidFill>
                  <a:srgbClr val="66ff33"/>
                </a:solidFill>
                <a:latin typeface="Arial"/>
              </a:rPr>
              <a:t> (технические науки);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обучение преподавателей вузов</a:t>
            </a:r>
            <a:r>
              <a:rPr b="0" lang="ru-RU" sz="2200" spc="-1" strike="noStrike">
                <a:solidFill>
                  <a:srgbClr val="66ff33"/>
                </a:solidFill>
                <a:latin typeface="Arial"/>
              </a:rPr>
              <a:t> для подготовки их к чтению инновационно-творческих дисциплин;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подготовка и издание серии учебников</a:t>
            </a:r>
            <a:r>
              <a:rPr b="0" lang="ru-RU" sz="2200" spc="-1" strike="noStrike">
                <a:solidFill>
                  <a:srgbClr val="66ff33"/>
                </a:solidFill>
                <a:latin typeface="Arial"/>
              </a:rPr>
              <a:t> и методрекомендаций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09480" y="1539720"/>
            <a:ext cx="792504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Цель программы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– ускоренное создание системы кадрового обеспечения инновационного развития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7EDF5-E49D-4CCD-AF52-151D15B6425F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"/>
          <p:cNvGrpSpPr/>
          <p:nvPr/>
        </p:nvGrpSpPr>
        <p:grpSpPr>
          <a:xfrm>
            <a:off x="685800" y="4500720"/>
            <a:ext cx="8305920" cy="628920"/>
            <a:chOff x="685800" y="4500720"/>
            <a:chExt cx="8305920" cy="628920"/>
          </a:xfrm>
        </p:grpSpPr>
        <p:sp>
          <p:nvSpPr>
            <p:cNvPr id="415" name=""/>
            <p:cNvSpPr/>
            <p:nvPr/>
          </p:nvSpPr>
          <p:spPr>
            <a:xfrm>
              <a:off x="685800" y="4500720"/>
              <a:ext cx="4114800" cy="62892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Основы знаний об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бъектах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 творчества и законах их развития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952880" y="4500720"/>
              <a:ext cx="4038840" cy="62892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Основы знаний о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убъектах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 творчества и их развитии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685800" y="3625920"/>
            <a:ext cx="8305920" cy="361440"/>
          </a:xfrm>
          <a:prstGeom prst="rect">
            <a:avLst/>
          </a:prstGeom>
          <a:solidFill>
            <a:srgbClr val="99ff66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Практика применения приёмов и методов творчества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2280" y="1833480"/>
            <a:ext cx="2133720" cy="1191240"/>
          </a:xfrm>
          <a:prstGeom prst="rect">
            <a:avLst/>
          </a:prstGeom>
          <a:solidFill>
            <a:srgbClr val="996633"/>
          </a:solidFill>
          <a:ln w="9360">
            <a:solidFill>
              <a:srgbClr val="cc9900"/>
            </a:solidFill>
            <a:miter/>
          </a:ln>
          <a:effectLst>
            <a:outerShdw dist="81185" dir="307803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4. Методические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программы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творческого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поиска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5400000">
            <a:off x="3085560" y="423720"/>
            <a:ext cx="380880" cy="5791320"/>
          </a:xfrm>
          <a:prstGeom prst="upArrow">
            <a:avLst>
              <a:gd name="adj1" fmla="val 38343"/>
              <a:gd name="adj2" fmla="val 51106"/>
            </a:avLst>
          </a:prstGeom>
          <a:solidFill>
            <a:srgbClr val="996633"/>
          </a:solidFill>
          <a:ln w="9360">
            <a:solidFill>
              <a:srgbClr val="cc9900"/>
            </a:solidFill>
            <a:miter/>
          </a:ln>
          <a:effectLst>
            <a:outerShdw dist="81185" dir="307803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172200" y="1833480"/>
            <a:ext cx="2819520" cy="1882800"/>
          </a:xfrm>
          <a:prstGeom prst="rect">
            <a:avLst/>
          </a:prstGeom>
          <a:solidFill>
            <a:srgbClr val="996633"/>
          </a:solidFill>
          <a:ln w="9360">
            <a:solidFill>
              <a:srgbClr val="cc9900"/>
            </a:solidFill>
            <a:miter/>
          </a:ln>
          <a:effectLst>
            <a:outerShdw dist="81185" dir="307803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5. Современные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етодинструменты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, информационные фонды 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ограммы поддержки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творчества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52280" y="3052800"/>
            <a:ext cx="381240" cy="976320"/>
          </a:xfrm>
          <a:prstGeom prst="upArrow">
            <a:avLst>
              <a:gd name="adj1" fmla="val 43333"/>
              <a:gd name="adj2" fmla="val 36232"/>
            </a:avLst>
          </a:prstGeom>
          <a:solidFill>
            <a:srgbClr val="996633"/>
          </a:solidFill>
          <a:ln w="9360">
            <a:solidFill>
              <a:srgbClr val="cc9900"/>
            </a:solidFill>
            <a:miter/>
          </a:ln>
          <a:effectLst>
            <a:outerShdw dist="81185" dir="307803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52280" y="3967200"/>
            <a:ext cx="8839440" cy="368280"/>
          </a:xfrm>
          <a:prstGeom prst="rect">
            <a:avLst/>
          </a:prstGeom>
          <a:solidFill>
            <a:srgbClr val="996633"/>
          </a:solidFill>
          <a:ln w="9360">
            <a:solidFill>
              <a:srgbClr val="cc9900"/>
            </a:solidFill>
            <a:miter/>
          </a:ln>
          <a:effectLst>
            <a:outerShdw dist="81185" dir="307803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3. Простые приёмы и методы творчества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52280" y="4348080"/>
            <a:ext cx="381240" cy="762120"/>
          </a:xfrm>
          <a:prstGeom prst="upArrow">
            <a:avLst>
              <a:gd name="adj1" fmla="val 50000"/>
              <a:gd name="adj2" fmla="val 37899"/>
            </a:avLst>
          </a:prstGeom>
          <a:solidFill>
            <a:srgbClr val="996633"/>
          </a:solidFill>
          <a:ln w="9360">
            <a:solidFill>
              <a:srgbClr val="cc9900"/>
            </a:solidFill>
            <a:miter/>
          </a:ln>
          <a:effectLst>
            <a:outerShdw dist="81185" dir="307803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52280" y="5110200"/>
            <a:ext cx="8839440" cy="423000"/>
          </a:xfrm>
          <a:prstGeom prst="rect">
            <a:avLst/>
          </a:prstGeom>
          <a:solidFill>
            <a:srgbClr val="996633"/>
          </a:solidFill>
          <a:ln w="9360">
            <a:solidFill>
              <a:srgbClr val="cc9900"/>
            </a:solidFill>
            <a:miter/>
          </a:ln>
          <a:effectLst>
            <a:outerShdw dist="81185" dir="307803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. Основы знаний о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субъектах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объектах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творчества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52280" y="5567400"/>
            <a:ext cx="381240" cy="457200"/>
          </a:xfrm>
          <a:prstGeom prst="upArrow">
            <a:avLst>
              <a:gd name="adj1" fmla="val 50000"/>
              <a:gd name="adj2" fmla="val 49968"/>
            </a:avLst>
          </a:prstGeom>
          <a:solidFill>
            <a:srgbClr val="996633"/>
          </a:solidFill>
          <a:ln w="9360">
            <a:solidFill>
              <a:srgbClr val="cc9900"/>
            </a:solidFill>
            <a:miter/>
          </a:ln>
          <a:effectLst>
            <a:outerShdw dist="81185" dir="307803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85800" y="5719680"/>
            <a:ext cx="8305920" cy="337320"/>
          </a:xfrm>
          <a:prstGeom prst="rect">
            <a:avLst/>
          </a:prstGeom>
          <a:solidFill>
            <a:srgbClr val="99ff66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Основные научные представления креатологии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52280" y="6024600"/>
            <a:ext cx="8839440" cy="368280"/>
          </a:xfrm>
          <a:prstGeom prst="rect">
            <a:avLst/>
          </a:prstGeom>
          <a:solidFill>
            <a:srgbClr val="996633"/>
          </a:solidFill>
          <a:ln w="9360">
            <a:solidFill>
              <a:srgbClr val="cc9900"/>
            </a:solidFill>
            <a:miter/>
          </a:ln>
          <a:effectLst>
            <a:outerShdw dist="81185" dir="307803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. Базовые представления и понятия креатологии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2286000" y="1833480"/>
            <a:ext cx="3886200" cy="1190160"/>
            <a:chOff x="2286000" y="1833480"/>
            <a:chExt cx="3886200" cy="1190160"/>
          </a:xfrm>
        </p:grpSpPr>
        <p:sp>
          <p:nvSpPr>
            <p:cNvPr id="429" name=""/>
            <p:cNvSpPr/>
            <p:nvPr/>
          </p:nvSpPr>
          <p:spPr>
            <a:xfrm>
              <a:off x="2286000" y="2442960"/>
              <a:ext cx="3886200" cy="58068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Методические программы и инструменты творческого поиска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286000" y="1833480"/>
              <a:ext cx="3886200" cy="58068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Функционально-системный анализ (ФСА) и его использование 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762120" y="919080"/>
            <a:ext cx="7619760" cy="322200"/>
          </a:xfrm>
          <a:prstGeom prst="rect">
            <a:avLst/>
          </a:prstGeom>
          <a:solidFill>
            <a:srgbClr val="00ff00"/>
          </a:solidFill>
          <a:ln w="9360">
            <a:solidFill>
              <a:srgbClr val="996633"/>
            </a:solidFill>
            <a:miter/>
          </a:ln>
          <a:effectLst>
            <a:outerShdw dist="107932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rial"/>
              </a:rPr>
              <a:t>7. Креатология – инновационным специальностям и видам деятельности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8600" y="1300320"/>
            <a:ext cx="8686800" cy="322200"/>
          </a:xfrm>
          <a:prstGeom prst="rect">
            <a:avLst/>
          </a:prstGeom>
          <a:solidFill>
            <a:srgbClr val="00ff00"/>
          </a:solidFill>
          <a:ln w="9360">
            <a:solidFill>
              <a:srgbClr val="996633"/>
            </a:solidFill>
            <a:miter/>
          </a:ln>
          <a:effectLst>
            <a:outerShdw dist="107932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rial"/>
              </a:rPr>
              <a:t>6. Специализированные системы знаний и технологий профессиональной креатологии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52280" y="1522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Структура учебного плана по креатологии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944AA-E250-441D-8BBF-0AFBF4D77CA1}" type="slidenum">
              <a:t>13</a:t>
            </a:fld>
          </a:p>
        </p:txBody>
      </p:sp>
    </p:spTree>
  </p:cSld>
  <p:transition>
    <p:fade thruBlk="true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3500"/>
                            </p:stCondLst>
                            <p:childTnLst>
                              <p:par>
                                <p:cTn id="450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600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6500"/>
                            </p:stCondLst>
                            <p:childTnLst>
                              <p:par>
                                <p:cTn id="457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900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950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1" nodeType="afterEffect" fill="hold" presetClass="entr" presetID="1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7500"/>
                            </p:stCondLst>
                            <p:childTnLst>
                              <p:par>
                                <p:cTn id="48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9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8500"/>
                            </p:stCondLst>
                            <p:childTnLst>
                              <p:par>
                                <p:cTn id="499" nodeType="afterEffect" fill="hold" presetClass="entr" presetID="1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24000"/>
                            </p:stCondLst>
                            <p:childTnLst>
                              <p:par>
                                <p:cTn id="50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Программа </a:t>
            </a:r>
            <a:r>
              <a:rPr b="0" lang="en-US" sz="3200" spc="-1" strike="noStrike" u="sng">
                <a:solidFill>
                  <a:srgbClr val="66ff33"/>
                </a:solidFill>
                <a:uFillTx/>
                <a:latin typeface="Arial"/>
              </a:rPr>
              <a:t>№ 2 – «Молодая элита»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8600" y="2695680"/>
            <a:ext cx="8610480" cy="38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buClr>
                <a:srgbClr val="66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инвентаризация и анализ передовых разработок </a:t>
            </a:r>
            <a:r>
              <a:rPr b="0" lang="ru-RU" sz="2200" spc="-1" strike="noStrike">
                <a:solidFill>
                  <a:srgbClr val="66ff33"/>
                </a:solidFill>
                <a:latin typeface="Arial"/>
              </a:rPr>
              <a:t>и опыта;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66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развитие освоения основ ИТС</a:t>
            </a:r>
            <a:r>
              <a:rPr b="0" lang="ru-RU" sz="2200" spc="-1" strike="noStrike">
                <a:solidFill>
                  <a:srgbClr val="66ff33"/>
                </a:solidFill>
                <a:latin typeface="Arial"/>
              </a:rPr>
              <a:t> и, - углублённо, - группы предметов инновационно-творческого цикла </a:t>
            </a: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в школах</a:t>
            </a:r>
            <a:r>
              <a:rPr b="0" lang="ru-RU" sz="2200" spc="-1" strike="noStrike">
                <a:solidFill>
                  <a:srgbClr val="66ff33"/>
                </a:solidFill>
                <a:latin typeface="Arial"/>
              </a:rPr>
              <a:t>, гимназиях, лицеях;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66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66ff33"/>
                </a:solidFill>
                <a:latin typeface="Arial"/>
              </a:rPr>
              <a:t>специальная </a:t>
            </a: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организация на базе ИТС олимпиад и конкурсов</a:t>
            </a:r>
            <a:r>
              <a:rPr b="0" lang="ru-RU" sz="2200" spc="-1" strike="noStrike">
                <a:solidFill>
                  <a:srgbClr val="66ff33"/>
                </a:solidFill>
                <a:latin typeface="Arial"/>
              </a:rPr>
              <a:t> «сильных интеллектуалов», «методистов-новаторов»;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66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разработка школьных учебников по ИТС</a:t>
            </a:r>
            <a:r>
              <a:rPr b="0" lang="ru-RU" sz="2200" spc="-1" strike="noStrike">
                <a:solidFill>
                  <a:srgbClr val="66ff33"/>
                </a:solidFill>
                <a:latin typeface="Arial"/>
              </a:rPr>
              <a:t>, в т.ч., интерактивных;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66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66ff33"/>
                </a:solidFill>
                <a:latin typeface="Arial"/>
              </a:rPr>
              <a:t>подготовка и повышение квалификации школьных учителей творчества и инноватики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4920" y="961920"/>
            <a:ext cx="8458200" cy="1557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Цель программы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– выявление и реализация наиболее эффективных методов развития одарённых и систем организации работы с ними; дополнение профилизации средней школы инновационно-творческим образованием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CE02E-498B-4F50-A62F-7E98BE47FB63}" type="slidenum">
              <a:t>14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Программа </a:t>
            </a:r>
            <a:r>
              <a:rPr b="0" lang="en-US" sz="3200" spc="-1" strike="noStrike" u="sng">
                <a:solidFill>
                  <a:srgbClr val="66ff33"/>
                </a:solidFill>
                <a:uFillTx/>
                <a:latin typeface="Arial"/>
              </a:rPr>
              <a:t>№ 3 – «Наука – инновациям и мобилизации интеллектуальных резервов»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04920" y="2819520"/>
            <a:ext cx="853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проведение исследований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по основным проблемам, прежде всего – в интересах программ 1, 2, 4, 5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проведение круглых столов, семинаров и конференций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по проблемам ИТС и опыту их решения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создание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базы данных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по учёным, специалистам и научным коллективам, работающим в сферах ИТС и смежных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исследование публикаций и материалов Интернет с целью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создания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базы знаний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по работам в сфере ИТС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0880" y="1447920"/>
            <a:ext cx="8382240" cy="1191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Цель программы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– координация и активизация научных исследований по инноватизации и интеллектуализации развития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98049-6741-4642-A698-6CB82C1DE6A4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Программа </a:t>
            </a:r>
            <a:r>
              <a:rPr b="0" lang="en-US" sz="3200" spc="-1" strike="noStrike" u="sng">
                <a:solidFill>
                  <a:srgbClr val="66ff33"/>
                </a:solidFill>
                <a:uFillTx/>
                <a:latin typeface="Arial"/>
              </a:rPr>
              <a:t>№ 4 – «ИТС – для высокотехнологичных фирм, НИИ и КБ»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2666880"/>
            <a:ext cx="85345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инвентаризация современных разработок</a:t>
            </a:r>
            <a:r>
              <a:rPr b="0" lang="ru-RU" sz="2000" spc="-1" strike="noStrike">
                <a:solidFill>
                  <a:srgbClr val="66ff33"/>
                </a:solidFill>
                <a:latin typeface="Arial"/>
              </a:rPr>
              <a:t> и приобретение новейших программных продуктов по ИТС;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рганизация</a:t>
            </a:r>
            <a:r>
              <a:rPr b="0" lang="ru-RU" sz="2000" spc="-1" strike="noStrike">
                <a:solidFill>
                  <a:srgbClr val="66ff33"/>
                </a:solidFill>
                <a:latin typeface="Arial"/>
              </a:rPr>
              <a:t> заказных ознакомительных и обучающих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еминаров</a:t>
            </a:r>
            <a:r>
              <a:rPr b="0" lang="ru-RU" sz="2000" spc="-1" strike="noStrike">
                <a:solidFill>
                  <a:srgbClr val="66ff33"/>
                </a:solidFill>
                <a:latin typeface="Arial"/>
              </a:rPr>
              <a:t> по основам ИТС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для специалистов предприятий</a:t>
            </a:r>
            <a:r>
              <a:rPr b="0" lang="ru-RU" sz="2000" spc="-1" strike="noStrike">
                <a:solidFill>
                  <a:srgbClr val="66ff33"/>
                </a:solidFill>
                <a:latin typeface="Arial"/>
              </a:rPr>
              <a:t>, высокотехнологичных фирм, НИИ, КБ, институтов НАНУ;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рганизация семинаров п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лубокому освоению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ИТС</a:t>
            </a:r>
            <a:r>
              <a:rPr b="0" lang="ru-RU" sz="2000" spc="-1" strike="noStrike">
                <a:solidFill>
                  <a:srgbClr val="66ff33"/>
                </a:solidFill>
                <a:latin typeface="Arial"/>
              </a:rPr>
              <a:t> и новейших её конкретных интеллектуальных технологий в передовых научных и конструкторских коллективах Украины и в технопарках;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рганизация специализированных творческих коллективов</a:t>
            </a:r>
            <a:r>
              <a:rPr b="0" lang="ru-RU" sz="2000" spc="-1" strike="noStrike">
                <a:solidFill>
                  <a:srgbClr val="66ff33"/>
                </a:solidFill>
                <a:latin typeface="Arial"/>
              </a:rPr>
              <a:t> (СТК) профессионалов-поисковиков и прогнозистов-разработчиков;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ведение курсов ИТС для аспирантов и докторантов</a:t>
            </a:r>
            <a:r>
              <a:rPr b="0" lang="ru-RU" sz="2000" spc="-1" strike="noStrike">
                <a:solidFill>
                  <a:srgbClr val="66ff33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990720" y="1447920"/>
            <a:ext cx="7162560" cy="1191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Цель программы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– организация использования конкретных действующих программ ИТС для получения прорывных разработок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2CC3A-6447-46FC-9727-21F064FAB75F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Программа 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№ 5 – «Инновационная культура»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33520" y="243828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Ключевые мероприятия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Формирование содержания инновационной культуры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Распространение культуры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Востребование культуры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Инструменты продвижения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Образование и наука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Средства массовой информации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Идеология государства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1463760"/>
            <a:ext cx="777240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Цель программы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– включение ИТС в современную общую культуру народа, особенно - молодежи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3E922-9935-4B5B-B30E-BD9FEFCAEAC7}" type="slidenum">
              <a:t>17</a:t>
            </a:fld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Программа 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№ 6 – «Посредники активизации инноваций»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28600" y="3048120"/>
            <a:ext cx="8534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Основные меры программы: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Широкая пропаганда специалистов и фирм, внедряющих продукцию ИТС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Инвентаризация и поддержка ИТС-фирм органами власти и корпоративного управления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Распространение опыта взаимодействия ИТС-фирм и обслуживаемых ими предприятий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0880" y="1447920"/>
            <a:ext cx="8458200" cy="1191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Цель программы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– развитие и использование института посреднических фирм и специалистов-профессионалов ИТС для запуска продуктов ИТС в экономический оборот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486E5-23C6-45DC-89C2-F935663CD511}" type="slidenum">
              <a:t>18</a:t>
            </a:fld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28600" y="2101680"/>
            <a:ext cx="3429000" cy="916920"/>
          </a:xfrm>
          <a:prstGeom prst="rect">
            <a:avLst/>
          </a:prstGeom>
          <a:solidFill>
            <a:srgbClr val="ffcc00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8. Развитие пропаганды СМИ инновационно-творческой культуры населения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648320" y="1568520"/>
            <a:ext cx="4114800" cy="67320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9. Создание кафедр креатологии и введение новых специальностей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2520" y="2406600"/>
            <a:ext cx="4724280" cy="642600"/>
          </a:xfrm>
          <a:prstGeom prst="rect">
            <a:avLst/>
          </a:prstGeom>
          <a:solidFill>
            <a:srgbClr val="ccff99"/>
          </a:solidFill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7. Целевая подготовка и переподготовка преподавателей творчества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0" y="3168720"/>
            <a:ext cx="3886200" cy="1191240"/>
          </a:xfrm>
          <a:prstGeom prst="rect">
            <a:avLst/>
          </a:prstGeom>
          <a:solidFill>
            <a:srgbClr val="ccff99"/>
          </a:solidFill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5. Углублённое изучение методов творчества в вузах (включение креатологии в список нормативных дисциплин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" y="3168720"/>
            <a:ext cx="3429000" cy="119124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6. Создание для родителей и учителей народных университетов творчества и консультационных центров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33520" y="4464000"/>
            <a:ext cx="3657600" cy="642600"/>
          </a:xfrm>
          <a:prstGeom prst="rect">
            <a:avLst/>
          </a:prstGeom>
          <a:solidFill>
            <a:srgbClr val="ccff66"/>
          </a:solidFill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4. Индивидуальные программы развития способностей детей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343400" y="4464000"/>
            <a:ext cx="3886200" cy="642600"/>
          </a:xfrm>
          <a:prstGeom prst="rect">
            <a:avLst/>
          </a:prstGeom>
          <a:solidFill>
            <a:srgbClr val="ccffcc"/>
          </a:solidFill>
          <a:ln w="76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3. Обучение основам творчества детей, в т.ч., одарённых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71600" y="5226120"/>
            <a:ext cx="5943600" cy="368280"/>
          </a:xfrm>
          <a:prstGeom prst="rect">
            <a:avLst/>
          </a:prstGeom>
          <a:solidFill>
            <a:srgbClr val="ccffcc"/>
          </a:solidFill>
          <a:ln w="76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. Диагностика творческих способностей школьников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0880" y="5759280"/>
            <a:ext cx="3505320" cy="6426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. Создание детских садов и групп творческого воспитания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181480" y="806400"/>
            <a:ext cx="3733920" cy="642600"/>
          </a:xfrm>
          <a:prstGeom prst="rect">
            <a:avLst/>
          </a:prstGeom>
          <a:solidFill>
            <a:srgbClr val="ffcc00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0. Проведение НИР по реализации перечисленных мер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52280" y="763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Сводка важнейших мер из программ 1 - 6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76413-2FF2-436D-A8F4-4FDB888F5ED9}" type="slidenum">
              <a:t>19</a:t>
            </a:fld>
          </a:p>
        </p:txBody>
      </p:sp>
    </p:spTree>
  </p:cSld>
  <p:transition>
    <p:fade thruBlk="true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3000"/>
                            </p:stCondLst>
                            <p:childTnLst>
                              <p:par>
                                <p:cTn id="526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500"/>
                            </p:stCondLst>
                            <p:childTnLst>
                              <p:par>
                                <p:cTn id="531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8000"/>
                            </p:stCondLst>
                            <p:childTnLst>
                              <p:par>
                                <p:cTn id="536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500"/>
                            </p:stCondLst>
                            <p:childTnLst>
                              <p:par>
                                <p:cTn id="541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6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5500"/>
                            </p:stCondLst>
                            <p:childTnLst>
                              <p:par>
                                <p:cTn id="551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6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500"/>
                            </p:stCondLst>
                            <p:childTnLst>
                              <p:par>
                                <p:cTn id="561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809800" y="3952800"/>
          <a:ext cx="3667320" cy="9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09800" y="3952800"/>
                    <a:ext cx="366732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80880" y="990720"/>
            <a:ext cx="8458200" cy="5181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809800" y="4800600"/>
          <a:ext cx="366732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09800" y="4800600"/>
                    <a:ext cx="36673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" name=""/>
          <p:cNvGrpSpPr/>
          <p:nvPr/>
        </p:nvGrpSpPr>
        <p:grpSpPr>
          <a:xfrm>
            <a:off x="762120" y="4809960"/>
            <a:ext cx="7772400" cy="1667160"/>
            <a:chOff x="762120" y="4809960"/>
            <a:chExt cx="7772400" cy="1667160"/>
          </a:xfrm>
        </p:grpSpPr>
        <p:graphicFrame>
          <p:nvGraphicFramePr>
            <p:cNvPr id="51" name=""/>
            <p:cNvGraphicFramePr/>
            <p:nvPr/>
          </p:nvGraphicFramePr>
          <p:xfrm>
            <a:off x="762120" y="4809960"/>
            <a:ext cx="3267000" cy="1667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62120" y="4809960"/>
                      <a:ext cx="3267000" cy="166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" name=""/>
            <p:cNvGraphicFramePr/>
            <p:nvPr/>
          </p:nvGraphicFramePr>
          <p:xfrm>
            <a:off x="5267160" y="4809960"/>
            <a:ext cx="3267360" cy="1667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67160" y="4809960"/>
                      <a:ext cx="3267360" cy="166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5" name=""/>
          <p:cNvGrpSpPr/>
          <p:nvPr/>
        </p:nvGrpSpPr>
        <p:grpSpPr>
          <a:xfrm>
            <a:off x="1066680" y="3124080"/>
            <a:ext cx="7086600" cy="1676520"/>
            <a:chOff x="1066680" y="3124080"/>
            <a:chExt cx="7086600" cy="1676520"/>
          </a:xfrm>
        </p:grpSpPr>
        <p:sp>
          <p:nvSpPr>
            <p:cNvPr id="56" name=""/>
            <p:cNvSpPr/>
            <p:nvPr/>
          </p:nvSpPr>
          <p:spPr>
            <a:xfrm flipH="1">
              <a:off x="6019920" y="3196440"/>
              <a:ext cx="2133360" cy="1603800"/>
            </a:xfrm>
            <a:prstGeom prst="rightArrowCallout">
              <a:avLst>
                <a:gd name="adj1" fmla="val 25002"/>
                <a:gd name="adj2" fmla="val 25000"/>
                <a:gd name="adj3" fmla="val 22170"/>
                <a:gd name="adj4" fmla="val 75505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6680" y="3124080"/>
              <a:ext cx="2210040" cy="1676520"/>
            </a:xfrm>
            <a:prstGeom prst="rightArrowCallout">
              <a:avLst>
                <a:gd name="adj1" fmla="val 25002"/>
                <a:gd name="adj2" fmla="val 25000"/>
                <a:gd name="adj3" fmla="val 21971"/>
                <a:gd name="adj4" fmla="val 75505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95280" y="3281760"/>
              <a:ext cx="1219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Законы развития систем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705720" y="3354480"/>
              <a:ext cx="1295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Информа-тизация творчества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600200" y="4191120"/>
            <a:ext cx="6019920" cy="647640"/>
            <a:chOff x="1600200" y="4191120"/>
            <a:chExt cx="6019920" cy="647640"/>
          </a:xfrm>
        </p:grpSpPr>
        <p:graphicFrame>
          <p:nvGraphicFramePr>
            <p:cNvPr id="61" name=""/>
            <p:cNvGraphicFramePr/>
            <p:nvPr/>
          </p:nvGraphicFramePr>
          <p:xfrm>
            <a:off x="1600200" y="4191120"/>
            <a:ext cx="609480" cy="628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600200" y="4191120"/>
                      <a:ext cx="609480" cy="62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" name=""/>
            <p:cNvGraphicFramePr/>
            <p:nvPr/>
          </p:nvGraphicFramePr>
          <p:xfrm>
            <a:off x="7010280" y="4210200"/>
            <a:ext cx="609840" cy="6285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010280" y="4210200"/>
                      <a:ext cx="609840" cy="62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5" name=""/>
          <p:cNvGrpSpPr/>
          <p:nvPr/>
        </p:nvGrpSpPr>
        <p:grpSpPr>
          <a:xfrm>
            <a:off x="2209680" y="1752480"/>
            <a:ext cx="2362320" cy="609840"/>
            <a:chOff x="2209680" y="1752480"/>
            <a:chExt cx="2362320" cy="609840"/>
          </a:xfrm>
        </p:grpSpPr>
        <p:sp>
          <p:nvSpPr>
            <p:cNvPr id="66" name=""/>
            <p:cNvSpPr/>
            <p:nvPr/>
          </p:nvSpPr>
          <p:spPr>
            <a:xfrm>
              <a:off x="2209680" y="1752480"/>
              <a:ext cx="2362320" cy="6098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04880" y="1874520"/>
              <a:ext cx="1711440" cy="398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инергетика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4724280" y="1752480"/>
            <a:ext cx="2362320" cy="609840"/>
            <a:chOff x="4724280" y="1752480"/>
            <a:chExt cx="2362320" cy="609840"/>
          </a:xfrm>
        </p:grpSpPr>
        <p:sp>
          <p:nvSpPr>
            <p:cNvPr id="69" name=""/>
            <p:cNvSpPr/>
            <p:nvPr/>
          </p:nvSpPr>
          <p:spPr>
            <a:xfrm>
              <a:off x="4724280" y="1752480"/>
              <a:ext cx="2362320" cy="6098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79960" y="1874520"/>
              <a:ext cx="1711440" cy="398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Инноватика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295280" y="2438280"/>
            <a:ext cx="2743200" cy="609840"/>
            <a:chOff x="1295280" y="2438280"/>
            <a:chExt cx="2743200" cy="609840"/>
          </a:xfrm>
        </p:grpSpPr>
        <p:sp>
          <p:nvSpPr>
            <p:cNvPr id="72" name=""/>
            <p:cNvSpPr/>
            <p:nvPr/>
          </p:nvSpPr>
          <p:spPr>
            <a:xfrm>
              <a:off x="1295280" y="2438280"/>
              <a:ext cx="2743200" cy="6098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38360" y="2560320"/>
              <a:ext cx="1988640" cy="398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Информатика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257800" y="2438280"/>
            <a:ext cx="2743200" cy="609840"/>
            <a:chOff x="5257800" y="2438280"/>
            <a:chExt cx="2743200" cy="609840"/>
          </a:xfrm>
        </p:grpSpPr>
        <p:sp>
          <p:nvSpPr>
            <p:cNvPr id="75" name=""/>
            <p:cNvSpPr/>
            <p:nvPr/>
          </p:nvSpPr>
          <p:spPr>
            <a:xfrm>
              <a:off x="5257800" y="2438280"/>
              <a:ext cx="2743200" cy="6098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600520" y="2559960"/>
              <a:ext cx="1988640" cy="398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Акмеология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819520" y="1523880"/>
            <a:ext cx="3657600" cy="32767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038480" y="4038480"/>
          <a:ext cx="1219320" cy="781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38480" y="4038480"/>
                    <a:ext cx="121932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3505320" y="35812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еатология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352680" y="2895480"/>
            <a:ext cx="2667240" cy="685800"/>
            <a:chOff x="3352680" y="2895480"/>
            <a:chExt cx="2667240" cy="685800"/>
          </a:xfrm>
        </p:grpSpPr>
        <p:sp>
          <p:nvSpPr>
            <p:cNvPr id="82" name=""/>
            <p:cNvSpPr/>
            <p:nvPr/>
          </p:nvSpPr>
          <p:spPr>
            <a:xfrm>
              <a:off x="3352680" y="2895480"/>
              <a:ext cx="2667240" cy="6858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85680" y="3032280"/>
              <a:ext cx="1933560" cy="398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истемология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 txBox="1"/>
          <p:nvPr/>
        </p:nvSpPr>
        <p:spPr>
          <a:xfrm>
            <a:off x="685800" y="1219320"/>
            <a:ext cx="7848720" cy="4495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513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нтеллектуальная Технология Созидания - ИТС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1825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«Три кита» ИТС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EFA1B-2B55-4158-A996-F1D1FEC06394}" type="slidenum">
              <a:t>2</a:t>
            </a:fld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70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95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3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4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4648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Итоговые предложения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Предлагается принять решение о включении ИТС-стратегии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(мобилизации интеллектуальных резервов и создания технологических прорывов)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в инновационную политику государства и корпораций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04560" y="2286000"/>
            <a:ext cx="8458200" cy="4191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Ключевые мероприятия:</a:t>
            </a: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организация рабочих встреч </a:t>
            </a:r>
            <a:r>
              <a:rPr b="0" lang="en-US" sz="2200" spc="-1" strike="noStrike">
                <a:solidFill>
                  <a:srgbClr val="66ff33"/>
                </a:solidFill>
                <a:latin typeface="Arial"/>
              </a:rPr>
              <a:t>с целью рассмотрения стратегии, отработки её концепции и программ;</a:t>
            </a: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создание экспертного координационного совета и рабочей группы </a:t>
            </a:r>
            <a:r>
              <a:rPr b="0" lang="en-US" sz="2200" spc="-1" strike="noStrike">
                <a:solidFill>
                  <a:srgbClr val="66ff33"/>
                </a:solidFill>
                <a:latin typeface="Arial"/>
              </a:rPr>
              <a:t>по программе;</a:t>
            </a: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отбор первых пилотных проектов </a:t>
            </a:r>
            <a:r>
              <a:rPr b="0" lang="en-US" sz="2200" spc="-1" strike="noStrike">
                <a:solidFill>
                  <a:srgbClr val="66ff33"/>
                </a:solidFill>
                <a:latin typeface="Arial"/>
              </a:rPr>
              <a:t>программы и начало их реализации;</a:t>
            </a: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разработка проектов и решений по реализации программы, </a:t>
            </a:r>
            <a:r>
              <a:rPr b="0" lang="en-US" sz="2200" spc="-1" strike="noStrike">
                <a:solidFill>
                  <a:srgbClr val="66ff33"/>
                </a:solidFill>
                <a:latin typeface="Arial"/>
              </a:rPr>
              <a:t>включая её ресурсное и кадровое обеспечение;</a:t>
            </a: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обеспечение обратной связи </a:t>
            </a:r>
            <a:r>
              <a:rPr b="0" lang="en-US" sz="2200" spc="-1" strike="noStrike">
                <a:solidFill>
                  <a:srgbClr val="66ff33"/>
                </a:solidFill>
                <a:latin typeface="Arial"/>
              </a:rPr>
              <a:t>путём проведения итоговых семинаров и конференций</a:t>
            </a: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50E25-9E2B-481C-9D05-171A63C905C7}" type="slidenum">
              <a:t>20</a:t>
            </a:fld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609480" y="990720"/>
            <a:ext cx="8534520" cy="58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7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OdessaScript"/>
              </a:rPr>
              <a:t>Где Мысль сильна, 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OdessaScript"/>
              <a:ea typeface="OdessaScrip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OdessaScript"/>
              </a:rPr>
              <a:t>там Дело - полно силы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OdessaScript"/>
              <a:ea typeface="OdessaScrip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OdessaScript"/>
              </a:rPr>
              <a:t>Г. Гор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OdessaScript"/>
              <a:ea typeface="OdessaScrip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E7A37-C1DA-4FC0-96FD-A0AD2D51FFD0}" type="slidenum">
              <a:t>21</a:t>
            </a:fld>
          </a:p>
        </p:txBody>
      </p:sp>
    </p:spTree>
  </p:cSld>
  <p:transition>
    <p:fade thruBlk="true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304920" y="304920"/>
            <a:ext cx="853416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Докладчик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иректор  Института инновационно-творческого образования и развития МОН Украины,  профессор, заведующий кафедрой Основ творчества, инноватики и интеллектуализации НМетАУ,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кадемик МАГН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ПИГОРОВ Георгий Семёнович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00"/>
                </a:solidFill>
                <a:uFillTx/>
                <a:latin typeface="Arial"/>
              </a:rPr>
              <a:t>PIGOROV Georg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НМетАУ,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ИИНОР</a:t>
            </a: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uk-UA" sz="2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0" lang="en-US" sz="2200" spc="-1" strike="noStrike">
                <a:solidFill>
                  <a:srgbClr val="00ff00"/>
                </a:solidFill>
                <a:latin typeface="Arial"/>
              </a:rPr>
              <a:t>NMetAU, </a:t>
            </a:r>
            <a:r>
              <a:rPr b="1" lang="en-US" sz="2200" spc="-1" strike="noStrike">
                <a:solidFill>
                  <a:srgbClr val="00ff00"/>
                </a:solidFill>
                <a:latin typeface="Arial"/>
              </a:rPr>
              <a:t>IICED</a:t>
            </a:r>
            <a:r>
              <a:rPr b="0" lang="en-US" sz="22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0" lang="uk-UA" sz="2200" spc="-1" strike="noStrike">
                <a:solidFill>
                  <a:srgbClr val="ffff00"/>
                </a:solidFill>
                <a:latin typeface="Arial"/>
              </a:rPr>
              <a:t>         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пр. Гагарина 4,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                     </a:t>
            </a:r>
            <a:r>
              <a:rPr b="0" lang="en-US" sz="2200" spc="-1" strike="noStrike">
                <a:solidFill>
                  <a:srgbClr val="00ff00"/>
                </a:solidFill>
                <a:latin typeface="Arial"/>
              </a:rPr>
              <a:t>Gagarin prosp, 4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Днепропетровск,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0" lang="en-US" sz="2200" spc="-1" strike="noStrike">
                <a:solidFill>
                  <a:srgbClr val="00ff00"/>
                </a:solidFill>
                <a:latin typeface="Arial"/>
              </a:rPr>
              <a:t>Dnepropetrovsk,</a:t>
            </a:r>
            <a:r>
              <a:rPr b="0" lang="en-US" sz="2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Украина, 49 600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r>
              <a:rPr b="0" lang="en-US" sz="2200" spc="-1" strike="noStrike">
                <a:solidFill>
                  <a:srgbClr val="00ff00"/>
                </a:solidFill>
                <a:latin typeface="Arial"/>
              </a:rPr>
              <a:t>Ukraine, 49 600</a:t>
            </a:r>
            <a:r>
              <a:rPr b="0" lang="en-US" sz="22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+38 (056-2) 410-028</a:t>
            </a:r>
            <a:r>
              <a:rPr b="0" lang="en-US" sz="2200" spc="-1" strike="noStrike">
                <a:solidFill>
                  <a:srgbClr val="ccffcc"/>
                </a:solidFill>
                <a:latin typeface="Arial"/>
              </a:rPr>
              <a:t>              </a:t>
            </a:r>
            <a:r>
              <a:rPr b="0" lang="en-US" sz="2200" spc="-1" strike="noStrike">
                <a:solidFill>
                  <a:srgbClr val="00ff00"/>
                </a:solidFill>
                <a:latin typeface="Arial"/>
              </a:rPr>
              <a:t>+38 (056-2) 410-028</a:t>
            </a:r>
            <a:r>
              <a:rPr b="0" lang="en-US" sz="2200" spc="-1" strike="noStrike">
                <a:solidFill>
                  <a:srgbClr val="cc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-mail:</a:t>
            </a:r>
            <a:r>
              <a:rPr b="0" lang="en-US" sz="2200" spc="-1" strike="noStrike">
                <a:solidFill>
                  <a:srgbClr val="ccffcc"/>
                </a:solidFill>
                <a:latin typeface="Arial"/>
              </a:rPr>
              <a:t> pigorov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@rambler.ru</a:t>
            </a:r>
            <a:r>
              <a:rPr b="0" lang="en-US" sz="2200" spc="-1" strike="noStrike">
                <a:solidFill>
                  <a:srgbClr val="ccffcc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00ff00"/>
                </a:solidFill>
                <a:latin typeface="Arial"/>
              </a:rPr>
              <a:t>E-mail: </a:t>
            </a:r>
            <a:r>
              <a:rPr b="0" lang="en-US" sz="2200" spc="-1" strike="noStrike">
                <a:solidFill>
                  <a:srgbClr val="ccffcc"/>
                </a:solidFill>
                <a:latin typeface="Arial"/>
              </a:rPr>
              <a:t>pigorov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@rambler.ru</a:t>
            </a:r>
            <a:r>
              <a:rPr b="0" lang="en-US" sz="2200" spc="-1" strike="noStrike">
                <a:solidFill>
                  <a:srgbClr val="cc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61A8B-3918-4809-B5E6-08D4BD7F12B9}" type="slidenum">
              <a:t>2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 flipV="1">
            <a:off x="6781680" y="24955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6477120" y="2419200"/>
            <a:ext cx="30456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781680" y="2800080"/>
            <a:ext cx="381240" cy="152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162920" y="280044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162920" y="211428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105520" y="1371600"/>
            <a:ext cx="3809880" cy="4038480"/>
            <a:chOff x="5105520" y="1371600"/>
            <a:chExt cx="3809880" cy="4038480"/>
          </a:xfrm>
        </p:grpSpPr>
        <p:grpSp>
          <p:nvGrpSpPr>
            <p:cNvPr id="92" name=""/>
            <p:cNvGrpSpPr/>
            <p:nvPr/>
          </p:nvGrpSpPr>
          <p:grpSpPr>
            <a:xfrm>
              <a:off x="6400800" y="5029200"/>
              <a:ext cx="457200" cy="380880"/>
              <a:chOff x="6400800" y="5029200"/>
              <a:chExt cx="457200" cy="380880"/>
            </a:xfrm>
          </p:grpSpPr>
          <p:sp>
            <p:nvSpPr>
              <p:cNvPr id="93" name=""/>
              <p:cNvSpPr/>
              <p:nvPr/>
            </p:nvSpPr>
            <p:spPr>
              <a:xfrm flipH="1">
                <a:off x="6400800" y="502920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400800" y="502920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5105520" y="5029200"/>
              <a:ext cx="457200" cy="380880"/>
              <a:chOff x="5105520" y="5029200"/>
              <a:chExt cx="457200" cy="380880"/>
            </a:xfrm>
          </p:grpSpPr>
          <p:sp>
            <p:nvSpPr>
              <p:cNvPr id="96" name=""/>
              <p:cNvSpPr/>
              <p:nvPr/>
            </p:nvSpPr>
            <p:spPr>
              <a:xfrm flipH="1">
                <a:off x="5105520" y="502920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105520" y="502920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5791320" y="5029200"/>
              <a:ext cx="457200" cy="380880"/>
              <a:chOff x="5791320" y="5029200"/>
              <a:chExt cx="457200" cy="380880"/>
            </a:xfrm>
          </p:grpSpPr>
          <p:sp>
            <p:nvSpPr>
              <p:cNvPr id="99" name=""/>
              <p:cNvSpPr/>
              <p:nvPr/>
            </p:nvSpPr>
            <p:spPr>
              <a:xfrm flipH="1">
                <a:off x="5791320" y="502920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791320" y="502920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7772400" y="4419360"/>
              <a:ext cx="457200" cy="380880"/>
              <a:chOff x="7772400" y="4419360"/>
              <a:chExt cx="457200" cy="380880"/>
            </a:xfrm>
          </p:grpSpPr>
          <p:sp>
            <p:nvSpPr>
              <p:cNvPr id="102" name=""/>
              <p:cNvSpPr/>
              <p:nvPr/>
            </p:nvSpPr>
            <p:spPr>
              <a:xfrm flipH="1">
                <a:off x="7772400" y="441936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772400" y="441936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8458200" y="4419360"/>
              <a:ext cx="457200" cy="380880"/>
              <a:chOff x="8458200" y="4419360"/>
              <a:chExt cx="457200" cy="380880"/>
            </a:xfrm>
          </p:grpSpPr>
          <p:sp>
            <p:nvSpPr>
              <p:cNvPr id="105" name=""/>
              <p:cNvSpPr/>
              <p:nvPr/>
            </p:nvSpPr>
            <p:spPr>
              <a:xfrm flipH="1">
                <a:off x="8458200" y="441936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458200" y="441936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400800" y="4419360"/>
              <a:ext cx="457200" cy="380880"/>
              <a:chOff x="6400800" y="4419360"/>
              <a:chExt cx="457200" cy="380880"/>
            </a:xfrm>
          </p:grpSpPr>
          <p:sp>
            <p:nvSpPr>
              <p:cNvPr id="108" name=""/>
              <p:cNvSpPr/>
              <p:nvPr/>
            </p:nvSpPr>
            <p:spPr>
              <a:xfrm flipH="1">
                <a:off x="6400800" y="441936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400800" y="441936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7086600" y="4419360"/>
              <a:ext cx="457200" cy="380880"/>
              <a:chOff x="7086600" y="4419360"/>
              <a:chExt cx="457200" cy="380880"/>
            </a:xfrm>
          </p:grpSpPr>
          <p:sp>
            <p:nvSpPr>
              <p:cNvPr id="111" name=""/>
              <p:cNvSpPr/>
              <p:nvPr/>
            </p:nvSpPr>
            <p:spPr>
              <a:xfrm flipH="1">
                <a:off x="7086600" y="441936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086600" y="441936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105520" y="4419360"/>
              <a:ext cx="457200" cy="380880"/>
              <a:chOff x="5105520" y="4419360"/>
              <a:chExt cx="457200" cy="380880"/>
            </a:xfrm>
          </p:grpSpPr>
          <p:sp>
            <p:nvSpPr>
              <p:cNvPr id="114" name=""/>
              <p:cNvSpPr/>
              <p:nvPr/>
            </p:nvSpPr>
            <p:spPr>
              <a:xfrm flipH="1">
                <a:off x="5105520" y="441936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105520" y="441936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5791320" y="4419360"/>
              <a:ext cx="457200" cy="380880"/>
              <a:chOff x="5791320" y="4419360"/>
              <a:chExt cx="457200" cy="380880"/>
            </a:xfrm>
          </p:grpSpPr>
          <p:sp>
            <p:nvSpPr>
              <p:cNvPr id="117" name=""/>
              <p:cNvSpPr/>
              <p:nvPr/>
            </p:nvSpPr>
            <p:spPr>
              <a:xfrm flipH="1">
                <a:off x="5791320" y="441936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791320" y="441936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7772400" y="3809880"/>
              <a:ext cx="457200" cy="380880"/>
              <a:chOff x="7772400" y="3809880"/>
              <a:chExt cx="457200" cy="380880"/>
            </a:xfrm>
          </p:grpSpPr>
          <p:sp>
            <p:nvSpPr>
              <p:cNvPr id="120" name=""/>
              <p:cNvSpPr/>
              <p:nvPr/>
            </p:nvSpPr>
            <p:spPr>
              <a:xfrm flipH="1">
                <a:off x="7772400" y="380988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772400" y="380988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8458200" y="3809880"/>
              <a:ext cx="457200" cy="380880"/>
              <a:chOff x="8458200" y="3809880"/>
              <a:chExt cx="457200" cy="380880"/>
            </a:xfrm>
          </p:grpSpPr>
          <p:sp>
            <p:nvSpPr>
              <p:cNvPr id="123" name=""/>
              <p:cNvSpPr/>
              <p:nvPr/>
            </p:nvSpPr>
            <p:spPr>
              <a:xfrm flipH="1">
                <a:off x="8458200" y="380988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458200" y="380988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00800" y="3809880"/>
              <a:ext cx="457200" cy="380880"/>
              <a:chOff x="6400800" y="3809880"/>
              <a:chExt cx="457200" cy="380880"/>
            </a:xfrm>
          </p:grpSpPr>
          <p:sp>
            <p:nvSpPr>
              <p:cNvPr id="126" name=""/>
              <p:cNvSpPr/>
              <p:nvPr/>
            </p:nvSpPr>
            <p:spPr>
              <a:xfrm flipH="1">
                <a:off x="6400800" y="380988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00800" y="380988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086600" y="3809880"/>
              <a:ext cx="457200" cy="380880"/>
              <a:chOff x="7086600" y="3809880"/>
              <a:chExt cx="457200" cy="380880"/>
            </a:xfrm>
          </p:grpSpPr>
          <p:sp>
            <p:nvSpPr>
              <p:cNvPr id="129" name=""/>
              <p:cNvSpPr/>
              <p:nvPr/>
            </p:nvSpPr>
            <p:spPr>
              <a:xfrm flipH="1">
                <a:off x="7086600" y="380988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86600" y="380988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5105520" y="3809880"/>
              <a:ext cx="457200" cy="380880"/>
              <a:chOff x="5105520" y="3809880"/>
              <a:chExt cx="457200" cy="380880"/>
            </a:xfrm>
          </p:grpSpPr>
          <p:sp>
            <p:nvSpPr>
              <p:cNvPr id="132" name=""/>
              <p:cNvSpPr/>
              <p:nvPr/>
            </p:nvSpPr>
            <p:spPr>
              <a:xfrm flipH="1">
                <a:off x="5105520" y="380988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105520" y="380988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5791320" y="3809880"/>
              <a:ext cx="457200" cy="380880"/>
              <a:chOff x="5791320" y="3809880"/>
              <a:chExt cx="457200" cy="380880"/>
            </a:xfrm>
          </p:grpSpPr>
          <p:sp>
            <p:nvSpPr>
              <p:cNvPr id="135" name=""/>
              <p:cNvSpPr/>
              <p:nvPr/>
            </p:nvSpPr>
            <p:spPr>
              <a:xfrm flipH="1">
                <a:off x="5791320" y="380988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791320" y="380988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5105520" y="3200400"/>
              <a:ext cx="457200" cy="380880"/>
              <a:chOff x="5105520" y="3200400"/>
              <a:chExt cx="457200" cy="380880"/>
            </a:xfrm>
          </p:grpSpPr>
          <p:sp>
            <p:nvSpPr>
              <p:cNvPr id="138" name=""/>
              <p:cNvSpPr/>
              <p:nvPr/>
            </p:nvSpPr>
            <p:spPr>
              <a:xfrm flipH="1">
                <a:off x="5105520" y="320040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105520" y="320040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5791320" y="3200400"/>
              <a:ext cx="457200" cy="380880"/>
              <a:chOff x="5791320" y="3200400"/>
              <a:chExt cx="457200" cy="380880"/>
            </a:xfrm>
          </p:grpSpPr>
          <p:sp>
            <p:nvSpPr>
              <p:cNvPr id="141" name=""/>
              <p:cNvSpPr/>
              <p:nvPr/>
            </p:nvSpPr>
            <p:spPr>
              <a:xfrm flipH="1">
                <a:off x="5791320" y="320040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791320" y="320040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6477120" y="3200400"/>
              <a:ext cx="457200" cy="380880"/>
              <a:chOff x="6477120" y="3200400"/>
              <a:chExt cx="457200" cy="380880"/>
            </a:xfrm>
          </p:grpSpPr>
          <p:sp>
            <p:nvSpPr>
              <p:cNvPr id="144" name=""/>
              <p:cNvSpPr/>
              <p:nvPr/>
            </p:nvSpPr>
            <p:spPr>
              <a:xfrm flipH="1">
                <a:off x="6477120" y="320040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477120" y="320040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7086600" y="3200400"/>
              <a:ext cx="457200" cy="380880"/>
              <a:chOff x="7086600" y="3200400"/>
              <a:chExt cx="457200" cy="380880"/>
            </a:xfrm>
          </p:grpSpPr>
          <p:sp>
            <p:nvSpPr>
              <p:cNvPr id="147" name=""/>
              <p:cNvSpPr/>
              <p:nvPr/>
            </p:nvSpPr>
            <p:spPr>
              <a:xfrm flipH="1">
                <a:off x="7086600" y="320040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086600" y="320040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7772400" y="3200400"/>
              <a:ext cx="457200" cy="380880"/>
              <a:chOff x="7772400" y="3200400"/>
              <a:chExt cx="457200" cy="380880"/>
            </a:xfrm>
          </p:grpSpPr>
          <p:sp>
            <p:nvSpPr>
              <p:cNvPr id="150" name=""/>
              <p:cNvSpPr/>
              <p:nvPr/>
            </p:nvSpPr>
            <p:spPr>
              <a:xfrm flipH="1">
                <a:off x="7772400" y="320040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772400" y="320040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8458200" y="3200400"/>
              <a:ext cx="457200" cy="380880"/>
              <a:chOff x="8458200" y="3200400"/>
              <a:chExt cx="457200" cy="380880"/>
            </a:xfrm>
          </p:grpSpPr>
          <p:sp>
            <p:nvSpPr>
              <p:cNvPr id="153" name=""/>
              <p:cNvSpPr/>
              <p:nvPr/>
            </p:nvSpPr>
            <p:spPr>
              <a:xfrm flipH="1">
                <a:off x="8458200" y="320040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458200" y="320040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5105520" y="2590560"/>
              <a:ext cx="457200" cy="380880"/>
              <a:chOff x="5105520" y="2590560"/>
              <a:chExt cx="457200" cy="380880"/>
            </a:xfrm>
          </p:grpSpPr>
          <p:sp>
            <p:nvSpPr>
              <p:cNvPr id="156" name=""/>
              <p:cNvSpPr/>
              <p:nvPr/>
            </p:nvSpPr>
            <p:spPr>
              <a:xfrm flipH="1">
                <a:off x="5105520" y="259056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105520" y="259056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5791320" y="2590560"/>
              <a:ext cx="457200" cy="380880"/>
              <a:chOff x="5791320" y="2590560"/>
              <a:chExt cx="457200" cy="380880"/>
            </a:xfrm>
          </p:grpSpPr>
          <p:sp>
            <p:nvSpPr>
              <p:cNvPr id="159" name=""/>
              <p:cNvSpPr/>
              <p:nvPr/>
            </p:nvSpPr>
            <p:spPr>
              <a:xfrm flipH="1">
                <a:off x="5791320" y="259056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791320" y="259056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6477120" y="2590560"/>
              <a:ext cx="457200" cy="380880"/>
              <a:chOff x="6477120" y="2590560"/>
              <a:chExt cx="457200" cy="380880"/>
            </a:xfrm>
          </p:grpSpPr>
          <p:sp>
            <p:nvSpPr>
              <p:cNvPr id="162" name=""/>
              <p:cNvSpPr/>
              <p:nvPr/>
            </p:nvSpPr>
            <p:spPr>
              <a:xfrm flipH="1">
                <a:off x="6477120" y="259056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477120" y="259056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7086600" y="2590560"/>
              <a:ext cx="457200" cy="380880"/>
              <a:chOff x="7086600" y="2590560"/>
              <a:chExt cx="457200" cy="380880"/>
            </a:xfrm>
          </p:grpSpPr>
          <p:sp>
            <p:nvSpPr>
              <p:cNvPr id="165" name=""/>
              <p:cNvSpPr/>
              <p:nvPr/>
            </p:nvSpPr>
            <p:spPr>
              <a:xfrm flipH="1">
                <a:off x="7086600" y="259056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086600" y="259056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7772400" y="2590560"/>
              <a:ext cx="457200" cy="380880"/>
              <a:chOff x="7772400" y="2590560"/>
              <a:chExt cx="457200" cy="380880"/>
            </a:xfrm>
          </p:grpSpPr>
          <p:sp>
            <p:nvSpPr>
              <p:cNvPr id="168" name=""/>
              <p:cNvSpPr/>
              <p:nvPr/>
            </p:nvSpPr>
            <p:spPr>
              <a:xfrm flipH="1">
                <a:off x="7772400" y="259056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772400" y="259056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8458200" y="2590560"/>
              <a:ext cx="457200" cy="380880"/>
              <a:chOff x="8458200" y="2590560"/>
              <a:chExt cx="457200" cy="380880"/>
            </a:xfrm>
          </p:grpSpPr>
          <p:sp>
            <p:nvSpPr>
              <p:cNvPr id="171" name=""/>
              <p:cNvSpPr/>
              <p:nvPr/>
            </p:nvSpPr>
            <p:spPr>
              <a:xfrm flipH="1">
                <a:off x="8458200" y="259056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458200" y="259056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5105520" y="1981080"/>
              <a:ext cx="457200" cy="380880"/>
              <a:chOff x="5105520" y="1981080"/>
              <a:chExt cx="457200" cy="380880"/>
            </a:xfrm>
          </p:grpSpPr>
          <p:sp>
            <p:nvSpPr>
              <p:cNvPr id="174" name=""/>
              <p:cNvSpPr/>
              <p:nvPr/>
            </p:nvSpPr>
            <p:spPr>
              <a:xfrm flipH="1">
                <a:off x="5105520" y="198108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105520" y="198108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91320" y="1981080"/>
              <a:ext cx="457200" cy="380880"/>
              <a:chOff x="5791320" y="1981080"/>
              <a:chExt cx="457200" cy="380880"/>
            </a:xfrm>
          </p:grpSpPr>
          <p:sp>
            <p:nvSpPr>
              <p:cNvPr id="177" name=""/>
              <p:cNvSpPr/>
              <p:nvPr/>
            </p:nvSpPr>
            <p:spPr>
              <a:xfrm flipH="1">
                <a:off x="5791320" y="198108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791320" y="198108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6477120" y="1981080"/>
              <a:ext cx="457200" cy="380880"/>
              <a:chOff x="6477120" y="1981080"/>
              <a:chExt cx="457200" cy="380880"/>
            </a:xfrm>
          </p:grpSpPr>
          <p:sp>
            <p:nvSpPr>
              <p:cNvPr id="180" name=""/>
              <p:cNvSpPr/>
              <p:nvPr/>
            </p:nvSpPr>
            <p:spPr>
              <a:xfrm flipH="1">
                <a:off x="6477120" y="198108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477120" y="198108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7086600" y="1981080"/>
              <a:ext cx="457200" cy="380880"/>
              <a:chOff x="7086600" y="1981080"/>
              <a:chExt cx="457200" cy="380880"/>
            </a:xfrm>
          </p:grpSpPr>
          <p:sp>
            <p:nvSpPr>
              <p:cNvPr id="183" name=""/>
              <p:cNvSpPr/>
              <p:nvPr/>
            </p:nvSpPr>
            <p:spPr>
              <a:xfrm flipH="1">
                <a:off x="7086600" y="198108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086600" y="198108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7772400" y="1981080"/>
              <a:ext cx="457200" cy="380880"/>
              <a:chOff x="7772400" y="1981080"/>
              <a:chExt cx="457200" cy="380880"/>
            </a:xfrm>
          </p:grpSpPr>
          <p:sp>
            <p:nvSpPr>
              <p:cNvPr id="186" name=""/>
              <p:cNvSpPr/>
              <p:nvPr/>
            </p:nvSpPr>
            <p:spPr>
              <a:xfrm flipH="1">
                <a:off x="7772400" y="198108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772400" y="198108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8458200" y="1981080"/>
              <a:ext cx="457200" cy="380880"/>
              <a:chOff x="8458200" y="1981080"/>
              <a:chExt cx="457200" cy="380880"/>
            </a:xfrm>
          </p:grpSpPr>
          <p:sp>
            <p:nvSpPr>
              <p:cNvPr id="189" name=""/>
              <p:cNvSpPr/>
              <p:nvPr/>
            </p:nvSpPr>
            <p:spPr>
              <a:xfrm flipH="1">
                <a:off x="8458200" y="198108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458200" y="198108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105520" y="1371600"/>
              <a:ext cx="457200" cy="380880"/>
              <a:chOff x="5105520" y="1371600"/>
              <a:chExt cx="457200" cy="380880"/>
            </a:xfrm>
          </p:grpSpPr>
          <p:sp>
            <p:nvSpPr>
              <p:cNvPr id="192" name=""/>
              <p:cNvSpPr/>
              <p:nvPr/>
            </p:nvSpPr>
            <p:spPr>
              <a:xfrm flipH="1">
                <a:off x="5105520" y="137160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105520" y="137160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5791320" y="1371600"/>
              <a:ext cx="457200" cy="380880"/>
              <a:chOff x="5791320" y="1371600"/>
              <a:chExt cx="457200" cy="380880"/>
            </a:xfrm>
          </p:grpSpPr>
          <p:sp>
            <p:nvSpPr>
              <p:cNvPr id="195" name=""/>
              <p:cNvSpPr/>
              <p:nvPr/>
            </p:nvSpPr>
            <p:spPr>
              <a:xfrm flipH="1">
                <a:off x="5791320" y="137160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91320" y="137160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6477120" y="1371600"/>
              <a:ext cx="457200" cy="380880"/>
              <a:chOff x="6477120" y="1371600"/>
              <a:chExt cx="457200" cy="380880"/>
            </a:xfrm>
          </p:grpSpPr>
          <p:sp>
            <p:nvSpPr>
              <p:cNvPr id="198" name=""/>
              <p:cNvSpPr/>
              <p:nvPr/>
            </p:nvSpPr>
            <p:spPr>
              <a:xfrm flipH="1">
                <a:off x="6477120" y="137160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477120" y="137160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7086600" y="1371600"/>
              <a:ext cx="457200" cy="380880"/>
              <a:chOff x="7086600" y="1371600"/>
              <a:chExt cx="457200" cy="380880"/>
            </a:xfrm>
          </p:grpSpPr>
          <p:sp>
            <p:nvSpPr>
              <p:cNvPr id="201" name=""/>
              <p:cNvSpPr/>
              <p:nvPr/>
            </p:nvSpPr>
            <p:spPr>
              <a:xfrm flipH="1">
                <a:off x="7086600" y="137160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086600" y="137160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7772400" y="1371600"/>
              <a:ext cx="457200" cy="380880"/>
              <a:chOff x="7772400" y="1371600"/>
              <a:chExt cx="457200" cy="380880"/>
            </a:xfrm>
          </p:grpSpPr>
          <p:sp>
            <p:nvSpPr>
              <p:cNvPr id="204" name=""/>
              <p:cNvSpPr/>
              <p:nvPr/>
            </p:nvSpPr>
            <p:spPr>
              <a:xfrm flipH="1">
                <a:off x="7772400" y="137160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772400" y="137160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458200" y="1371600"/>
              <a:ext cx="457200" cy="380880"/>
              <a:chOff x="8458200" y="1371600"/>
              <a:chExt cx="457200" cy="380880"/>
            </a:xfrm>
          </p:grpSpPr>
          <p:sp>
            <p:nvSpPr>
              <p:cNvPr id="207" name=""/>
              <p:cNvSpPr/>
              <p:nvPr/>
            </p:nvSpPr>
            <p:spPr>
              <a:xfrm flipH="1">
                <a:off x="8458200" y="137160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458200" y="1371600"/>
                <a:ext cx="457200" cy="38088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" name=""/>
          <p:cNvGrpSpPr/>
          <p:nvPr/>
        </p:nvGrpSpPr>
        <p:grpSpPr>
          <a:xfrm>
            <a:off x="6400800" y="3943440"/>
            <a:ext cx="767880" cy="449280"/>
            <a:chOff x="6400800" y="3943440"/>
            <a:chExt cx="767880" cy="449280"/>
          </a:xfrm>
        </p:grpSpPr>
        <p:sp>
          <p:nvSpPr>
            <p:cNvPr id="210" name=""/>
            <p:cNvSpPr/>
            <p:nvPr/>
          </p:nvSpPr>
          <p:spPr>
            <a:xfrm flipV="1">
              <a:off x="6400800" y="3943440"/>
              <a:ext cx="82440" cy="449280"/>
            </a:xfrm>
            <a:custGeom>
              <a:avLst/>
              <a:gdLst/>
              <a:ahLst/>
              <a:rect l="l" t="t" r="r" b="b"/>
              <a:pathLst>
                <a:path w="52" h="283">
                  <a:moveTo>
                    <a:pt x="0" y="0"/>
                  </a:moveTo>
                  <a:cubicBezTo>
                    <a:pt x="14" y="21"/>
                    <a:pt x="50" y="39"/>
                    <a:pt x="42" y="63"/>
                  </a:cubicBezTo>
                  <a:cubicBezTo>
                    <a:pt x="35" y="84"/>
                    <a:pt x="21" y="126"/>
                    <a:pt x="21" y="126"/>
                  </a:cubicBezTo>
                  <a:cubicBezTo>
                    <a:pt x="29" y="151"/>
                    <a:pt x="52" y="173"/>
                    <a:pt x="52" y="199"/>
                  </a:cubicBezTo>
                  <a:cubicBezTo>
                    <a:pt x="52" y="215"/>
                    <a:pt x="35" y="226"/>
                    <a:pt x="31" y="241"/>
                  </a:cubicBezTo>
                  <a:cubicBezTo>
                    <a:pt x="28" y="255"/>
                    <a:pt x="31" y="269"/>
                    <a:pt x="31" y="283"/>
                  </a:cubicBezTo>
                </a:path>
              </a:pathLst>
            </a:custGeom>
            <a:noFill/>
            <a:ln w="572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553080" y="3943440"/>
              <a:ext cx="151920" cy="449280"/>
            </a:xfrm>
            <a:custGeom>
              <a:avLst/>
              <a:gdLst/>
              <a:ahLst/>
              <a:rect l="l" t="t" r="r" b="b"/>
              <a:pathLst>
                <a:path w="52" h="283">
                  <a:moveTo>
                    <a:pt x="0" y="0"/>
                  </a:moveTo>
                  <a:cubicBezTo>
                    <a:pt x="14" y="21"/>
                    <a:pt x="50" y="39"/>
                    <a:pt x="42" y="63"/>
                  </a:cubicBezTo>
                  <a:cubicBezTo>
                    <a:pt x="35" y="84"/>
                    <a:pt x="21" y="126"/>
                    <a:pt x="21" y="126"/>
                  </a:cubicBezTo>
                  <a:cubicBezTo>
                    <a:pt x="29" y="151"/>
                    <a:pt x="52" y="173"/>
                    <a:pt x="52" y="199"/>
                  </a:cubicBezTo>
                  <a:cubicBezTo>
                    <a:pt x="52" y="215"/>
                    <a:pt x="35" y="226"/>
                    <a:pt x="31" y="241"/>
                  </a:cubicBezTo>
                  <a:cubicBezTo>
                    <a:pt x="28" y="255"/>
                    <a:pt x="31" y="269"/>
                    <a:pt x="31" y="283"/>
                  </a:cubicBezTo>
                </a:path>
              </a:pathLst>
            </a:custGeom>
            <a:noFill/>
            <a:ln w="572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6781680" y="3943440"/>
              <a:ext cx="82080" cy="449280"/>
            </a:xfrm>
            <a:custGeom>
              <a:avLst/>
              <a:gdLst/>
              <a:ahLst/>
              <a:rect l="l" t="t" r="r" b="b"/>
              <a:pathLst>
                <a:path w="52" h="283">
                  <a:moveTo>
                    <a:pt x="0" y="0"/>
                  </a:moveTo>
                  <a:cubicBezTo>
                    <a:pt x="14" y="21"/>
                    <a:pt x="50" y="39"/>
                    <a:pt x="42" y="63"/>
                  </a:cubicBezTo>
                  <a:cubicBezTo>
                    <a:pt x="35" y="84"/>
                    <a:pt x="21" y="126"/>
                    <a:pt x="21" y="126"/>
                  </a:cubicBezTo>
                  <a:cubicBezTo>
                    <a:pt x="29" y="151"/>
                    <a:pt x="52" y="173"/>
                    <a:pt x="52" y="199"/>
                  </a:cubicBezTo>
                  <a:cubicBezTo>
                    <a:pt x="52" y="215"/>
                    <a:pt x="35" y="226"/>
                    <a:pt x="31" y="241"/>
                  </a:cubicBezTo>
                  <a:cubicBezTo>
                    <a:pt x="28" y="255"/>
                    <a:pt x="31" y="269"/>
                    <a:pt x="31" y="283"/>
                  </a:cubicBezTo>
                </a:path>
              </a:pathLst>
            </a:custGeom>
            <a:noFill/>
            <a:ln w="572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6857640" y="3943440"/>
              <a:ext cx="152280" cy="449280"/>
            </a:xfrm>
            <a:custGeom>
              <a:avLst/>
              <a:gdLst/>
              <a:ahLst/>
              <a:rect l="l" t="t" r="r" b="b"/>
              <a:pathLst>
                <a:path w="52" h="283">
                  <a:moveTo>
                    <a:pt x="0" y="0"/>
                  </a:moveTo>
                  <a:cubicBezTo>
                    <a:pt x="14" y="21"/>
                    <a:pt x="50" y="39"/>
                    <a:pt x="42" y="63"/>
                  </a:cubicBezTo>
                  <a:cubicBezTo>
                    <a:pt x="35" y="84"/>
                    <a:pt x="21" y="126"/>
                    <a:pt x="21" y="126"/>
                  </a:cubicBezTo>
                  <a:cubicBezTo>
                    <a:pt x="29" y="151"/>
                    <a:pt x="52" y="173"/>
                    <a:pt x="52" y="199"/>
                  </a:cubicBezTo>
                  <a:cubicBezTo>
                    <a:pt x="52" y="215"/>
                    <a:pt x="35" y="226"/>
                    <a:pt x="31" y="241"/>
                  </a:cubicBezTo>
                  <a:cubicBezTo>
                    <a:pt x="28" y="255"/>
                    <a:pt x="31" y="269"/>
                    <a:pt x="31" y="283"/>
                  </a:cubicBezTo>
                </a:path>
              </a:pathLst>
            </a:custGeom>
            <a:noFill/>
            <a:ln w="572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086240" y="3943440"/>
              <a:ext cx="82440" cy="449280"/>
            </a:xfrm>
            <a:custGeom>
              <a:avLst/>
              <a:gdLst/>
              <a:ahLst/>
              <a:rect l="l" t="t" r="r" b="b"/>
              <a:pathLst>
                <a:path w="52" h="283">
                  <a:moveTo>
                    <a:pt x="0" y="0"/>
                  </a:moveTo>
                  <a:cubicBezTo>
                    <a:pt x="14" y="21"/>
                    <a:pt x="50" y="39"/>
                    <a:pt x="42" y="63"/>
                  </a:cubicBezTo>
                  <a:cubicBezTo>
                    <a:pt x="35" y="84"/>
                    <a:pt x="21" y="126"/>
                    <a:pt x="21" y="126"/>
                  </a:cubicBezTo>
                  <a:cubicBezTo>
                    <a:pt x="29" y="151"/>
                    <a:pt x="52" y="173"/>
                    <a:pt x="52" y="199"/>
                  </a:cubicBezTo>
                  <a:cubicBezTo>
                    <a:pt x="52" y="215"/>
                    <a:pt x="35" y="226"/>
                    <a:pt x="31" y="241"/>
                  </a:cubicBezTo>
                  <a:cubicBezTo>
                    <a:pt x="28" y="255"/>
                    <a:pt x="31" y="269"/>
                    <a:pt x="31" y="283"/>
                  </a:cubicBezTo>
                </a:path>
              </a:pathLst>
            </a:custGeom>
            <a:noFill/>
            <a:ln w="572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H="1" flipV="1">
            <a:off x="6248160" y="2571840"/>
            <a:ext cx="533160" cy="38088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6774480" y="2365560"/>
            <a:ext cx="7560" cy="5562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81680" y="2952720"/>
            <a:ext cx="685800" cy="7632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781680" y="2190240"/>
            <a:ext cx="22860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3029040"/>
            <a:ext cx="228600" cy="2286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7467480" y="2800080"/>
            <a:ext cx="381240" cy="2286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3029040"/>
            <a:ext cx="76212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7010280" y="1809720"/>
            <a:ext cx="152640" cy="38088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248520" y="2419200"/>
            <a:ext cx="228600" cy="1526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05720" y="2190600"/>
            <a:ext cx="30456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781680" y="2419200"/>
            <a:ext cx="685800" cy="53352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791320" y="2571840"/>
            <a:ext cx="457200" cy="2286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6095880" y="2190240"/>
            <a:ext cx="152640" cy="3812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781680" y="2419200"/>
            <a:ext cx="1067040" cy="53352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4181400"/>
            <a:ext cx="4648320" cy="307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Средство-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: «метод» проб и ошибок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4638600"/>
            <a:ext cx="4648320" cy="520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редства-2</a:t>
            </a:r>
            <a:r>
              <a:rPr b="0" lang="ru-RU" sz="2000" spc="-1" strike="noStrike">
                <a:solidFill>
                  <a:srgbClr val="00ffff"/>
                </a:solidFill>
                <a:latin typeface="Arial"/>
              </a:rPr>
              <a:t>: «мозговой штурм», синектика и др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5324400"/>
            <a:ext cx="4648320" cy="307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Средства-3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: МФО, МКВ и др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5857920"/>
            <a:ext cx="4648320" cy="3070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b2b2"/>
                </a:solidFill>
                <a:latin typeface="Arial"/>
              </a:rPr>
              <a:t>Средства-4</a:t>
            </a:r>
            <a:r>
              <a:rPr b="0" lang="ru-RU" sz="2000" spc="-1" strike="noStrike">
                <a:solidFill>
                  <a:srgbClr val="b2b2b2"/>
                </a:solidFill>
                <a:latin typeface="Arial"/>
              </a:rPr>
              <a:t>: морфанализ и др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6477120" y="3045960"/>
            <a:ext cx="609480" cy="422280"/>
          </a:xfrm>
          <a:custGeom>
            <a:avLst/>
            <a:gdLst>
              <a:gd name="textAreaLeft" fmla="*/ 75960 w 609480"/>
              <a:gd name="textAreaRight" fmla="*/ 533520 w 609480"/>
              <a:gd name="textAreaTop" fmla="*/ 105480 h 422280"/>
              <a:gd name="textAreaBottom" fmla="*/ 316800 h 42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5867280" y="2952720"/>
            <a:ext cx="914400" cy="763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5790960" y="2952720"/>
            <a:ext cx="990360" cy="7621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781680" y="2952720"/>
            <a:ext cx="685800" cy="12952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81680" y="2952720"/>
            <a:ext cx="990720" cy="6192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6781680" y="2114640"/>
            <a:ext cx="1143000" cy="8380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5409720" y="3638520"/>
            <a:ext cx="381240" cy="763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5409720" y="3714840"/>
            <a:ext cx="381240" cy="3045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91320" y="3714840"/>
            <a:ext cx="75960" cy="3045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7467480" y="1809360"/>
            <a:ext cx="457200" cy="3049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7924680" y="1809360"/>
            <a:ext cx="228600" cy="3049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924680" y="2114640"/>
            <a:ext cx="533520" cy="759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851800" y="2465640"/>
            <a:ext cx="15120" cy="5803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5440680" y="2562120"/>
            <a:ext cx="437760" cy="4820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5458320" y="3021120"/>
            <a:ext cx="397440" cy="79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5467320" y="3022200"/>
            <a:ext cx="383400" cy="4359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467480" y="4248000"/>
            <a:ext cx="304920" cy="763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467480" y="4248000"/>
            <a:ext cx="0" cy="3049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3600">
            <a:off x="6400800" y="340992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6552720" y="2190240"/>
            <a:ext cx="228600" cy="685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553080" y="1961640"/>
            <a:ext cx="304920" cy="2286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6095880" y="2114280"/>
            <a:ext cx="457200" cy="759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6476760" y="1809720"/>
            <a:ext cx="75960" cy="3808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3080" y="34862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10280" y="50292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068560" y="2541600"/>
            <a:ext cx="1147680" cy="1282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75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Цель 1: Найти идею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720800" y="2260440"/>
            <a:ext cx="1774800" cy="1903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772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Цель 2: Найти много идей</a:t>
            </a:r>
            <a:endParaRPr b="0" lang="en-US" sz="2400" spc="1" strike="noStrike">
              <a:ln w="9360">
                <a:solidFill>
                  <a:srgbClr val="00ffff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407960" y="1978200"/>
            <a:ext cx="2400480" cy="2577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204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Цель 3: Найти много разных идей</a:t>
            </a:r>
            <a:endParaRPr b="0" lang="en-US" sz="24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90720" y="1590840"/>
            <a:ext cx="3200400" cy="3352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34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c0c0c0"/>
                </a:solidFill>
                <a:latin typeface="Arial"/>
              </a:rPr>
              <a:t>Цель 4: Найти все возможные идеи</a:t>
            </a:r>
            <a:endParaRPr b="0" lang="en-US" sz="2400" spc="1" strike="noStrike">
              <a:ln w="9360">
                <a:solidFill>
                  <a:srgbClr val="c0c0c0"/>
                </a:solidFill>
                <a:miter/>
              </a:ln>
              <a:solidFill>
                <a:srgbClr val="c0c0c0"/>
              </a:solidFill>
              <a:latin typeface="Arial"/>
              <a:ea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2162160" y="2886120"/>
            <a:ext cx="961560" cy="990720"/>
            <a:chOff x="2162160" y="2886120"/>
            <a:chExt cx="961560" cy="990720"/>
          </a:xfrm>
        </p:grpSpPr>
        <p:sp>
          <p:nvSpPr>
            <p:cNvPr id="263" name=""/>
            <p:cNvSpPr/>
            <p:nvPr/>
          </p:nvSpPr>
          <p:spPr>
            <a:xfrm>
              <a:off x="2223720" y="2886120"/>
              <a:ext cx="838080" cy="9907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062160" y="3269520"/>
              <a:ext cx="61560" cy="1760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62160" y="3269520"/>
              <a:ext cx="61560" cy="1760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446200" y="3436920"/>
            <a:ext cx="372600" cy="298080"/>
            <a:chOff x="2446200" y="3436920"/>
            <a:chExt cx="372600" cy="298080"/>
          </a:xfrm>
        </p:grpSpPr>
        <p:sp>
          <p:nvSpPr>
            <p:cNvPr id="267" name=""/>
            <p:cNvSpPr/>
            <p:nvPr/>
          </p:nvSpPr>
          <p:spPr>
            <a:xfrm flipV="1">
              <a:off x="2446200" y="3497760"/>
              <a:ext cx="372600" cy="149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" y="12732"/>
                  </a:moveTo>
                  <a:arcTo wR="10800" hR="10800" stAng="10181709" swAng="11418291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" y="12732"/>
                  </a:moveTo>
                  <a:arcTo wR="10800" hR="10800" stAng="10181709" swAng="11418291"/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2446200" y="3436920"/>
              <a:ext cx="372600" cy="29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" y="12732"/>
                  </a:moveTo>
                  <a:arcTo wR="10800" hR="10800" stAng="10181709" swAng="11418291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" y="12732"/>
                  </a:moveTo>
                  <a:arcTo wR="10800" hR="10800" stAng="10181709" swAng="11418291"/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376720" y="3257280"/>
            <a:ext cx="533160" cy="194400"/>
            <a:chOff x="2376720" y="3257280"/>
            <a:chExt cx="533160" cy="194400"/>
          </a:xfrm>
        </p:grpSpPr>
        <p:sp>
          <p:nvSpPr>
            <p:cNvPr id="270" name=""/>
            <p:cNvSpPr/>
            <p:nvPr/>
          </p:nvSpPr>
          <p:spPr>
            <a:xfrm flipH="1" flipV="1">
              <a:off x="2705040" y="3257280"/>
              <a:ext cx="20484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2376720" y="3257640"/>
              <a:ext cx="2044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2377080" y="3346200"/>
              <a:ext cx="204120" cy="98640"/>
              <a:chOff x="2377080" y="3346200"/>
              <a:chExt cx="204120" cy="98640"/>
            </a:xfrm>
          </p:grpSpPr>
          <p:sp>
            <p:nvSpPr>
              <p:cNvPr id="273" name=""/>
              <p:cNvSpPr/>
              <p:nvPr/>
            </p:nvSpPr>
            <p:spPr>
              <a:xfrm flipH="1">
                <a:off x="2376720" y="3346200"/>
                <a:ext cx="204120" cy="98640"/>
              </a:xfrm>
              <a:prstGeom prst="ellipse">
                <a:avLst/>
              </a:prstGeom>
              <a:noFill/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477880" y="3346200"/>
                <a:ext cx="0" cy="9864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05400" y="3353040"/>
              <a:ext cx="204480" cy="98640"/>
              <a:chOff x="2705400" y="3353040"/>
              <a:chExt cx="204480" cy="98640"/>
            </a:xfrm>
          </p:grpSpPr>
          <p:sp>
            <p:nvSpPr>
              <p:cNvPr id="276" name=""/>
              <p:cNvSpPr/>
              <p:nvPr/>
            </p:nvSpPr>
            <p:spPr>
              <a:xfrm flipH="1">
                <a:off x="2705400" y="3353040"/>
                <a:ext cx="204480" cy="98640"/>
              </a:xfrm>
              <a:prstGeom prst="ellipse">
                <a:avLst/>
              </a:prstGeom>
              <a:noFill/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06200" y="3353040"/>
                <a:ext cx="0" cy="9864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2604960" y="2733840"/>
            <a:ext cx="182520" cy="234360"/>
            <a:chOff x="2604960" y="2733840"/>
            <a:chExt cx="182520" cy="234360"/>
          </a:xfrm>
        </p:grpSpPr>
        <p:sp>
          <p:nvSpPr>
            <p:cNvPr id="279" name=""/>
            <p:cNvSpPr/>
            <p:nvPr/>
          </p:nvSpPr>
          <p:spPr>
            <a:xfrm>
              <a:off x="2604960" y="2733840"/>
              <a:ext cx="182520" cy="165960"/>
            </a:xfrm>
            <a:custGeom>
              <a:avLst/>
              <a:gdLst/>
              <a:ahLst/>
              <a:rect l="l" t="t" r="r" b="b"/>
              <a:pathLst>
                <a:path w="279" h="318">
                  <a:moveTo>
                    <a:pt x="0" y="45"/>
                  </a:moveTo>
                  <a:cubicBezTo>
                    <a:pt x="13" y="39"/>
                    <a:pt x="23" y="30"/>
                    <a:pt x="36" y="23"/>
                  </a:cubicBezTo>
                  <a:cubicBezTo>
                    <a:pt x="66" y="8"/>
                    <a:pt x="103" y="5"/>
                    <a:pt x="138" y="0"/>
                  </a:cubicBezTo>
                  <a:cubicBezTo>
                    <a:pt x="152" y="4"/>
                    <a:pt x="166" y="10"/>
                    <a:pt x="180" y="14"/>
                  </a:cubicBezTo>
                  <a:cubicBezTo>
                    <a:pt x="207" y="20"/>
                    <a:pt x="222" y="20"/>
                    <a:pt x="246" y="32"/>
                  </a:cubicBezTo>
                  <a:cubicBezTo>
                    <a:pt x="254" y="41"/>
                    <a:pt x="262" y="50"/>
                    <a:pt x="270" y="59"/>
                  </a:cubicBezTo>
                  <a:cubicBezTo>
                    <a:pt x="279" y="69"/>
                    <a:pt x="267" y="83"/>
                    <a:pt x="264" y="95"/>
                  </a:cubicBezTo>
                  <a:cubicBezTo>
                    <a:pt x="255" y="135"/>
                    <a:pt x="194" y="178"/>
                    <a:pt x="150" y="200"/>
                  </a:cubicBezTo>
                  <a:cubicBezTo>
                    <a:pt x="124" y="220"/>
                    <a:pt x="117" y="198"/>
                    <a:pt x="108" y="218"/>
                  </a:cubicBezTo>
                  <a:cubicBezTo>
                    <a:pt x="95" y="259"/>
                    <a:pt x="96" y="263"/>
                    <a:pt x="96" y="318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49240" y="2923560"/>
              <a:ext cx="31680" cy="44640"/>
            </a:xfrm>
            <a:prstGeom prst="ellipse">
              <a:avLst/>
            </a:prstGeom>
            <a:solidFill>
              <a:srgbClr val="ffff99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304920" y="1522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Эволюция целей и средств творческого поиска - 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7772400" y="3266640"/>
            <a:ext cx="228600" cy="3049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772400" y="3571920"/>
            <a:ext cx="152280" cy="3049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7A5DC-BCDF-49B9-A98E-4099C47F65A3}" type="slidenum">
              <a:t>3</a:t>
            </a:fld>
          </a:p>
        </p:txBody>
      </p:sp>
    </p:spTree>
  </p:cSld>
  <p:transition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7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4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1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35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45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6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7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8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85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90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95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05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10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15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2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4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5000"/>
                            </p:stCondLst>
                            <p:childTnLst>
                              <p:par>
                                <p:cTn id="2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5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04920" y="5106960"/>
            <a:ext cx="4343400" cy="53280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Средство-5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: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ТРИЗ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91320" y="4419720"/>
            <a:ext cx="1371600" cy="28954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4200" y="15272"/>
                </a:moveTo>
                <a:arcTo wR="-7972" hR="-7972" stAng="8752763" swAng="-5282949"/>
                <a:lnTo>
                  <a:pt x="5050" y="1658"/>
                </a:lnTo>
                <a:arcTo wR="10800" hR="10800" stAng="-7330186" swAng="5282949"/>
                <a:lnTo>
                  <a:pt x="21976" y="3227"/>
                </a:lnTo>
                <a:lnTo>
                  <a:pt x="20878" y="8941"/>
                </a:lnTo>
                <a:lnTo>
                  <a:pt x="15164" y="7843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07932" dir="135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162920" y="5791320"/>
            <a:ext cx="761760" cy="53316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76320">
            <a:solidFill>
              <a:srgbClr val="ffff00"/>
            </a:solidFill>
            <a:miter/>
          </a:ln>
          <a:effectLst>
            <a:outerShdw dist="107932" dir="135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 rot="6226800">
            <a:off x="6892920" y="4101120"/>
            <a:ext cx="2197080" cy="533520"/>
          </a:xfrm>
          <a:prstGeom prst="leftArrow">
            <a:avLst>
              <a:gd name="adj1" fmla="val 39898"/>
              <a:gd name="adj2" fmla="val 50466"/>
            </a:avLst>
          </a:prstGeom>
          <a:solidFill>
            <a:srgbClr val="ff3300"/>
          </a:solidFill>
          <a:ln w="9360">
            <a:solidFill>
              <a:srgbClr val="ffff00"/>
            </a:solidFill>
            <a:miter/>
          </a:ln>
          <a:effectLst>
            <a:outerShdw dist="107932" dir="135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181120" y="4198680"/>
            <a:ext cx="768240" cy="1440000"/>
            <a:chOff x="5181120" y="4198680"/>
            <a:chExt cx="768240" cy="1440000"/>
          </a:xfrm>
        </p:grpSpPr>
        <p:grpSp>
          <p:nvGrpSpPr>
            <p:cNvPr id="289" name=""/>
            <p:cNvGrpSpPr/>
            <p:nvPr/>
          </p:nvGrpSpPr>
          <p:grpSpPr>
            <a:xfrm>
              <a:off x="5181120" y="4198680"/>
              <a:ext cx="768240" cy="1440000"/>
              <a:chOff x="5181120" y="4198680"/>
              <a:chExt cx="768240" cy="144000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5181480" y="5189400"/>
                <a:ext cx="767880" cy="449280"/>
                <a:chOff x="5181480" y="5189400"/>
                <a:chExt cx="767880" cy="449280"/>
              </a:xfrm>
            </p:grpSpPr>
            <p:sp>
              <p:nvSpPr>
                <p:cNvPr id="291" name=""/>
                <p:cNvSpPr/>
                <p:nvPr/>
              </p:nvSpPr>
              <p:spPr>
                <a:xfrm flipV="1">
                  <a:off x="5181480" y="5189400"/>
                  <a:ext cx="82440" cy="449280"/>
                </a:xfrm>
                <a:custGeom>
                  <a:avLst/>
                  <a:gdLst/>
                  <a:ahLst/>
                  <a:rect l="l" t="t" r="r" b="b"/>
                  <a:pathLst>
                    <a:path w="52" h="283">
                      <a:moveTo>
                        <a:pt x="0" y="0"/>
                      </a:moveTo>
                      <a:cubicBezTo>
                        <a:pt x="14" y="21"/>
                        <a:pt x="50" y="39"/>
                        <a:pt x="42" y="63"/>
                      </a:cubicBezTo>
                      <a:cubicBezTo>
                        <a:pt x="35" y="84"/>
                        <a:pt x="21" y="126"/>
                        <a:pt x="21" y="126"/>
                      </a:cubicBezTo>
                      <a:cubicBezTo>
                        <a:pt x="29" y="151"/>
                        <a:pt x="52" y="173"/>
                        <a:pt x="52" y="199"/>
                      </a:cubicBezTo>
                      <a:cubicBezTo>
                        <a:pt x="52" y="215"/>
                        <a:pt x="35" y="226"/>
                        <a:pt x="31" y="241"/>
                      </a:cubicBezTo>
                      <a:cubicBezTo>
                        <a:pt x="28" y="255"/>
                        <a:pt x="31" y="269"/>
                        <a:pt x="31" y="283"/>
                      </a:cubicBezTo>
                    </a:path>
                  </a:pathLst>
                </a:custGeom>
                <a:noFill/>
                <a:ln w="57240">
                  <a:solidFill>
                    <a:srgbClr val="cc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333760" y="5189400"/>
                  <a:ext cx="151920" cy="449280"/>
                </a:xfrm>
                <a:custGeom>
                  <a:avLst/>
                  <a:gdLst/>
                  <a:ahLst/>
                  <a:rect l="l" t="t" r="r" b="b"/>
                  <a:pathLst>
                    <a:path w="52" h="283">
                      <a:moveTo>
                        <a:pt x="0" y="0"/>
                      </a:moveTo>
                      <a:cubicBezTo>
                        <a:pt x="14" y="21"/>
                        <a:pt x="50" y="39"/>
                        <a:pt x="42" y="63"/>
                      </a:cubicBezTo>
                      <a:cubicBezTo>
                        <a:pt x="35" y="84"/>
                        <a:pt x="21" y="126"/>
                        <a:pt x="21" y="126"/>
                      </a:cubicBezTo>
                      <a:cubicBezTo>
                        <a:pt x="29" y="151"/>
                        <a:pt x="52" y="173"/>
                        <a:pt x="52" y="199"/>
                      </a:cubicBezTo>
                      <a:cubicBezTo>
                        <a:pt x="52" y="215"/>
                        <a:pt x="35" y="226"/>
                        <a:pt x="31" y="241"/>
                      </a:cubicBezTo>
                      <a:cubicBezTo>
                        <a:pt x="28" y="255"/>
                        <a:pt x="31" y="269"/>
                        <a:pt x="31" y="283"/>
                      </a:cubicBezTo>
                    </a:path>
                  </a:pathLst>
                </a:custGeom>
                <a:noFill/>
                <a:ln w="57240">
                  <a:solidFill>
                    <a:srgbClr val="cc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>
                  <a:off x="5562360" y="5189400"/>
                  <a:ext cx="82080" cy="449280"/>
                </a:xfrm>
                <a:custGeom>
                  <a:avLst/>
                  <a:gdLst/>
                  <a:ahLst/>
                  <a:rect l="l" t="t" r="r" b="b"/>
                  <a:pathLst>
                    <a:path w="52" h="283">
                      <a:moveTo>
                        <a:pt x="0" y="0"/>
                      </a:moveTo>
                      <a:cubicBezTo>
                        <a:pt x="14" y="21"/>
                        <a:pt x="50" y="39"/>
                        <a:pt x="42" y="63"/>
                      </a:cubicBezTo>
                      <a:cubicBezTo>
                        <a:pt x="35" y="84"/>
                        <a:pt x="21" y="126"/>
                        <a:pt x="21" y="126"/>
                      </a:cubicBezTo>
                      <a:cubicBezTo>
                        <a:pt x="29" y="151"/>
                        <a:pt x="52" y="173"/>
                        <a:pt x="52" y="199"/>
                      </a:cubicBezTo>
                      <a:cubicBezTo>
                        <a:pt x="52" y="215"/>
                        <a:pt x="35" y="226"/>
                        <a:pt x="31" y="241"/>
                      </a:cubicBezTo>
                      <a:cubicBezTo>
                        <a:pt x="28" y="255"/>
                        <a:pt x="31" y="269"/>
                        <a:pt x="31" y="283"/>
                      </a:cubicBezTo>
                    </a:path>
                  </a:pathLst>
                </a:custGeom>
                <a:noFill/>
                <a:ln w="57240">
                  <a:solidFill>
                    <a:srgbClr val="cc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V="1">
                  <a:off x="5638320" y="5189400"/>
                  <a:ext cx="152280" cy="449280"/>
                </a:xfrm>
                <a:custGeom>
                  <a:avLst/>
                  <a:gdLst/>
                  <a:ahLst/>
                  <a:rect l="l" t="t" r="r" b="b"/>
                  <a:pathLst>
                    <a:path w="52" h="283">
                      <a:moveTo>
                        <a:pt x="0" y="0"/>
                      </a:moveTo>
                      <a:cubicBezTo>
                        <a:pt x="14" y="21"/>
                        <a:pt x="50" y="39"/>
                        <a:pt x="42" y="63"/>
                      </a:cubicBezTo>
                      <a:cubicBezTo>
                        <a:pt x="35" y="84"/>
                        <a:pt x="21" y="126"/>
                        <a:pt x="21" y="126"/>
                      </a:cubicBezTo>
                      <a:cubicBezTo>
                        <a:pt x="29" y="151"/>
                        <a:pt x="52" y="173"/>
                        <a:pt x="52" y="199"/>
                      </a:cubicBezTo>
                      <a:cubicBezTo>
                        <a:pt x="52" y="215"/>
                        <a:pt x="35" y="226"/>
                        <a:pt x="31" y="241"/>
                      </a:cubicBezTo>
                      <a:cubicBezTo>
                        <a:pt x="28" y="255"/>
                        <a:pt x="31" y="269"/>
                        <a:pt x="31" y="283"/>
                      </a:cubicBezTo>
                    </a:path>
                  </a:pathLst>
                </a:custGeom>
                <a:noFill/>
                <a:ln w="57240">
                  <a:solidFill>
                    <a:srgbClr val="cc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866920" y="5189400"/>
                  <a:ext cx="82440" cy="449280"/>
                </a:xfrm>
                <a:custGeom>
                  <a:avLst/>
                  <a:gdLst/>
                  <a:ahLst/>
                  <a:rect l="l" t="t" r="r" b="b"/>
                  <a:pathLst>
                    <a:path w="52" h="283">
                      <a:moveTo>
                        <a:pt x="0" y="0"/>
                      </a:moveTo>
                      <a:cubicBezTo>
                        <a:pt x="14" y="21"/>
                        <a:pt x="50" y="39"/>
                        <a:pt x="42" y="63"/>
                      </a:cubicBezTo>
                      <a:cubicBezTo>
                        <a:pt x="35" y="84"/>
                        <a:pt x="21" y="126"/>
                        <a:pt x="21" y="126"/>
                      </a:cubicBezTo>
                      <a:cubicBezTo>
                        <a:pt x="29" y="151"/>
                        <a:pt x="52" y="173"/>
                        <a:pt x="52" y="199"/>
                      </a:cubicBezTo>
                      <a:cubicBezTo>
                        <a:pt x="52" y="215"/>
                        <a:pt x="35" y="226"/>
                        <a:pt x="31" y="241"/>
                      </a:cubicBezTo>
                      <a:cubicBezTo>
                        <a:pt x="28" y="255"/>
                        <a:pt x="31" y="269"/>
                        <a:pt x="31" y="283"/>
                      </a:cubicBezTo>
                    </a:path>
                  </a:pathLst>
                </a:custGeom>
                <a:noFill/>
                <a:ln w="57240">
                  <a:solidFill>
                    <a:srgbClr val="cc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 rot="16200000">
                <a:off x="5257800" y="4292280"/>
                <a:ext cx="609480" cy="422280"/>
              </a:xfrm>
              <a:custGeom>
                <a:avLst/>
                <a:gdLst>
                  <a:gd name="textAreaLeft" fmla="*/ 75960 w 609480"/>
                  <a:gd name="textAreaRight" fmla="*/ 533520 w 609480"/>
                  <a:gd name="textAreaTop" fmla="*/ 105480 h 422280"/>
                  <a:gd name="textAreaBottom" fmla="*/ 316800 h 42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3600">
                <a:off x="5181480" y="4656240"/>
                <a:ext cx="762120" cy="53316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5333760" y="4732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з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7391520" y="58672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з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210280" y="1632240"/>
            <a:ext cx="2579400" cy="1436760"/>
            <a:chOff x="5210280" y="1632240"/>
            <a:chExt cx="2579400" cy="1436760"/>
          </a:xfrm>
        </p:grpSpPr>
        <p:sp>
          <p:nvSpPr>
            <p:cNvPr id="301" name=""/>
            <p:cNvSpPr/>
            <p:nvPr/>
          </p:nvSpPr>
          <p:spPr>
            <a:xfrm rot="16632600">
              <a:off x="5937120" y="1127520"/>
              <a:ext cx="1125360" cy="2457720"/>
            </a:xfrm>
            <a:custGeom>
              <a:avLst/>
              <a:gdLst>
                <a:gd name="textAreaLeft" fmla="*/ 313920 w 1125360"/>
                <a:gd name="textAreaRight" fmla="*/ 811440 w 1125360"/>
                <a:gd name="textAreaTop" fmla="*/ 685800 h 2457720"/>
                <a:gd name="textAreaBottom" fmla="*/ 1771920 h 245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899" y="21600"/>
                  </a:lnTo>
                  <a:lnTo>
                    <a:pt x="7701" y="21600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64000" y="1632240"/>
              <a:ext cx="2373120" cy="69912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5239800" y="2661480"/>
              <a:ext cx="2458800" cy="972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6264720" y="2327400"/>
              <a:ext cx="1379160" cy="176400"/>
            </a:xfrm>
            <a:prstGeom prst="line">
              <a:avLst/>
            </a:prstGeom>
            <a:ln w="38160">
              <a:solidFill>
                <a:srgbClr val="000099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334120" y="1814400"/>
            <a:ext cx="761760" cy="685800"/>
            <a:chOff x="5334120" y="1814400"/>
            <a:chExt cx="761760" cy="685800"/>
          </a:xfrm>
        </p:grpSpPr>
        <p:sp>
          <p:nvSpPr>
            <p:cNvPr id="306" name=""/>
            <p:cNvSpPr/>
            <p:nvPr/>
          </p:nvSpPr>
          <p:spPr>
            <a:xfrm>
              <a:off x="5334120" y="1814400"/>
              <a:ext cx="761760" cy="6858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  <a:effectLst>
              <a:outerShdw dist="99192" dir="2381944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472360" y="201996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Р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 txBox="1"/>
          <p:nvPr/>
        </p:nvSpPr>
        <p:spPr>
          <a:xfrm>
            <a:off x="1992240" y="3236760"/>
            <a:ext cx="1147680" cy="1282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75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777777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Цель 1: Найти идею</a:t>
            </a:r>
            <a:endParaRPr b="0" lang="en-US" sz="2400" spc="1" strike="noStrike">
              <a:ln w="9360">
                <a:solidFill>
                  <a:srgbClr val="777777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644480" y="2955960"/>
            <a:ext cx="1775160" cy="1903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772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69696"/>
                  </a:solidFill>
                  <a:miter/>
                </a:ln>
                <a:solidFill>
                  <a:srgbClr val="969696"/>
                </a:solidFill>
                <a:latin typeface="Arial"/>
              </a:rPr>
              <a:t>Цель 2: Найти много идей</a:t>
            </a:r>
            <a:endParaRPr b="0" lang="en-US" sz="2400" spc="1" strike="noStrike">
              <a:ln w="9360">
                <a:solidFill>
                  <a:srgbClr val="969696"/>
                </a:solidFill>
                <a:miter/>
              </a:ln>
              <a:solidFill>
                <a:srgbClr val="969696"/>
              </a:solidFill>
              <a:latin typeface="Arial"/>
              <a:ea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332000" y="2673360"/>
            <a:ext cx="2400120" cy="2577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204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b2b2b2"/>
                  </a:solidFill>
                  <a:miter/>
                </a:ln>
                <a:solidFill>
                  <a:srgbClr val="b2b2b2"/>
                </a:solidFill>
                <a:latin typeface="Arial"/>
              </a:rPr>
              <a:t>Цель 3: Найти много разных идей</a:t>
            </a:r>
            <a:endParaRPr b="0" lang="en-US" sz="2400" spc="1" strike="noStrike">
              <a:ln w="9360">
                <a:solidFill>
                  <a:srgbClr val="b2b2b2"/>
                </a:solidFill>
                <a:miter/>
              </a:ln>
              <a:solidFill>
                <a:srgbClr val="b2b2b2"/>
              </a:solidFill>
              <a:latin typeface="Arial"/>
              <a:ea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914400" y="2286000"/>
            <a:ext cx="3200400" cy="3352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34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c0c0c0"/>
                </a:solidFill>
                <a:latin typeface="Arial"/>
              </a:rPr>
              <a:t>Цель 4: Найти все возможные идеи</a:t>
            </a:r>
            <a:endParaRPr b="0" lang="en-US" sz="2400" spc="1" strike="noStrike">
              <a:ln w="9360">
                <a:solidFill>
                  <a:srgbClr val="c0c0c0"/>
                </a:solidFill>
                <a:miter/>
              </a:ln>
              <a:solidFill>
                <a:srgbClr val="c0c0c0"/>
              </a:solidFill>
              <a:latin typeface="Arial"/>
              <a:ea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085840" y="3581280"/>
            <a:ext cx="962280" cy="990720"/>
            <a:chOff x="2085840" y="3581280"/>
            <a:chExt cx="962280" cy="990720"/>
          </a:xfrm>
        </p:grpSpPr>
        <p:sp>
          <p:nvSpPr>
            <p:cNvPr id="313" name=""/>
            <p:cNvSpPr/>
            <p:nvPr/>
          </p:nvSpPr>
          <p:spPr>
            <a:xfrm>
              <a:off x="2147760" y="3581280"/>
              <a:ext cx="838440" cy="9907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986200" y="3964680"/>
              <a:ext cx="61920" cy="1760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85840" y="3964680"/>
              <a:ext cx="61920" cy="1760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2370240" y="4131720"/>
            <a:ext cx="372600" cy="298800"/>
            <a:chOff x="2370240" y="4131720"/>
            <a:chExt cx="372600" cy="298800"/>
          </a:xfrm>
        </p:grpSpPr>
        <p:sp>
          <p:nvSpPr>
            <p:cNvPr id="317" name=""/>
            <p:cNvSpPr/>
            <p:nvPr/>
          </p:nvSpPr>
          <p:spPr>
            <a:xfrm flipV="1">
              <a:off x="2370240" y="4192920"/>
              <a:ext cx="372600" cy="149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" y="12732"/>
                  </a:moveTo>
                  <a:arcTo wR="10800" hR="10800" stAng="10181709" swAng="11418291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" y="12732"/>
                  </a:moveTo>
                  <a:arcTo wR="10800" hR="10800" stAng="10181709" swAng="11418291"/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370240" y="4131720"/>
              <a:ext cx="372600" cy="29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" y="12732"/>
                  </a:moveTo>
                  <a:arcTo wR="10800" hR="10800" stAng="10181709" swAng="11418291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" y="12732"/>
                  </a:moveTo>
                  <a:arcTo wR="10800" hR="10800" stAng="10181709" swAng="11418291"/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300040" y="3952440"/>
            <a:ext cx="533160" cy="194760"/>
            <a:chOff x="2300040" y="3952440"/>
            <a:chExt cx="533160" cy="194760"/>
          </a:xfrm>
        </p:grpSpPr>
        <p:sp>
          <p:nvSpPr>
            <p:cNvPr id="320" name=""/>
            <p:cNvSpPr/>
            <p:nvPr/>
          </p:nvSpPr>
          <p:spPr>
            <a:xfrm flipH="1" flipV="1">
              <a:off x="2628360" y="3952440"/>
              <a:ext cx="20484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300040" y="3952800"/>
              <a:ext cx="2044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2300400" y="4041720"/>
              <a:ext cx="204120" cy="99000"/>
              <a:chOff x="2300400" y="4041720"/>
              <a:chExt cx="204120" cy="99000"/>
            </a:xfrm>
          </p:grpSpPr>
          <p:sp>
            <p:nvSpPr>
              <p:cNvPr id="323" name=""/>
              <p:cNvSpPr/>
              <p:nvPr/>
            </p:nvSpPr>
            <p:spPr>
              <a:xfrm flipH="1">
                <a:off x="2300040" y="4041720"/>
                <a:ext cx="204120" cy="99000"/>
              </a:xfrm>
              <a:prstGeom prst="ellipse">
                <a:avLst/>
              </a:prstGeom>
              <a:noFill/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401200" y="4041720"/>
                <a:ext cx="0" cy="9900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2628720" y="4048200"/>
              <a:ext cx="204480" cy="99000"/>
              <a:chOff x="2628720" y="4048200"/>
              <a:chExt cx="204480" cy="99000"/>
            </a:xfrm>
          </p:grpSpPr>
          <p:sp>
            <p:nvSpPr>
              <p:cNvPr id="326" name=""/>
              <p:cNvSpPr/>
              <p:nvPr/>
            </p:nvSpPr>
            <p:spPr>
              <a:xfrm flipH="1">
                <a:off x="2628720" y="4048200"/>
                <a:ext cx="204480" cy="99000"/>
              </a:xfrm>
              <a:prstGeom prst="ellipse">
                <a:avLst/>
              </a:prstGeom>
              <a:noFill/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729520" y="4048200"/>
                <a:ext cx="0" cy="9900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8" name=""/>
          <p:cNvGrpSpPr/>
          <p:nvPr/>
        </p:nvGrpSpPr>
        <p:grpSpPr>
          <a:xfrm>
            <a:off x="2529000" y="3429000"/>
            <a:ext cx="182520" cy="234720"/>
            <a:chOff x="2529000" y="3429000"/>
            <a:chExt cx="182520" cy="234720"/>
          </a:xfrm>
        </p:grpSpPr>
        <p:sp>
          <p:nvSpPr>
            <p:cNvPr id="329" name=""/>
            <p:cNvSpPr/>
            <p:nvPr/>
          </p:nvSpPr>
          <p:spPr>
            <a:xfrm>
              <a:off x="2529000" y="3429000"/>
              <a:ext cx="182520" cy="166320"/>
            </a:xfrm>
            <a:custGeom>
              <a:avLst/>
              <a:gdLst/>
              <a:ahLst/>
              <a:rect l="l" t="t" r="r" b="b"/>
              <a:pathLst>
                <a:path w="279" h="318">
                  <a:moveTo>
                    <a:pt x="0" y="45"/>
                  </a:moveTo>
                  <a:cubicBezTo>
                    <a:pt x="13" y="39"/>
                    <a:pt x="23" y="30"/>
                    <a:pt x="36" y="23"/>
                  </a:cubicBezTo>
                  <a:cubicBezTo>
                    <a:pt x="66" y="8"/>
                    <a:pt x="103" y="5"/>
                    <a:pt x="138" y="0"/>
                  </a:cubicBezTo>
                  <a:cubicBezTo>
                    <a:pt x="152" y="4"/>
                    <a:pt x="166" y="10"/>
                    <a:pt x="180" y="14"/>
                  </a:cubicBezTo>
                  <a:cubicBezTo>
                    <a:pt x="207" y="20"/>
                    <a:pt x="222" y="20"/>
                    <a:pt x="246" y="32"/>
                  </a:cubicBezTo>
                  <a:cubicBezTo>
                    <a:pt x="254" y="41"/>
                    <a:pt x="262" y="50"/>
                    <a:pt x="270" y="59"/>
                  </a:cubicBezTo>
                  <a:cubicBezTo>
                    <a:pt x="279" y="69"/>
                    <a:pt x="267" y="83"/>
                    <a:pt x="264" y="95"/>
                  </a:cubicBezTo>
                  <a:cubicBezTo>
                    <a:pt x="255" y="135"/>
                    <a:pt x="194" y="178"/>
                    <a:pt x="150" y="200"/>
                  </a:cubicBezTo>
                  <a:cubicBezTo>
                    <a:pt x="124" y="220"/>
                    <a:pt x="117" y="198"/>
                    <a:pt x="108" y="218"/>
                  </a:cubicBezTo>
                  <a:cubicBezTo>
                    <a:pt x="95" y="259"/>
                    <a:pt x="96" y="263"/>
                    <a:pt x="96" y="318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73280" y="3619080"/>
              <a:ext cx="31680" cy="44640"/>
            </a:xfrm>
            <a:prstGeom prst="ellipse">
              <a:avLst/>
            </a:prstGeom>
            <a:solidFill>
              <a:srgbClr val="ffff99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 txBox="1"/>
          <p:nvPr/>
        </p:nvSpPr>
        <p:spPr>
          <a:xfrm>
            <a:off x="457200" y="1828800"/>
            <a:ext cx="4114800" cy="3809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26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Цель 5: Найти одну, но СИЛЬНУЮ идею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7924680" y="2057400"/>
            <a:ext cx="914400" cy="914400"/>
            <a:chOff x="7924680" y="2057400"/>
            <a:chExt cx="914400" cy="914400"/>
          </a:xfrm>
        </p:grpSpPr>
        <p:sp>
          <p:nvSpPr>
            <p:cNvPr id="333" name=""/>
            <p:cNvSpPr/>
            <p:nvPr/>
          </p:nvSpPr>
          <p:spPr>
            <a:xfrm>
              <a:off x="7924680" y="2057400"/>
              <a:ext cx="914400" cy="914400"/>
            </a:xfrm>
            <a:prstGeom prst="star5">
              <a:avLst/>
            </a:prstGeom>
            <a:solidFill>
              <a:srgbClr val="ff3300"/>
            </a:solidFill>
            <a:ln w="0">
              <a:noFill/>
            </a:ln>
            <a:effectLst>
              <a:outerShdw dist="63504" dir="2216091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077320" y="24066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КР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380880" y="152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Кардинальное изменение принципа (качества цели) – Цель - 5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ED739-5154-41B6-8422-64F3CD34B0B4}" type="slidenum">
              <a:t>4</a:t>
            </a:fld>
          </a:p>
        </p:txBody>
      </p:sp>
    </p:spTree>
  </p:cSld>
  <p:transition>
    <p:fade thruBlk="true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7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75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500"/>
                            </p:stCondLst>
                            <p:childTnLst>
                              <p:par>
                                <p:cTn id="282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457200" y="762120"/>
            <a:ext cx="8001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Г.С. Альтшуллер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на основе </a:t>
            </a:r>
            <a:r>
              <a:rPr b="0" i="1" lang="en-US" sz="2400" spc="-1" strike="noStrike">
                <a:solidFill>
                  <a:srgbClr val="00ffff"/>
                </a:solidFill>
                <a:latin typeface="Arial"/>
              </a:rPr>
              <a:t>нового подхода – исследования изобретательства как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массового явления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, установил, что: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1) изобретения отличаются по уровням – чем выше уровень, тем эффективнее изобретение, но при этом изменяется и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содержание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этапов поиска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2) изобретательское решение достигается за счёт </a:t>
            </a: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разрешения противоречия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3) встречаются </a:t>
            </a: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типовые приёмы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разрешения противоречий – нередко совершенно разные изобретения создаются одним и тем же типовым приёмом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4) Вся совокупность техники – техносфера, - развивается по своим законам, являющимся модификациями трёх законов диалектики.   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0880" y="152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Новый подход и его основы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C1B13-5D0A-4F18-85BC-4F0D40CD2687}" type="slidenum">
              <a:t>5</a:t>
            </a:fld>
          </a:p>
        </p:txBody>
      </p:sp>
    </p:spTree>
  </p:cSld>
  <p:transition>
    <p:fade thruBlk="true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533520" y="1255680"/>
            <a:ext cx="815328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.С. Альтшуллером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была создана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новая методика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зобретательства, содержащая 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процедуры и правила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пошаговой работы с информацией - </a:t>
            </a:r>
            <a:r>
              <a:rPr b="0" lang="ru-RU" sz="2400" spc="-1" strike="noStrike">
                <a:solidFill>
                  <a:srgbClr val="66ff99"/>
                </a:solidFill>
                <a:latin typeface="Arial"/>
              </a:rPr>
              <a:t>Алгоритм решения изобретательских задач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66ff99"/>
                </a:solidFill>
                <a:latin typeface="Arial"/>
              </a:rPr>
              <a:t>АРИЗ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),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  <a:ea typeface="Arial"/>
              </a:rPr>
              <a:t>–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реализующая качественно новую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Цель 5: найти сильную идею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о временем появились и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новые методинструменты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«стандарты»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на решение задач типичных классов, 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фонды изобретательских эффектов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методы развития творческого воображения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и другие, - объединённые со временем в </a:t>
            </a:r>
            <a:r>
              <a:rPr b="0" lang="ru-RU" sz="2400" spc="-1" strike="noStrike">
                <a:solidFill>
                  <a:srgbClr val="66ff99"/>
                </a:solidFill>
                <a:latin typeface="Arial"/>
              </a:rPr>
              <a:t>Теорию решения изобретательских задач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66ff99"/>
                </a:solidFill>
                <a:latin typeface="Arial"/>
              </a:rPr>
              <a:t>ТРИЗ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0880" y="304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Рождение ТРИЗ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8521A-40B0-4A71-9FDC-5E5EFEBC78CC}" type="slidenum">
              <a:t>6</a:t>
            </a:fld>
          </a:p>
        </p:txBody>
      </p:sp>
    </p:spTree>
  </p:cSld>
  <p:transition>
    <p:fade thruBlk="true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80880" y="4572000"/>
            <a:ext cx="8382240" cy="1600200"/>
          </a:xfrm>
          <a:prstGeom prst="ellipse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189840" y="4952880"/>
            <a:ext cx="1506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156b13"/>
                    </a:gs>
                  </a:gsLst>
                  <a:lin ang="5400000"/>
                </a:gradFill>
                <a:latin typeface="Arial Black"/>
              </a:rPr>
              <a:t>ТРТЛ</a:t>
            </a:r>
            <a:endParaRPr b="1" lang="en-US" sz="2400" spc="1" strike="noStrike">
              <a:ln w="1260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629160" y="4952880"/>
            <a:ext cx="1506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 Black"/>
              </a:rPr>
              <a:t>ТРТС</a:t>
            </a:r>
            <a:endParaRPr b="1" lang="en-US" sz="2400" spc="1" strike="noStrike">
              <a:ln w="1260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143000" y="4952880"/>
            <a:ext cx="1506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ТРИЗ</a:t>
            </a:r>
            <a:endParaRPr b="1" lang="en-US" sz="2400" spc="1" strike="noStrike">
              <a:ln w="1260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2847960" y="5062680"/>
            <a:ext cx="654120" cy="5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+</a:t>
            </a:r>
            <a:endParaRPr b="1" lang="en-US" sz="2400" spc="1" strike="noStrike">
              <a:ln w="1260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361120" y="5029200"/>
            <a:ext cx="653760" cy="5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+</a:t>
            </a:r>
            <a:endParaRPr b="1" lang="en-US" sz="2400" spc="1" strike="noStrike">
              <a:ln w="1260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533520" y="3429000"/>
            <a:ext cx="4647600" cy="990360"/>
            <a:chOff x="533520" y="3429000"/>
            <a:chExt cx="4647600" cy="990360"/>
          </a:xfrm>
        </p:grpSpPr>
        <p:sp>
          <p:nvSpPr>
            <p:cNvPr id="347" name=""/>
            <p:cNvSpPr/>
            <p:nvPr/>
          </p:nvSpPr>
          <p:spPr>
            <a:xfrm>
              <a:off x="533520" y="3429000"/>
              <a:ext cx="4647600" cy="9903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3120" y="3676320"/>
              <a:ext cx="395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Техническая ТРИЗ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800600" y="2819520"/>
            <a:ext cx="3809520" cy="990000"/>
            <a:chOff x="4800600" y="2819520"/>
            <a:chExt cx="3809520" cy="990000"/>
          </a:xfrm>
        </p:grpSpPr>
        <p:sp>
          <p:nvSpPr>
            <p:cNvPr id="350" name=""/>
            <p:cNvSpPr/>
            <p:nvPr/>
          </p:nvSpPr>
          <p:spPr>
            <a:xfrm>
              <a:off x="4800600" y="2819520"/>
              <a:ext cx="3809520" cy="9900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23600" y="3089520"/>
              <a:ext cx="287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ТРИЗ-педагогика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143000" y="2286000"/>
            <a:ext cx="3809520" cy="914400"/>
            <a:chOff x="1143000" y="2286000"/>
            <a:chExt cx="3809520" cy="914400"/>
          </a:xfrm>
        </p:grpSpPr>
        <p:sp>
          <p:nvSpPr>
            <p:cNvPr id="353" name=""/>
            <p:cNvSpPr/>
            <p:nvPr/>
          </p:nvSpPr>
          <p:spPr>
            <a:xfrm>
              <a:off x="1143000" y="2286000"/>
              <a:ext cx="3809520" cy="9144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19280" y="2514600"/>
              <a:ext cx="297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Бизнес-ТРИЗ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495680" y="1752480"/>
            <a:ext cx="3885480" cy="761760"/>
            <a:chOff x="4495680" y="1752480"/>
            <a:chExt cx="3885480" cy="761760"/>
          </a:xfrm>
        </p:grpSpPr>
        <p:sp>
          <p:nvSpPr>
            <p:cNvPr id="356" name=""/>
            <p:cNvSpPr/>
            <p:nvPr/>
          </p:nvSpPr>
          <p:spPr>
            <a:xfrm>
              <a:off x="4495680" y="1752480"/>
              <a:ext cx="3700080" cy="7617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495680" y="1881360"/>
              <a:ext cx="388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оцио-ТРИЗ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905120" y="1219320"/>
            <a:ext cx="2819160" cy="744480"/>
            <a:chOff x="1905120" y="1219320"/>
            <a:chExt cx="2819160" cy="744480"/>
          </a:xfrm>
        </p:grpSpPr>
        <p:sp>
          <p:nvSpPr>
            <p:cNvPr id="359" name=""/>
            <p:cNvSpPr/>
            <p:nvPr/>
          </p:nvSpPr>
          <p:spPr>
            <a:xfrm>
              <a:off x="1905120" y="1219320"/>
              <a:ext cx="2819160" cy="7444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11000" y="1293480"/>
              <a:ext cx="160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724280" y="914400"/>
            <a:ext cx="2895480" cy="550800"/>
            <a:chOff x="4724280" y="914400"/>
            <a:chExt cx="2895480" cy="550800"/>
          </a:xfrm>
        </p:grpSpPr>
        <p:sp>
          <p:nvSpPr>
            <p:cNvPr id="362" name=""/>
            <p:cNvSpPr/>
            <p:nvPr/>
          </p:nvSpPr>
          <p:spPr>
            <a:xfrm>
              <a:off x="4724280" y="914400"/>
              <a:ext cx="2895480" cy="5508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44920" y="968400"/>
              <a:ext cx="165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380880" y="152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Развитие современной ТРИЗ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CA092-7DE3-475C-ACC7-2724F845058C}" type="slidenum">
              <a:t>7</a:t>
            </a:fld>
          </a:p>
        </p:txBody>
      </p:sp>
    </p:spTree>
  </p:cSld>
  <p:transition>
    <p:fade thruBlk="true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5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152280" y="1371600"/>
          <a:ext cx="883944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71600"/>
                    <a:ext cx="883944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380880" y="152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Рост востребованности информации по ТРИЗ в Интернет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C0779-31D6-4135-A9B1-01ADC1BB4BB1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04920" y="990720"/>
            <a:ext cx="853416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И</a:t>
            </a:r>
            <a:r>
              <a:rPr b="1" lang="uk-UA" sz="2400" spc="-1" strike="noStrike" u="sng">
                <a:solidFill>
                  <a:srgbClr val="ffff00"/>
                </a:solidFill>
                <a:uFillTx/>
                <a:latin typeface="Arial"/>
              </a:rPr>
              <a:t>нтеллектуальная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Т</a:t>
            </a:r>
            <a:r>
              <a:rPr b="1" lang="uk-UA" sz="2400" spc="-1" strike="noStrike" u="sng">
                <a:solidFill>
                  <a:srgbClr val="ffff00"/>
                </a:solidFill>
                <a:uFillTx/>
                <a:latin typeface="Arial"/>
              </a:rPr>
              <a:t>ехнология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С</a:t>
            </a:r>
            <a:r>
              <a:rPr b="1" lang="uk-UA" sz="2400" spc="-1" strike="noStrike" u="sng">
                <a:solidFill>
                  <a:srgbClr val="ffff00"/>
                </a:solidFill>
                <a:uFillTx/>
                <a:latin typeface="Arial"/>
              </a:rPr>
              <a:t>озидания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uk-UA" sz="2400" spc="-1" strike="noStrike" u="sng">
                <a:solidFill>
                  <a:srgbClr val="ffff00"/>
                </a:solidFill>
                <a:uFillTx/>
                <a:latin typeface="Arial"/>
              </a:rPr>
              <a:t>(ИТС)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– это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ff99"/>
                </a:solidFill>
                <a:latin typeface="Arial"/>
              </a:rPr>
              <a:t>увеличение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 3 раза</a:t>
            </a:r>
            <a:r>
              <a:rPr b="0" lang="ru-RU" sz="2400" spc="-1" strike="noStrike">
                <a:solidFill>
                  <a:srgbClr val="ccff99"/>
                </a:solidFill>
                <a:latin typeface="Arial"/>
              </a:rPr>
              <a:t> производительности творческого труда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ff99"/>
                </a:solidFill>
                <a:latin typeface="Arial"/>
              </a:rPr>
              <a:t>повышение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 5 – 10 раз</a:t>
            </a:r>
            <a:r>
              <a:rPr b="0" lang="ru-RU" sz="2400" spc="-1" strike="noStrike">
                <a:solidFill>
                  <a:srgbClr val="ccff99"/>
                </a:solidFill>
                <a:latin typeface="Arial"/>
              </a:rPr>
              <a:t> вероятности появления сильных разработок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ff99"/>
                </a:solidFill>
                <a:latin typeface="Arial"/>
              </a:rPr>
              <a:t>расширение возможностей использования </a:t>
            </a:r>
            <a:r>
              <a:rPr b="0" lang="uk-UA" sz="2400" spc="-1" strike="noStrike">
                <a:solidFill>
                  <a:srgbClr val="ccff99"/>
                </a:solidFill>
                <a:latin typeface="Arial"/>
              </a:rPr>
              <a:t>ИТС во всех сферах человеческой деятельности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0880" y="152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Основные эффекты ИТС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3520" y="4724280"/>
            <a:ext cx="8076960" cy="1068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Главный вывод: освоение ИТС надо организовывать по целевым программам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4B404-A973-4BE0-9742-70B23C9B5F59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20:21:00Z</dcterms:created>
  <dc:creator>Антоненко</dc:creator>
  <dc:description/>
  <dc:language>en-US</dc:language>
  <cp:lastModifiedBy>Cris</cp:lastModifiedBy>
  <dcterms:modified xsi:type="dcterms:W3CDTF">2005-10-03T14:16:22Z</dcterms:modified>
  <cp:revision>42</cp:revision>
  <dc:subject/>
  <dc:title>Презентация PowerPoint</dc:title>
</cp:coreProperties>
</file>