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C31-1580-4BD5-835C-904495FF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70866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79080"/>
            <a:ext cx="70866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EC8-4F8E-4276-9416-F4183B65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7908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16760" y="397908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AE8-B0A2-422E-86E8-34EB2188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1600" y="358092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7760" y="358092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7908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1600" y="397908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7760" y="397908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695-D01B-4C7D-9A7F-20A26CFC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29F7-A4FD-46FA-9379-AC8B42E4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0AEE-8427-43DF-9B12-E6851FFA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02D2-0584-41A2-84AF-185667B3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9FB6-AEE9-41DD-BC1D-6B0C3E89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6C58-DF21-4050-8834-5A1DCF2B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77724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228A-889A-453A-8DD7-AA2840C7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7908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E9FA-EDC5-4A38-BF9D-3711944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9F3-E44F-488A-B88A-1EED34EB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760" y="397908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9351-EEC3-4203-B8FA-7E23A994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79080"/>
            <a:ext cx="70866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15C8-5FD5-4F67-8647-C3644D7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70866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79080"/>
            <a:ext cx="70866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8DF4-D3A1-4E50-BC87-2DAC4B2C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7908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16760" y="397908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2B65-0F56-4879-A290-A0EE29F7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1600" y="358092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7760" y="358092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7908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1600" y="397908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77760" y="3979080"/>
            <a:ext cx="228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3252-1C9E-4952-A3E7-77B644F3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A0D-5181-418B-BFDD-7334DE98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C24-603F-4FDF-B379-C56F9C6E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FEB-637E-4F18-829F-9E85CBE4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77724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EE3-92C7-46E3-94AC-5ADD5F57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7908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B5D-1860-4BE0-9BF9-1321680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760" y="397908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6A6-F1EE-4907-ACCA-BE0AF880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16760" y="3580920"/>
            <a:ext cx="345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79080"/>
            <a:ext cx="70866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F95-52C4-4FDD-B593-1975F5A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775C-B78B-4B4B-8D13-02E955335C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F492-095B-44E4-B6D8-30D88AD10B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-561600"/>
            <a:ext cx="846108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ЛАСТ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НОВ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 ТЕХНОЛОГИЧЕСКОГО ТРАНСФЕРА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СПУБЛИКИ МОЛД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гентство по инноваци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трансферу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шка Альф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чальник управления развития, оце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мониторинга инновацио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85800"/>
            <a:ext cx="73915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вует в осуществлении партнер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й, высших учебных заведений 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енных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т объем финансов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игнований, необходимых дл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ки программ и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ует государствен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истрацию и учет программ и проек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рдинирует процесс созда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раструктуры, оказ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изированную помощ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ует выставки дости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ет иные функ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ленные законод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80880"/>
            <a:ext cx="7391520" cy="72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тельство финансирует инновационные проекты, отобранны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спертной Комисс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результате официального кон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лавные усло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новационный характер проек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конкурентноспособ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уктов, технологий и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ьный экономически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грация с препринимательски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финансирование на 40-50%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имост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92280" y="5183280"/>
            <a:ext cx="781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2 Динамика финансовых затрат для инновацион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304920"/>
          <a:ext cx="822960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4920"/>
                    <a:ext cx="8229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9528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85800"/>
            <a:ext cx="7391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международные конфер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инновациям и трансферу технологий, в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ицины и фармацев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гропромышленного се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кроэлектро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ы научные разработки, превращенные в конкурентноспособные товары, технологии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380880"/>
            <a:ext cx="739152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БЛЕМЫ ПРОЦЕССА УСПЕШНОГО ВНЕДРЕНИЯ НАУЧНЫХ РАЗРАБОТ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утствие достаточных финансовых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достаточная связь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ьским сек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рхностные маркетинг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ния, незнание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допонимание процесс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формации интеллекту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ственности в т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3352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остепен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сить к 2010 году асигнования 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ку и инноваций до 1% из ВВ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читать вклад науки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и и развитии ВВП,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ть неоходимую инфраструк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ать меры по успеш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ю и интеграцию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ой науки в европейскую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380880"/>
            <a:ext cx="73915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ИВ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ТЬ ВНЕД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ых разработок - через сеть малых и средних инновационных фирм, создание инновационно-технологических центров, научно-технологических парков, бизнес инкуб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грации науки, образования и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304920"/>
            <a:ext cx="73915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ревращения научных исследований и разработок в новый реализуемый на рынке това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екватное финанс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новационная инфра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рмативно-правовая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информацио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специалистов в вуз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ение квалификации нау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68580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устойчивого экономического подъема, интеграции в Европейском Сою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лечение инвестици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новационную сф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ние интеллектуально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ственности това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ширение сотрудничества, учас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еждународные программ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ция науки, образ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труктуризация научного потенци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квалифицированных кад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престижа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3623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6127920"/>
            <a:ext cx="708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05440"/>
            <a:ext cx="74674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 устойчивого развития человечества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тысячелетии - эффективное и целенаправленное использование научных разработок в производств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х активное включение в производственный проц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ст ВВП на 70-9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57400" y="6127920"/>
            <a:ext cx="708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-33840"/>
            <a:ext cx="746748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авные стратегические приоритеты Республики Молдо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новационное развит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здание обществ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анное на зн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грация в Европейск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ю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-125640"/>
            <a:ext cx="76122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 – КОД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 НАУКЕ И ИННОВА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N.259-XV от 15.07.2004) регламентир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вые отношения связанные 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ой и осуществл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ой политики в области наук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нов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ю в сфере нау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й, инноваций и трансфе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й, научно-технолог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кредитацией организаций в области наук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новаций, аттестацией научных и науч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х кад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ой интеллектуальной соб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1840"/>
            <a:ext cx="7874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АДЕМИЯ НА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И МОЛДОВ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ий орган администрати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сти в области науки и иннов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адемии Наук делегируются полномочия Правительства в сфере научных исследований и разработок, координирующая роль в области продвижения инноваций и трансфера технолог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Договор о партнерств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тельством сроком на 4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615636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810720"/>
            <a:ext cx="80773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АЯ 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ое социально-экономическое и человеческое развитие, основанное на стимулировании и максимально широком использовании научного, научно-технического и технологического потенциала, ориентированного на ценности открытого демократического общества, для создания и реализации конкурентоспособных и экологически чистых продуктов, услуг,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533520" y="609480"/>
          <a:ext cx="830556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609480"/>
                    <a:ext cx="83055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7040" y="5181480"/>
            <a:ext cx="63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1 Вложения из ВВП в области науки и иннов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2776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57400" y="615636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3880"/>
            <a:ext cx="8077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2005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 бюджета на нау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я обновления науч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ической ба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% для трансфера техноло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оритетная задача молдавских ученых - активное участие в международные и европейские программы и проекты, стажировка в престижные научные цент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57400" y="6127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 Международная научно-практическая конференция по инновационной деятельности «Проблемы и перспективы инновационного развития экономи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1-17 сентября 2005 г. Алуш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11320"/>
            <a:ext cx="80010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ЕНТ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ИННОВАЦИЯМ И ТРАНСФЕРУ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и инноваций и трансф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атывает предложения по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енствованию норматив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вой ба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направлени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и, которые отража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х и проектах всех уров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0:04:35Z</dcterms:created>
  <dc:creator>Director</dc:creator>
  <dc:description/>
  <dc:language>en-US</dc:language>
  <cp:lastModifiedBy>Cris</cp:lastModifiedBy>
  <dcterms:modified xsi:type="dcterms:W3CDTF">2005-10-03T14:18:02Z</dcterms:modified>
  <cp:revision>30</cp:revision>
  <dc:subject/>
  <dc:title>Slide 1</dc:title>
</cp:coreProperties>
</file>