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2.wmf" ContentType="image/x-wmf"/>
  <Override PartName="/ppt/media/image6.jpeg" ContentType="image/jpeg"/>
  <Override PartName="/ppt/media/image10.png" ContentType="image/png"/>
  <Override PartName="/ppt/media/image4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wmf" ContentType="image/x-wmf"/>
  <Override PartName="/ppt/media/image2.jpeg" ContentType="image/jpeg"/>
  <Override PartName="/ppt/media/image15.png" ContentType="image/pn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400800"/>
            <a:ext cx="799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ff99"/>
                </a:solidFill>
                <a:latin typeface="Arial"/>
              </a:rPr>
              <a:t>LvCSTEI – West Ukrainian Regional Contact point of 6FP, e</a:t>
            </a:r>
            <a:r>
              <a:rPr b="1" lang="uk-UA" sz="1300" spc="-1" strike="noStrike">
                <a:solidFill>
                  <a:srgbClr val="99ff99"/>
                </a:solidFill>
                <a:latin typeface="Arial"/>
              </a:rPr>
              <a:t>-</a:t>
            </a:r>
            <a:r>
              <a:rPr b="1" lang="en-US" sz="1300" spc="-1" strike="noStrike">
                <a:solidFill>
                  <a:srgbClr val="99ff99"/>
                </a:solidFill>
                <a:latin typeface="Arial"/>
              </a:rPr>
              <a:t>mail</a:t>
            </a:r>
            <a:r>
              <a:rPr b="1" lang="uk-UA" sz="1300" spc="-1" strike="noStrike">
                <a:solidFill>
                  <a:srgbClr val="99ff99"/>
                </a:solidFill>
                <a:latin typeface="Arial"/>
              </a:rPr>
              <a:t>:</a:t>
            </a:r>
            <a:r>
              <a:rPr b="1" lang="en-US" sz="1300" spc="-1" strike="noStrike">
                <a:solidFill>
                  <a:srgbClr val="99ff99"/>
                </a:solidFill>
                <a:latin typeface="Arial"/>
              </a:rPr>
              <a:t> cstei@cstei.lviv.u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stei@cstei.lviv.ua" TargetMode="External"/><Relationship Id="rId3" Type="http://schemas.openxmlformats.org/officeDocument/2006/relationships/hyperlink" Target="mailto:cstei@cstei.lviv.ua" TargetMode="External"/><Relationship Id="rId4" Type="http://schemas.openxmlformats.org/officeDocument/2006/relationships/hyperlink" Target="http://www.nas.gov.ua/ciptt/eu" TargetMode="External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luaris.org.pl/" TargetMode="External"/><Relationship Id="rId2" Type="http://schemas.openxmlformats.org/officeDocument/2006/relationships/hyperlink" Target="mailto:muha@cstei.lviv.ua" TargetMode="External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pk.gov.pl/pro_nms/" TargetMode="External"/><Relationship Id="rId2" Type="http://schemas.openxmlformats.org/officeDocument/2006/relationships/hyperlink" Target="http://www.atvn-eu-gp.pl/" TargetMode="External"/><Relationship Id="rId3" Type="http://schemas.openxmlformats.org/officeDocument/2006/relationships/hyperlink" Target="http://www.atvn.pl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44193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8000"/>
                </a:solidFill>
                <a:latin typeface="Arial"/>
              </a:rPr>
              <a:t>Про особливості трансформації регіонального центру науково-технічної і економічної інформації (ЦНТЕІ) у бізнес-інноваційний центр європейського зразка </a:t>
            </a:r>
            <a:br>
              <a:rPr sz="2000"/>
            </a:br>
            <a:r>
              <a:rPr b="1" lang="uk-UA" sz="2000" spc="-1" strike="noStrike">
                <a:solidFill>
                  <a:srgbClr val="808000"/>
                </a:solidFill>
                <a:latin typeface="Arial"/>
              </a:rPr>
              <a:t>(на прикладі Львівського ЦНТЕІ)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uk-UA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1919520" cy="19814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057400" y="2971800"/>
            <a:ext cx="6781680" cy="26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©</a:t>
            </a:r>
            <a:r>
              <a:rPr b="1" i="1" lang="uk-UA" sz="2600" spc="-1" strike="noStrike">
                <a:solidFill>
                  <a:srgbClr val="339933"/>
                </a:solidFill>
                <a:latin typeface="Times New Roman"/>
              </a:rPr>
              <a:t> МИХАЙЛО ЯВОРСЬК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9933"/>
                </a:solidFill>
                <a:latin typeface="Arial"/>
                <a:ea typeface="Times New Roman"/>
              </a:rPr>
              <a:t> </a:t>
            </a:r>
            <a:r>
              <a:rPr b="1" i="1" lang="uk-UA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к.т.н., директор Львівського центру науково-технічної і економічної інформаці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м.Львів, пр.В.Чорновола, 5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т/ф (+380 322) 52-27-4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ff66"/>
                </a:solidFill>
                <a:latin typeface="Times New Roman"/>
                <a:ea typeface="Times New Roman"/>
              </a:rPr>
              <a:t>url: </a:t>
            </a:r>
            <a:r>
              <a:rPr b="0" lang="en-GB" sz="26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2"/>
              </a:rPr>
              <a:t>http://</a:t>
            </a:r>
            <a:r>
              <a:rPr b="0" lang="en-GB" sz="26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3"/>
              </a:rPr>
              <a:t>www.cstei.lviv.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ff66"/>
                </a:solidFill>
                <a:latin typeface="Times New Roman"/>
                <a:ea typeface="Times New Roman"/>
              </a:rPr>
              <a:t>e-mail: </a:t>
            </a:r>
            <a:r>
              <a:rPr b="0" lang="en-GB" sz="26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4"/>
              </a:rPr>
              <a:t>cstei@cstei.lviv.ua</a:t>
            </a:r>
            <a:r>
              <a:rPr b="1" lang="en-GB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5"/>
          <a:stretch/>
        </p:blipFill>
        <p:spPr>
          <a:xfrm>
            <a:off x="228600" y="3048120"/>
            <a:ext cx="191628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6"/>
          <a:stretch/>
        </p:blipFill>
        <p:spPr>
          <a:xfrm>
            <a:off x="6705720" y="928800"/>
            <a:ext cx="2286000" cy="1966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29400" y="22860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808000"/>
                </a:solidFill>
                <a:latin typeface="Times New Roman"/>
              </a:rPr>
              <a:t>“</a:t>
            </a:r>
            <a:r>
              <a:rPr b="1" i="1" lang="uk-UA" sz="1600" spc="-1" strike="noStrike">
                <a:solidFill>
                  <a:srgbClr val="808000"/>
                </a:solidFill>
                <a:latin typeface="Times New Roman"/>
              </a:rPr>
              <a:t>Мислити глобально, а діяти локально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9240" y="1295280"/>
            <a:ext cx="4797360" cy="4953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934320" y="12952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RC EAST Po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53341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RC SOUTH Po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3049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RC Central Po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45720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RC WEST Po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80880"/>
            <a:ext cx="198144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Територія – 312,7 тис.м.к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Населення – біля 39 млн.чо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Діють чотири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RC-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консорціуми з просування інновацій, в яких задіяно 15 різних інституці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2286000"/>
            <a:ext cx="198108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На початок 2000-го року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у Польщі створено 273 центри, які діють у сфері освіти та консультування, фінансової допомоги, трансферу технологій та послуг для МСП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4571640" y="990720"/>
            <a:ext cx="1066680" cy="228600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400800" y="1828440"/>
            <a:ext cx="914400" cy="106668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257800"/>
            <a:ext cx="2286000" cy="5335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447920" y="3429000"/>
            <a:ext cx="2209680" cy="114300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5781600" cy="5943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72200" y="380880"/>
            <a:ext cx="259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PI 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центр обробки інформації, за своїми функціями подібний до ЦНТЕІ в Україні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312408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2362320"/>
            <a:ext cx="2514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оординатором в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RC South Poland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є центр трансферу технологій Краківської політехні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4267080"/>
            <a:ext cx="2209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 Польщі проект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RC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еалізується з 1997 року при фінансовій підтримці програми ЄС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FEMIRC Polska”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435480" cy="6477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733920" y="380880"/>
            <a:ext cx="51814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ольська мережа центрів інформації для науковців утворилася завдяки ініціативі Міністерства Науки та інформатизації Польщі при підтримці Європейської комісії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4202280" cy="5658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95880" y="533520"/>
            <a:ext cx="27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 оцінками експертів на початок ХХІ ст. у Німеччині буде нараховуватися біля 300 технологічних та інноваційних центрі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76520" y="152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сновки і рекомендаці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685800"/>
            <a:ext cx="4267440" cy="51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. В Україні де факто функціонують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Наукові центри НАН та МОН України 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егіональні осередки Всеукраїнського товариства винахідників та раціоналізаторів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егіональні осередки спілки наукових та інженерних товариств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Український інститут та регіональні ЦНТЕІ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отрібно виявити реальних ініціаторів створення регіональних інноваційних мереж та визначитися із способами їх державної підтрим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Моделі можуть бути різними, в залежності від позицій, можливостей, іміджу і т.п. структур, які проводять таку роботу в регіоні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2. У західному регіоні України певний досвід у сфері інформаційної підтримки науково-інноваційної діяльності має Львівський ЦНТЕІ, який реалізує інвестиційний проект “Розвиток інфраструктури підтримки науково-інноваційної та освітянської діяльності на базі Львівського центру науково-технічної і економічної інформації (ЛвЦНТЕІ)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684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2895480"/>
            <a:ext cx="3352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2-27-41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52-32-00, 52-30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yavor@cstei.lviv.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vanppp@cstei.lviv.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muha@cstei.lviv.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D04972_" descr=""/>
          <p:cNvPicPr/>
          <p:nvPr/>
        </p:nvPicPr>
        <p:blipFill>
          <a:blip r:embed="rId3"/>
          <a:stretch/>
        </p:blipFill>
        <p:spPr>
          <a:xfrm>
            <a:off x="1295280" y="457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00200" y="518148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Запрошуємо до співпраці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71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якую за уваг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105520" y="533520"/>
            <a:ext cx="2838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90720"/>
            <a:ext cx="2590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Територія – 603,7 тис. км. к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Населення – біля 47 млн.чо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29000" y="990720"/>
            <a:ext cx="5334120" cy="4784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ережа центрів науково-технічної і економічної інформації в Україн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85800" y="228600"/>
            <a:ext cx="7848720" cy="5867280"/>
            <a:chOff x="685800" y="228600"/>
            <a:chExt cx="7848720" cy="586728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685800" y="228600"/>
              <a:ext cx="784872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143000" y="380880"/>
              <a:ext cx="5029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cc"/>
                  </a:solidFill>
                  <a:latin typeface="Arial"/>
                </a:rPr>
                <a:t>Щорічний Інвестиційний ярмаро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Times New Roman"/>
                </a:rPr>
                <a:t>INVESTMENT FA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6948360" y="304920"/>
              <a:ext cx="120492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505320" y="1143000"/>
              <a:ext cx="16524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900" spc="-1" strike="noStrike" u="sng">
                  <a:solidFill>
                    <a:srgbClr val="000000"/>
                  </a:solidFill>
                  <a:uFillTx/>
                  <a:latin typeface="Arial"/>
                </a:rPr>
                <a:t>Салон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76720" y="2438280"/>
            <a:ext cx="5029200" cy="2527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52680" y="51055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IENCE AND INNOVATIO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304920" y="914400"/>
            <a:ext cx="8596080" cy="3842640"/>
            <a:chOff x="304920" y="914400"/>
            <a:chExt cx="8596080" cy="384264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884840" y="914400"/>
              <a:ext cx="401616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304920" y="1828800"/>
              <a:ext cx="41590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124080" y="2057400"/>
              <a:ext cx="139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Львів-Киї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21-25 червня 2004р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657600"/>
              <a:ext cx="3962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</a:rPr>
                <a:t>У виставці взяли участь 25 українських та 15 польських НДІ та ВНЗ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91520" y="1066680"/>
              <a:ext cx="13906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Краків-Варшав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16-20 травня 2005р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52880" y="3657600"/>
              <a:ext cx="3886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</a:rPr>
                <a:t>У виставці взяли участь 40 українських та 14 польських НДІ та ВНЗ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9484" t="4597" r="11208" b="6896"/>
          <a:stretch/>
        </p:blipFill>
        <p:spPr>
          <a:xfrm>
            <a:off x="914400" y="101520"/>
            <a:ext cx="754380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152280"/>
            <a:ext cx="883944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6РП ЄС, тематичний напрямок “Технології інформаційного суспільства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ПРОЕКТ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PRO_N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на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r>
              <a:rPr b="1" i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: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O Active Actions for New Member States</a:t>
            </a:r>
            <a:r>
              <a:rPr b="1" i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б сторінка проекту: </a:t>
            </a:r>
            <a:r>
              <a:rPr b="0" lang="uk-UA" sz="11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"/>
              </a:rPr>
              <a:t>www.kpk.gov.pl/pro_nms/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S 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ований науковим організаціям, малим і середнім підприємствам,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ірмам з країн нових членів ЄС– Польщі, Словаччини, Латвії, Литви, Естонії, Угорщини  і однієї з країн СНД – України з метою розширення їх участі у Рамкових Програмах. Цим країнам допомагають партнери з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трії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Німеччини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екті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_NMS також передбачається підтримка виїзду ключових осіб та представників партнерських організацій на міжнародні семінари, ділові зустрічі та конференції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чином кваліфікований партнер нашого проекту (окремий вчений чи організація в цілому) може отримати цільову допомогу у пошуку партнерів, безплатні консультації з підготовки власних проектів, участь у навчальних семінарах з підготовки проектів, підтримку для  виїзду на ділові зустрічі і безпосереднє спілкування з потенційними партнерами, внесення даних про організацію (особу) у спеціалізовану базу даних, практичний досвід з виконання інших проектів, поширення інформації в колі європейських експертів та координаторів нових  проектів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ПРОЕКТ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ATVN – EU – G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на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у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INTERNET TELEVISION NETWORK SHOWCASES THE BEST OF GOOD PRACTICE ACTIVITI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б сторінка проекту: </a:t>
            </a:r>
            <a:r>
              <a:rPr b="0" lang="uk-UA" sz="11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2"/>
              </a:rPr>
              <a:t>www.atvn-eu-gp.pl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екті ATVN – EU – GP передбачається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ити найбільш активні інституції та фірми з окремих областей IT-технологій (e-learning, e-business, e-government і </a:t>
            </a:r>
            <a:br>
              <a:rPr sz="1100"/>
            </a:b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heal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сформувати на цій основі базу даних кращих фірм та науково-дослідних структур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містити на сервері </a:t>
            </a:r>
            <a:r>
              <a:rPr b="0" lang="uk-UA" sz="11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3"/>
              </a:rPr>
              <a:t>http://www.atvn.pl 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медіа бібліотеку з представленням найкращих прикладів діяльності фірм та наукових інституцій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овсюдити інформацію в Європейському науково-технічному та бізнес просторі про найкращі приклади діяльності у сфері IS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и матеріали проекту на різних міжнародних конференціях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у грудні 2005р. спеціалізовану Міжнародну конференцію за тематикою проекту, на яку запросити представників кращих фірм та наукових колективів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увати ділові зустрічі для формування консорціумів з підготовки нових прое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Arial-BoldMT"/>
              </a:rPr>
              <a:t>ктів, з врахуванням досвіду попередніх проектів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80880"/>
            <a:ext cx="803592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ланується підготовка і реалізація проектів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Міжнародний ярмарок інвестицій та нерухомості – 5-7жовтня 2005р.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алон “Наука та інновації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Цикл навчальних семінарів “Створення сприятливих умов для розвитку інноваційних підприємств України на основі регіональних механізмів” спільно з польськими партнер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2. Взаємодія науково-технологічної сфери з малими і середніми підприємствам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3. Міжнародна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ставка науково-технічних досягнень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„Дні Науки і Технологій Польща-Схід"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(Ольштин, Польща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-6 жовтня 2005р.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4. За програмою добросусідства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REG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ІІІА / ТАСІС ППС 2004-2006 (Польща-Білорусь- Україн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5680" y="228600"/>
            <a:ext cx="6114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581280" y="3503520"/>
          <a:ext cx="1876680" cy="10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503520"/>
                    <a:ext cx="1876680" cy="1020960"/>
                  </a:xfrm>
                  <a:prstGeom prst="rect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133720" y="2830680"/>
            <a:ext cx="871560" cy="871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72200" y="2817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981080" y="4341960"/>
            <a:ext cx="1162080" cy="80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6019920" y="4265640"/>
          <a:ext cx="1066680" cy="915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5640"/>
                    <a:ext cx="106668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 flipV="1">
            <a:off x="3200400" y="4570200"/>
            <a:ext cx="3808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562720" y="3350880"/>
            <a:ext cx="3808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351240"/>
            <a:ext cx="45720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4494240"/>
            <a:ext cx="3808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487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198960"/>
            <a:ext cx="29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380844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3080" y="388476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45705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ІІОП-консорціу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357984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666633"/>
                </a:solidFill>
                <a:latin typeface="Arial"/>
              </a:rPr>
              <a:t>МАУ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3427560"/>
            <a:ext cx="1981080" cy="1006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ff"/>
                </a:solidFill>
                <a:latin typeface="Times New Roman"/>
              </a:rPr>
              <a:t>Західний регіональний контактний пункт зі співробітництва з Європейським Союзом у сфері науки і технологі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3579840"/>
            <a:ext cx="1905120" cy="8240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ff"/>
                </a:solidFill>
                <a:latin typeface="Times New Roman"/>
              </a:rPr>
              <a:t>Західноукраїнська інформаційна мережа з підтримки інноваційної діяльност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0370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40370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43000" y="2666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533520" y="1638360"/>
            <a:ext cx="121896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52480" y="1708200"/>
            <a:ext cx="2057400" cy="8240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</a:rPr>
              <a:t>Національний інформаційний центр зі співробітництва з ЄС у сфері науки і технологі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96080" y="1523880"/>
            <a:ext cx="838440" cy="2764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</a:rPr>
              <a:t>ВАІ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29600" y="1981080"/>
            <a:ext cx="762120" cy="2764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</a:rPr>
              <a:t>ВАІ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1981080"/>
            <a:ext cx="914400" cy="2764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</a:rPr>
              <a:t>УАБІ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467480" y="2286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8610480" y="2286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8077320" y="18288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304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Львівський ЦНТЕІ – компанія інтегратор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нтелектуальне ядро) ІІОП-кластеру (консорціум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5486400"/>
            <a:ext cx="8077320" cy="825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Фізичні та юридичні особи, які займаються науково-інноваційною та освітянською діяльністю в регіон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11320" y="44193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077320" y="44193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14:16:35Z</dcterms:created>
  <dc:creator>1</dc:creator>
  <dc:description/>
  <dc:language>en-US</dc:language>
  <cp:lastModifiedBy>Cris</cp:lastModifiedBy>
  <cp:lastPrinted>2004-09-03T14:59:28Z</cp:lastPrinted>
  <dcterms:modified xsi:type="dcterms:W3CDTF">2005-10-03T14:18:50Z</dcterms:modified>
  <cp:revision>172</cp:revision>
  <dc:subject/>
  <dc:title>Дія</dc:title>
</cp:coreProperties>
</file>