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8DF-0FCD-42D1-B625-F8089260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421E-83DE-462F-B329-F2F2A448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EB1-BDA3-4F31-98BE-6CED33C7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78E-B0C4-4D3C-B9B9-9D6AE7A0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1D10-2C4E-48FB-B4F0-32BC54CE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9016-8AC2-4862-94EE-C04DCAD4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5C54-1EE4-4FD0-B56D-9054142B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372E-F01F-4D09-A07A-09DA3D5A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D3D6-49B3-4CBC-A41E-8D8FE31E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A335-F321-4F57-ADD2-66AC9CB8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E474-6EDC-4AF3-A9ED-4262B90E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BB6-67C2-4A83-9774-31F11C72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7CD9-673F-4754-99A4-E76D373C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B1E2-FD86-45E5-8573-920C3B22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FEC4-AFCD-428A-B464-97F071DE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D5F5-88BB-4BDE-87E4-DE6A7262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94F2-0378-4D64-95D8-28D5C243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84B1-906C-4910-ACFA-D93928DA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679-4926-4DBF-AADD-2429790A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1F7-1730-43EF-8E1A-CB5435BD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16E-72AC-4189-8084-14AC5C05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B23-AC0E-4B48-87C2-3BBA0FD2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516-12FD-42CA-956A-98268407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FCB-C67C-4D94-9647-B16303EB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B2DA-02BD-4320-8363-B9F613A0559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78EB-3FE5-4662-89D2-A9530C2F6B9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914040"/>
            <a:ext cx="6781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КОНЦЕПТУАЛЬНЫЕ ВОПРОСЫ РАЗВИТИЯ НАЦИОНАЛЬНОЙ ИННОВАЦИОННОЙ СИСТЕМЫ КЫРГЫЗСТАН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3573000"/>
            <a:ext cx="55623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Докладчик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Заместитель директора Агентства по науке и интеллектуальной собственности при Правительстве Кыргызской Республ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доктор физико-математических наук, профессор Осмоналиев К. 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СХЕМА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Финансирования научно-инновационной и венчурной деятельности в Кыргызской Республик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51920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1920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1920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85800" y="2133720"/>
            <a:ext cx="7670520" cy="2896920"/>
            <a:chOff x="685800" y="2133720"/>
            <a:chExt cx="7670520" cy="2896920"/>
          </a:xfrm>
        </p:grpSpPr>
        <p:cxnSp>
          <p:nvCxnSpPr>
            <p:cNvPr id="105" name="_s1032"/>
            <p:cNvCxnSpPr/>
            <p:nvPr/>
          </p:nvCxnSpPr>
          <p:spPr>
            <a:xfrm flipH="1" flipV="1" rot="5400000">
              <a:off x="3949920" y="1757880"/>
              <a:ext cx="177120" cy="1950840"/>
            </a:xfrm>
            <a:prstGeom prst="bentConnector3">
              <a:avLst>
                <a:gd name="adj1" fmla="val 49694"/>
              </a:avLst>
            </a:prstGeom>
            <a:ln w="28440">
              <a:solidFill>
                <a:srgbClr val="333333"/>
              </a:solidFill>
              <a:miter/>
            </a:ln>
          </p:spPr>
        </p:cxnSp>
        <p:grpSp>
          <p:nvGrpSpPr>
            <p:cNvPr id="106" name=""/>
            <p:cNvGrpSpPr/>
            <p:nvPr/>
          </p:nvGrpSpPr>
          <p:grpSpPr>
            <a:xfrm>
              <a:off x="685800" y="2133720"/>
              <a:ext cx="7670520" cy="2896920"/>
              <a:chOff x="685800" y="2133720"/>
              <a:chExt cx="7670520" cy="2896920"/>
            </a:xfrm>
          </p:grpSpPr>
          <p:cxnSp>
            <p:nvCxnSpPr>
              <p:cNvPr id="107" name="_s1031"/>
              <p:cNvCxnSpPr/>
              <p:nvPr/>
            </p:nvCxnSpPr>
            <p:spPr>
              <a:xfrm flipV="1" rot="16200000">
                <a:off x="5984280" y="1674000"/>
                <a:ext cx="177120" cy="2118240"/>
              </a:xfrm>
              <a:prstGeom prst="bentConnector3">
                <a:avLst>
                  <a:gd name="adj1" fmla="val 49694"/>
                </a:avLst>
              </a:prstGeom>
              <a:ln w="28440">
                <a:solidFill>
                  <a:srgbClr val="333333"/>
                </a:solidFill>
                <a:miter/>
              </a:ln>
            </p:spPr>
          </p:cxnSp>
          <p:grpSp>
            <p:nvGrpSpPr>
              <p:cNvPr id="108" name=""/>
              <p:cNvGrpSpPr/>
              <p:nvPr/>
            </p:nvGrpSpPr>
            <p:grpSpPr>
              <a:xfrm>
                <a:off x="685800" y="2133720"/>
                <a:ext cx="7670520" cy="2896920"/>
                <a:chOff x="685800" y="2133720"/>
                <a:chExt cx="7670520" cy="2896920"/>
              </a:xfrm>
            </p:grpSpPr>
            <p:cxnSp>
              <p:nvCxnSpPr>
                <p:cNvPr id="109" name="_s1028"/>
                <p:cNvCxnSpPr/>
                <p:nvPr/>
              </p:nvCxnSpPr>
              <p:spPr>
                <a:xfrm flipV="1" rot="16200000">
                  <a:off x="6941160" y="3879360"/>
                  <a:ext cx="389520" cy="8640"/>
                </a:xfrm>
                <a:prstGeom prst="bentConnector3">
                  <a:avLst>
                    <a:gd name="adj1" fmla="val 33209"/>
                  </a:avLst>
                </a:prstGeom>
                <a:ln w="28440">
                  <a:solidFill>
                    <a:srgbClr val="333333"/>
                  </a:solidFill>
                  <a:miter/>
                </a:ln>
              </p:spPr>
            </p:cxnSp>
            <p:cxnSp>
              <p:nvCxnSpPr>
                <p:cNvPr id="110" name="_s1029"/>
                <p:cNvCxnSpPr/>
                <p:nvPr/>
              </p:nvCxnSpPr>
              <p:spPr>
                <a:xfrm flipV="1" rot="16200000">
                  <a:off x="3483360" y="3268800"/>
                  <a:ext cx="389520" cy="1230120"/>
                </a:xfrm>
                <a:prstGeom prst="bentConnector3">
                  <a:avLst>
                    <a:gd name="adj1" fmla="val 33302"/>
                  </a:avLst>
                </a:prstGeom>
                <a:ln w="28440">
                  <a:solidFill>
                    <a:srgbClr val="333333"/>
                  </a:solidFill>
                  <a:miter/>
                </a:ln>
              </p:spPr>
            </p:cxnSp>
            <p:cxnSp>
              <p:nvCxnSpPr>
                <p:cNvPr id="111" name="_s1030"/>
                <p:cNvCxnSpPr/>
                <p:nvPr/>
              </p:nvCxnSpPr>
              <p:spPr>
                <a:xfrm flipH="1" flipV="1" rot="5400000">
                  <a:off x="2225880" y="3241080"/>
                  <a:ext cx="389520" cy="1285560"/>
                </a:xfrm>
                <a:prstGeom prst="bentConnector3">
                  <a:avLst>
                    <a:gd name="adj1" fmla="val 33209"/>
                  </a:avLst>
                </a:prstGeom>
                <a:ln w="28440">
                  <a:solidFill>
                    <a:srgbClr val="333333"/>
                  </a:solidFill>
                  <a:miter/>
                </a:ln>
              </p:spPr>
            </p:cxnSp>
            <p:sp>
              <p:nvSpPr>
                <p:cNvPr id="112" name="_s1033"/>
                <p:cNvSpPr/>
                <p:nvPr/>
              </p:nvSpPr>
              <p:spPr>
                <a:xfrm>
                  <a:off x="3792600" y="2133720"/>
                  <a:ext cx="2441160" cy="511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Times New Roman"/>
                    </a:rPr>
                    <a:t>Финансировани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_s1034"/>
                <p:cNvSpPr/>
                <p:nvPr/>
              </p:nvSpPr>
              <p:spPr>
                <a:xfrm>
                  <a:off x="1743120" y="2821680"/>
                  <a:ext cx="2640600" cy="867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33"/>
                      </a:solidFill>
                      <a:latin typeface="Times New Roman"/>
                    </a:rPr>
                    <a:t>Государственный бюджет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1,48 - 1,26% от ВВП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Частный капитал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1,12 – 1,74% от ВВП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Всего – 2,6-3,0 % от ВВП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_s1035"/>
                <p:cNvSpPr/>
                <p:nvPr/>
              </p:nvSpPr>
              <p:spPr>
                <a:xfrm>
                  <a:off x="5907960" y="2821680"/>
                  <a:ext cx="2448360" cy="867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33"/>
                      </a:solidFill>
                      <a:latin typeface="Times New Roman"/>
                    </a:rPr>
                    <a:t>Венчурный капитал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17 - 20% от ВВП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_s1036"/>
                <p:cNvSpPr/>
                <p:nvPr/>
              </p:nvSpPr>
              <p:spPr>
                <a:xfrm>
                  <a:off x="685800" y="4078800"/>
                  <a:ext cx="2185560" cy="951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333333"/>
                      </a:solidFill>
                      <a:latin typeface="Times New Roman"/>
                    </a:rPr>
                    <a:t>Фаза I — (1 год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333333"/>
                      </a:solidFill>
                      <a:latin typeface="Times New Roman"/>
                    </a:rPr>
                    <a:t>НИР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333333"/>
                      </a:solidFill>
                      <a:latin typeface="Times New Roman"/>
                    </a:rPr>
                    <a:t>(малые гранты, предпроектные гранты</a:t>
                  </a:r>
                  <a:r>
                    <a:rPr b="0" lang="ru-RU" sz="800" spc="-1" strike="noStrike">
                      <a:solidFill>
                        <a:srgbClr val="333333"/>
                      </a:solidFill>
                      <a:latin typeface="Times New Roman"/>
                    </a:rPr>
                    <a:t>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_s1037"/>
                <p:cNvSpPr/>
                <p:nvPr/>
              </p:nvSpPr>
              <p:spPr>
                <a:xfrm>
                  <a:off x="3021120" y="4078800"/>
                  <a:ext cx="2545200" cy="951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333333"/>
                      </a:solidFill>
                      <a:latin typeface="Times New Roman"/>
                    </a:rPr>
                    <a:t>Фаза II — (1-2 года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333333"/>
                      </a:solidFill>
                      <a:latin typeface="Times New Roman"/>
                    </a:rPr>
                    <a:t>НИОКР: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333333"/>
                      </a:solidFill>
                      <a:latin typeface="Times New Roman"/>
                    </a:rPr>
                    <a:t>а) Госфонд ИС (гранты для патентования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333333"/>
                      </a:solidFill>
                      <a:latin typeface="Times New Roman"/>
                    </a:rPr>
                    <a:t>б) ГИФ КР (большие гранты, гранты технопаркам, технологическим и др. бизнес-инкубаторам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_s1038"/>
                <p:cNvSpPr/>
                <p:nvPr/>
              </p:nvSpPr>
              <p:spPr>
                <a:xfrm>
                  <a:off x="6044400" y="4078800"/>
                  <a:ext cx="2188080" cy="951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Фаза II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Выход на рынок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8" name=""/>
          <p:cNvSpPr/>
          <p:nvPr/>
        </p:nvSpPr>
        <p:spPr>
          <a:xfrm>
            <a:off x="431640" y="5257800"/>
            <a:ext cx="477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3333"/>
                </a:solidFill>
                <a:uFillTx/>
                <a:latin typeface="Times New Roman"/>
              </a:rPr>
              <a:t>Источники венчурного капитала: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 рынок наличных денег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 рынок ссудного капитал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 рынок ценных бума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Оптимистический вариант финансирования развития науки в Кыргызской Республике (млрд. сом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2133720"/>
            <a:ext cx="7772040" cy="4038480"/>
            <a:chOff x="457200" y="2133720"/>
            <a:chExt cx="7772040" cy="4038480"/>
          </a:xfrm>
        </p:grpSpPr>
        <p:grpSp>
          <p:nvGrpSpPr>
            <p:cNvPr id="121" name=""/>
            <p:cNvGrpSpPr/>
            <p:nvPr/>
          </p:nvGrpSpPr>
          <p:grpSpPr>
            <a:xfrm>
              <a:off x="461880" y="2137680"/>
              <a:ext cx="7761960" cy="4029840"/>
              <a:chOff x="461880" y="2137680"/>
              <a:chExt cx="7761960" cy="402984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461880" y="2137680"/>
                <a:ext cx="685080" cy="1151280"/>
                <a:chOff x="461880" y="2137680"/>
                <a:chExt cx="685080" cy="11512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32080" y="2137680"/>
                  <a:ext cx="544680" cy="115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оды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61880" y="2137680"/>
                  <a:ext cx="685080" cy="115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147320" y="2137680"/>
                <a:ext cx="2061000" cy="1151280"/>
                <a:chOff x="1147320" y="2137680"/>
                <a:chExt cx="2061000" cy="11512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217520" y="2137680"/>
                  <a:ext cx="1920600" cy="115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огнозные объемы ВВ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147320" y="2137680"/>
                  <a:ext cx="2061000" cy="115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208680" y="2137680"/>
                <a:ext cx="1264320" cy="1151280"/>
                <a:chOff x="3208680" y="2137680"/>
                <a:chExt cx="1264320" cy="1151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278520" y="2137680"/>
                  <a:ext cx="1124280" cy="115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Затраты всего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208680" y="2137680"/>
                  <a:ext cx="1264320" cy="115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473360" y="2137680"/>
                <a:ext cx="3750480" cy="575640"/>
                <a:chOff x="4473360" y="2137680"/>
                <a:chExt cx="3750480" cy="5756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43560" y="2137680"/>
                  <a:ext cx="36100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 т. ч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473360" y="2137680"/>
                  <a:ext cx="37504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73360" y="2713320"/>
                <a:ext cx="2645280" cy="575640"/>
                <a:chOff x="4473360" y="2713320"/>
                <a:chExt cx="2645280" cy="5756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43560" y="2713320"/>
                  <a:ext cx="250524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Финансирование науки (% к ВВП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473360" y="2713320"/>
                  <a:ext cx="26452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7119000" y="2713320"/>
                <a:ext cx="1104480" cy="575640"/>
                <a:chOff x="7119000" y="2713320"/>
                <a:chExt cx="1104480" cy="5756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7189200" y="2713320"/>
                  <a:ext cx="9640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осбюджет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119000" y="2713320"/>
                  <a:ext cx="11044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61880" y="3288960"/>
                <a:ext cx="685080" cy="575640"/>
                <a:chOff x="461880" y="3288960"/>
                <a:chExt cx="685080" cy="5756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32080" y="3288960"/>
                  <a:ext cx="5446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61880" y="3288960"/>
                  <a:ext cx="6850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147320" y="3288960"/>
                <a:ext cx="2061000" cy="575640"/>
                <a:chOff x="1147320" y="3288960"/>
                <a:chExt cx="2061000" cy="5756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217520" y="3288960"/>
                  <a:ext cx="192060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4,2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147320" y="3288960"/>
                  <a:ext cx="206100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208680" y="3288960"/>
                <a:ext cx="1264320" cy="575640"/>
                <a:chOff x="3208680" y="3288960"/>
                <a:chExt cx="1264320" cy="5756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278520" y="3288960"/>
                  <a:ext cx="11242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,4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08680" y="3288960"/>
                  <a:ext cx="126432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473360" y="3288960"/>
                <a:ext cx="2645280" cy="575640"/>
                <a:chOff x="4473360" y="3288960"/>
                <a:chExt cx="2645280" cy="5756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543560" y="3288960"/>
                  <a:ext cx="250524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473360" y="3288960"/>
                  <a:ext cx="26452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7119000" y="3288960"/>
                <a:ext cx="1104480" cy="575640"/>
                <a:chOff x="7119000" y="3288960"/>
                <a:chExt cx="1104480" cy="5756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7189200" y="3288960"/>
                  <a:ext cx="9640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7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119000" y="3288960"/>
                  <a:ext cx="11044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461880" y="3864600"/>
                <a:ext cx="685080" cy="575640"/>
                <a:chOff x="461880" y="3864600"/>
                <a:chExt cx="685080" cy="5756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532080" y="3864600"/>
                  <a:ext cx="5446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1880" y="3864600"/>
                  <a:ext cx="6850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1147320" y="3864600"/>
                <a:ext cx="2061000" cy="575640"/>
                <a:chOff x="1147320" y="3864600"/>
                <a:chExt cx="2061000" cy="5756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217520" y="3864600"/>
                  <a:ext cx="192060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9,9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47320" y="3864600"/>
                  <a:ext cx="206100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3208680" y="3864600"/>
                <a:ext cx="1264320" cy="575640"/>
                <a:chOff x="3208680" y="3864600"/>
                <a:chExt cx="1264320" cy="5756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278520" y="3864600"/>
                  <a:ext cx="11242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,6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208680" y="3864600"/>
                  <a:ext cx="126432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473360" y="3864600"/>
                <a:ext cx="2645280" cy="575640"/>
                <a:chOff x="4473360" y="3864600"/>
                <a:chExt cx="2645280" cy="5756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543560" y="3864600"/>
                  <a:ext cx="250524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473360" y="3864600"/>
                  <a:ext cx="26452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7119000" y="3864600"/>
                <a:ext cx="1104480" cy="575640"/>
                <a:chOff x="7119000" y="3864600"/>
                <a:chExt cx="1104480" cy="5756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89200" y="3864600"/>
                  <a:ext cx="9640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9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119000" y="3864600"/>
                  <a:ext cx="11044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461880" y="4440240"/>
                <a:ext cx="685080" cy="575640"/>
                <a:chOff x="461880" y="4440240"/>
                <a:chExt cx="685080" cy="5756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32080" y="4440240"/>
                  <a:ext cx="5446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61880" y="4440240"/>
                  <a:ext cx="6850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147320" y="4440240"/>
                <a:ext cx="2061000" cy="575640"/>
                <a:chOff x="1147320" y="4440240"/>
                <a:chExt cx="2061000" cy="5756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17520" y="4440240"/>
                  <a:ext cx="192060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5,9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147320" y="4440240"/>
                  <a:ext cx="206100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208680" y="4440240"/>
                <a:ext cx="1264320" cy="575640"/>
                <a:chOff x="3208680" y="4440240"/>
                <a:chExt cx="1264320" cy="5756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278520" y="4440240"/>
                  <a:ext cx="11242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,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208680" y="4440240"/>
                  <a:ext cx="126432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473360" y="4440240"/>
                <a:ext cx="2645280" cy="575640"/>
                <a:chOff x="4473360" y="4440240"/>
                <a:chExt cx="2645280" cy="5756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543560" y="4440240"/>
                  <a:ext cx="250524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473360" y="4440240"/>
                  <a:ext cx="26452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7119000" y="4440240"/>
                <a:ext cx="1104480" cy="575640"/>
                <a:chOff x="7119000" y="4440240"/>
                <a:chExt cx="1104480" cy="5756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7189200" y="4440240"/>
                  <a:ext cx="9640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2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119000" y="4440240"/>
                  <a:ext cx="11044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61880" y="5016240"/>
                <a:ext cx="685080" cy="575640"/>
                <a:chOff x="461880" y="5016240"/>
                <a:chExt cx="685080" cy="5756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32080" y="5016240"/>
                  <a:ext cx="5446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61880" y="5016240"/>
                  <a:ext cx="6850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147320" y="5016240"/>
                <a:ext cx="2061000" cy="575640"/>
                <a:chOff x="1147320" y="5016240"/>
                <a:chExt cx="2061000" cy="5756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217520" y="5016240"/>
                  <a:ext cx="192060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2,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147320" y="5016240"/>
                  <a:ext cx="206100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208680" y="5016240"/>
                <a:ext cx="1264320" cy="575640"/>
                <a:chOff x="3208680" y="5016240"/>
                <a:chExt cx="1264320" cy="5756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278520" y="5016240"/>
                  <a:ext cx="11242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208680" y="5016240"/>
                  <a:ext cx="126432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473360" y="5016240"/>
                <a:ext cx="2645280" cy="575640"/>
                <a:chOff x="4473360" y="5016240"/>
                <a:chExt cx="2645280" cy="5756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543560" y="5016240"/>
                  <a:ext cx="250524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473360" y="5016240"/>
                  <a:ext cx="26452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7119000" y="5016240"/>
                <a:ext cx="1104480" cy="575640"/>
                <a:chOff x="7119000" y="5016240"/>
                <a:chExt cx="1104480" cy="5756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7189200" y="5016240"/>
                  <a:ext cx="9640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119000" y="5016240"/>
                  <a:ext cx="11044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461880" y="5591880"/>
                <a:ext cx="685080" cy="575640"/>
                <a:chOff x="461880" y="5591880"/>
                <a:chExt cx="685080" cy="5756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32080" y="5591880"/>
                  <a:ext cx="5446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880" y="5591880"/>
                  <a:ext cx="6850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1147320" y="5591880"/>
                <a:ext cx="2061000" cy="575640"/>
                <a:chOff x="1147320" y="5591880"/>
                <a:chExt cx="2061000" cy="5756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217520" y="5591880"/>
                  <a:ext cx="192060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,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147320" y="5591880"/>
                  <a:ext cx="206100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208680" y="5591880"/>
                <a:ext cx="1264320" cy="575640"/>
                <a:chOff x="3208680" y="5591880"/>
                <a:chExt cx="1264320" cy="57564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78520" y="5591880"/>
                  <a:ext cx="11242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,6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208680" y="5591880"/>
                  <a:ext cx="126432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473360" y="5591880"/>
                <a:ext cx="2645280" cy="575640"/>
                <a:chOff x="4473360" y="5591880"/>
                <a:chExt cx="2645280" cy="5756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543560" y="5591880"/>
                  <a:ext cx="250524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473360" y="5591880"/>
                  <a:ext cx="26452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7119000" y="5591880"/>
                <a:ext cx="1104480" cy="575640"/>
                <a:chOff x="7119000" y="5591880"/>
                <a:chExt cx="1104480" cy="5756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7189200" y="5591880"/>
                  <a:ext cx="9640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8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119000" y="5591880"/>
                  <a:ext cx="110448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5" name=""/>
            <p:cNvSpPr/>
            <p:nvPr/>
          </p:nvSpPr>
          <p:spPr>
            <a:xfrm>
              <a:off x="457200" y="2133720"/>
              <a:ext cx="7772040" cy="4038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920" y="838080"/>
            <a:ext cx="7383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Пессимистический вариант финансирования развития науки в Кыргызской Республике (млрд. сом)</a:t>
            </a:r>
            <a:endParaRPr b="0" lang="en-US" sz="2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90720" y="2057400"/>
            <a:ext cx="7013160" cy="3935520"/>
            <a:chOff x="990720" y="2057400"/>
            <a:chExt cx="7013160" cy="3935520"/>
          </a:xfrm>
        </p:grpSpPr>
        <p:grpSp>
          <p:nvGrpSpPr>
            <p:cNvPr id="218" name=""/>
            <p:cNvGrpSpPr/>
            <p:nvPr/>
          </p:nvGrpSpPr>
          <p:grpSpPr>
            <a:xfrm>
              <a:off x="995400" y="2060640"/>
              <a:ext cx="7003080" cy="3927960"/>
              <a:chOff x="995400" y="2060640"/>
              <a:chExt cx="7003080" cy="392796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995400" y="2060640"/>
                <a:ext cx="680760" cy="981720"/>
                <a:chOff x="995400" y="2060640"/>
                <a:chExt cx="680760" cy="981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065240" y="2060640"/>
                  <a:ext cx="541080" cy="98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оды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995400" y="2060640"/>
                  <a:ext cx="680760" cy="98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76520" y="2060640"/>
                <a:ext cx="1641240" cy="981720"/>
                <a:chOff x="1676520" y="2060640"/>
                <a:chExt cx="1641240" cy="981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46360" y="2060640"/>
                  <a:ext cx="1501560" cy="98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огнозные объемы ВВ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76520" y="2060640"/>
                  <a:ext cx="1641240" cy="98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318480" y="2060640"/>
                <a:ext cx="990720" cy="981720"/>
                <a:chOff x="3318480" y="2060640"/>
                <a:chExt cx="990720" cy="9817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387960" y="2060640"/>
                  <a:ext cx="851400" cy="98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Затраты всего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318480" y="2060640"/>
                  <a:ext cx="990720" cy="98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309560" y="2060640"/>
                <a:ext cx="3688920" cy="490680"/>
                <a:chOff x="4309560" y="2060640"/>
                <a:chExt cx="3688920" cy="4906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379400" y="2060640"/>
                  <a:ext cx="35492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 т. ч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309560" y="2060640"/>
                  <a:ext cx="368892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4309560" y="2551320"/>
                <a:ext cx="2629080" cy="490680"/>
                <a:chOff x="4309560" y="2551320"/>
                <a:chExt cx="2629080" cy="4906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379400" y="2551320"/>
                  <a:ext cx="248976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Финансирование науки (% к ВВП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309560" y="2551320"/>
                  <a:ext cx="262908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6939360" y="2551320"/>
                <a:ext cx="1059120" cy="490680"/>
                <a:chOff x="6939360" y="2551320"/>
                <a:chExt cx="1059120" cy="4906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7009200" y="2551320"/>
                  <a:ext cx="9194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осбюдж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939360" y="2551320"/>
                  <a:ext cx="105912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995400" y="3042360"/>
                <a:ext cx="680760" cy="490680"/>
                <a:chOff x="995400" y="3042360"/>
                <a:chExt cx="680760" cy="4906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065240" y="3042360"/>
                  <a:ext cx="54108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995400" y="3042360"/>
                  <a:ext cx="68076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676520" y="3042360"/>
                <a:ext cx="1641240" cy="490680"/>
                <a:chOff x="1676520" y="3042360"/>
                <a:chExt cx="1641240" cy="4906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746360" y="3042360"/>
                  <a:ext cx="150156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4,2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676520" y="3042360"/>
                  <a:ext cx="164124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318480" y="3042360"/>
                <a:ext cx="990720" cy="490680"/>
                <a:chOff x="3318480" y="3042360"/>
                <a:chExt cx="990720" cy="4906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387960" y="3042360"/>
                  <a:ext cx="851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,4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318480" y="3042360"/>
                  <a:ext cx="99072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309560" y="3042360"/>
                <a:ext cx="2629080" cy="490680"/>
                <a:chOff x="4309560" y="3042360"/>
                <a:chExt cx="2629080" cy="49068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379400" y="3042360"/>
                  <a:ext cx="248976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309560" y="3042360"/>
                  <a:ext cx="262908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939360" y="3042360"/>
                <a:ext cx="1059120" cy="490680"/>
                <a:chOff x="6939360" y="3042360"/>
                <a:chExt cx="105912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009200" y="3042360"/>
                  <a:ext cx="9194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939360" y="3042360"/>
                  <a:ext cx="105912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995400" y="3533400"/>
                <a:ext cx="680760" cy="490680"/>
                <a:chOff x="995400" y="3533400"/>
                <a:chExt cx="68076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1065240" y="3533400"/>
                  <a:ext cx="54108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995400" y="3533400"/>
                  <a:ext cx="68076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676520" y="3533400"/>
                <a:ext cx="1641240" cy="490680"/>
                <a:chOff x="1676520" y="3533400"/>
                <a:chExt cx="16412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746360" y="3533400"/>
                  <a:ext cx="150156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9,9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676520" y="3533400"/>
                  <a:ext cx="164124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318480" y="3533400"/>
                <a:ext cx="990720" cy="490680"/>
                <a:chOff x="3318480" y="3533400"/>
                <a:chExt cx="99072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387960" y="3533400"/>
                  <a:ext cx="851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,6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318480" y="3533400"/>
                  <a:ext cx="99072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309560" y="3533400"/>
                <a:ext cx="2629080" cy="490680"/>
                <a:chOff x="4309560" y="3533400"/>
                <a:chExt cx="262908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379400" y="3533400"/>
                  <a:ext cx="248976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309560" y="3533400"/>
                  <a:ext cx="262908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39360" y="3533400"/>
                <a:ext cx="1059120" cy="490680"/>
                <a:chOff x="6939360" y="3533400"/>
                <a:chExt cx="105912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09200" y="3533400"/>
                  <a:ext cx="9194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39360" y="3533400"/>
                  <a:ext cx="105912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95400" y="4024440"/>
                <a:ext cx="680760" cy="491040"/>
                <a:chOff x="995400" y="4024440"/>
                <a:chExt cx="680760" cy="4910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65240" y="4024440"/>
                  <a:ext cx="541080" cy="49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95400" y="4024440"/>
                  <a:ext cx="680760" cy="49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676520" y="4024440"/>
                <a:ext cx="1641240" cy="491040"/>
                <a:chOff x="1676520" y="4024440"/>
                <a:chExt cx="1641240" cy="4910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746360" y="4024440"/>
                  <a:ext cx="1501560" cy="49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5,9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676520" y="4024440"/>
                  <a:ext cx="1641240" cy="49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3318480" y="4024440"/>
                <a:ext cx="990720" cy="491040"/>
                <a:chOff x="3318480" y="4024440"/>
                <a:chExt cx="990720" cy="4910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387960" y="4024440"/>
                  <a:ext cx="851400" cy="49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,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318480" y="4024440"/>
                  <a:ext cx="990720" cy="49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309560" y="4024440"/>
                <a:ext cx="2629080" cy="491040"/>
                <a:chOff x="4309560" y="4024440"/>
                <a:chExt cx="2629080" cy="491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379400" y="4024440"/>
                  <a:ext cx="2489760" cy="49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309560" y="4024440"/>
                  <a:ext cx="2629080" cy="49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939360" y="4024440"/>
                <a:ext cx="1059120" cy="491040"/>
                <a:chOff x="6939360" y="4024440"/>
                <a:chExt cx="1059120" cy="491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009200" y="4024440"/>
                  <a:ext cx="919440" cy="49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939360" y="4024440"/>
                  <a:ext cx="1059120" cy="49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995400" y="4515840"/>
                <a:ext cx="680760" cy="490680"/>
                <a:chOff x="995400" y="4515840"/>
                <a:chExt cx="680760" cy="4906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065240" y="4515840"/>
                  <a:ext cx="54108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995400" y="4515840"/>
                  <a:ext cx="68076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676520" y="4515840"/>
                <a:ext cx="1641240" cy="490680"/>
                <a:chOff x="1676520" y="4515840"/>
                <a:chExt cx="1641240" cy="4906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1746360" y="4515840"/>
                  <a:ext cx="150156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2,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676520" y="4515840"/>
                  <a:ext cx="164124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318480" y="4515840"/>
                <a:ext cx="990720" cy="490680"/>
                <a:chOff x="3318480" y="4515840"/>
                <a:chExt cx="990720" cy="4906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387960" y="4515840"/>
                  <a:ext cx="851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318480" y="4515840"/>
                  <a:ext cx="99072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309560" y="4515840"/>
                <a:ext cx="2629080" cy="490680"/>
                <a:chOff x="4309560" y="4515840"/>
                <a:chExt cx="2629080" cy="4906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379400" y="4515840"/>
                  <a:ext cx="248976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309560" y="4515840"/>
                  <a:ext cx="262908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939360" y="4515840"/>
                <a:ext cx="1059120" cy="490680"/>
                <a:chOff x="6939360" y="4515840"/>
                <a:chExt cx="1059120" cy="4906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009200" y="4515840"/>
                  <a:ext cx="9194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939360" y="4515840"/>
                  <a:ext cx="105912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995400" y="5006880"/>
                <a:ext cx="680760" cy="490680"/>
                <a:chOff x="995400" y="5006880"/>
                <a:chExt cx="680760" cy="4906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065240" y="5006880"/>
                  <a:ext cx="54108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995400" y="5006880"/>
                  <a:ext cx="68076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676520" y="5006880"/>
                <a:ext cx="1641240" cy="490680"/>
                <a:chOff x="1676520" y="5006880"/>
                <a:chExt cx="1641240" cy="4906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746360" y="5006880"/>
                  <a:ext cx="150156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,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76520" y="5006880"/>
                  <a:ext cx="164124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318480" y="5006880"/>
                <a:ext cx="990720" cy="490680"/>
                <a:chOff x="3318480" y="5006880"/>
                <a:chExt cx="990720" cy="4906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387960" y="5006880"/>
                  <a:ext cx="851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,6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318480" y="5006880"/>
                  <a:ext cx="99072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309560" y="5006880"/>
                <a:ext cx="2629080" cy="490680"/>
                <a:chOff x="4309560" y="5006880"/>
                <a:chExt cx="2629080" cy="4906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379400" y="5006880"/>
                  <a:ext cx="248976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4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309560" y="5006880"/>
                  <a:ext cx="262908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6939360" y="5006880"/>
                <a:ext cx="1059120" cy="490680"/>
                <a:chOff x="6939360" y="5006880"/>
                <a:chExt cx="1059120" cy="4906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7009200" y="5006880"/>
                  <a:ext cx="9194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939360" y="5006880"/>
                  <a:ext cx="105912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995400" y="5497920"/>
                <a:ext cx="680760" cy="490680"/>
                <a:chOff x="995400" y="5497920"/>
                <a:chExt cx="680760" cy="4906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065240" y="5497920"/>
                  <a:ext cx="54108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995400" y="5497920"/>
                  <a:ext cx="68076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1676520" y="5497920"/>
                <a:ext cx="1641240" cy="490680"/>
                <a:chOff x="1676520" y="5497920"/>
                <a:chExt cx="1641240" cy="4906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1746360" y="5497920"/>
                  <a:ext cx="150156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—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676520" y="5497920"/>
                  <a:ext cx="164124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318480" y="5497920"/>
                <a:ext cx="990720" cy="490680"/>
                <a:chOff x="3318480" y="5497920"/>
                <a:chExt cx="990720" cy="4906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387960" y="5497920"/>
                  <a:ext cx="851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—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318480" y="5497920"/>
                  <a:ext cx="99072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4309560" y="5497920"/>
                <a:ext cx="2629080" cy="490680"/>
                <a:chOff x="4309560" y="5497920"/>
                <a:chExt cx="2629080" cy="4906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4379400" y="5497920"/>
                  <a:ext cx="248976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309560" y="5497920"/>
                  <a:ext cx="262908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6939360" y="5497920"/>
                <a:ext cx="1059120" cy="490680"/>
                <a:chOff x="6939360" y="5497920"/>
                <a:chExt cx="1059120" cy="4906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009200" y="5497920"/>
                  <a:ext cx="9194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—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939360" y="5497920"/>
                  <a:ext cx="105912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7" name=""/>
            <p:cNvSpPr/>
            <p:nvPr/>
          </p:nvSpPr>
          <p:spPr>
            <a:xfrm>
              <a:off x="990720" y="2057400"/>
              <a:ext cx="7013160" cy="3935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920" y="914400"/>
            <a:ext cx="73072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Структура затрат на технологические инновации по отраслям и источникам финансирова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по 492 промпредприятиям Кыргызской Республики) за 2002 г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949320" y="2197080"/>
            <a:ext cx="724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49320" y="5578560"/>
            <a:ext cx="724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0880" y="1905120"/>
            <a:ext cx="8457840" cy="4647960"/>
            <a:chOff x="380880" y="1905120"/>
            <a:chExt cx="8457840" cy="4647960"/>
          </a:xfrm>
        </p:grpSpPr>
        <p:grpSp>
          <p:nvGrpSpPr>
            <p:cNvPr id="332" name=""/>
            <p:cNvGrpSpPr/>
            <p:nvPr/>
          </p:nvGrpSpPr>
          <p:grpSpPr>
            <a:xfrm>
              <a:off x="386280" y="1908360"/>
              <a:ext cx="8446320" cy="4640760"/>
              <a:chOff x="386280" y="1908360"/>
              <a:chExt cx="8446320" cy="46407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386280" y="1908360"/>
                <a:ext cx="3134160" cy="2219400"/>
                <a:chOff x="386280" y="1908360"/>
                <a:chExt cx="3134160" cy="22194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15800" y="1908360"/>
                  <a:ext cx="3075480" cy="22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аименование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86280" y="1908360"/>
                  <a:ext cx="3134160" cy="22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3520800" y="1908360"/>
                <a:ext cx="1058040" cy="1345320"/>
                <a:chOff x="3520800" y="1908360"/>
                <a:chExt cx="1058040" cy="13453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3550320" y="1908360"/>
                  <a:ext cx="999000" cy="13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сего затра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520800" y="1908360"/>
                  <a:ext cx="1058040" cy="13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579560" y="1908360"/>
                <a:ext cx="4253040" cy="470880"/>
                <a:chOff x="4579560" y="1908360"/>
                <a:chExt cx="4253040" cy="4708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608360" y="1908360"/>
                  <a:ext cx="4194360" cy="47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 том числе по источникам финансировани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579560" y="1908360"/>
                  <a:ext cx="4253040" cy="47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579560" y="2379240"/>
                <a:ext cx="1087200" cy="874080"/>
                <a:chOff x="4579560" y="2379240"/>
                <a:chExt cx="1087200" cy="8740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608360" y="2379240"/>
                  <a:ext cx="1028520" cy="8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обственные средства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579560" y="2379240"/>
                  <a:ext cx="1087200" cy="87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667120" y="2379240"/>
                <a:ext cx="1079640" cy="874080"/>
                <a:chOff x="5667120" y="2379240"/>
                <a:chExt cx="1079640" cy="8740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695920" y="2379240"/>
                  <a:ext cx="1020960" cy="8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осударственный бюдж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667120" y="2379240"/>
                  <a:ext cx="1079640" cy="87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6747480" y="2379240"/>
                <a:ext cx="1052280" cy="874080"/>
                <a:chOff x="6747480" y="2379240"/>
                <a:chExt cx="1052280" cy="8740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776280" y="2379240"/>
                  <a:ext cx="994320" cy="8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ностранные инвестици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747480" y="2379240"/>
                  <a:ext cx="1052280" cy="87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7800120" y="2379240"/>
                <a:ext cx="1032120" cy="874080"/>
                <a:chOff x="7800120" y="2379240"/>
                <a:chExt cx="1032120" cy="8740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7829640" y="2379240"/>
                  <a:ext cx="973080" cy="8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очие источник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800120" y="2379240"/>
                  <a:ext cx="1032120" cy="87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3520800" y="3253680"/>
                <a:ext cx="471240" cy="874080"/>
                <a:chOff x="3520800" y="3253680"/>
                <a:chExt cx="471240" cy="8740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3550320" y="3253680"/>
                  <a:ext cx="412200" cy="8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лн. с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520800" y="3253680"/>
                  <a:ext cx="471240" cy="87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992400" y="3253680"/>
                <a:ext cx="586440" cy="874080"/>
                <a:chOff x="3992400" y="3253680"/>
                <a:chExt cx="586440" cy="87408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4021200" y="3253680"/>
                  <a:ext cx="527760" cy="8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% к итогу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992400" y="3253680"/>
                  <a:ext cx="586440" cy="87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4579560" y="3253680"/>
                <a:ext cx="501840" cy="874080"/>
                <a:chOff x="4579560" y="3253680"/>
                <a:chExt cx="501840" cy="8740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4608360" y="3253680"/>
                  <a:ext cx="443520" cy="8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лн. с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579560" y="3253680"/>
                  <a:ext cx="501840" cy="87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081760" y="3253680"/>
                <a:ext cx="584640" cy="874080"/>
                <a:chOff x="5081760" y="3253680"/>
                <a:chExt cx="584640" cy="87408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110560" y="3253680"/>
                  <a:ext cx="526320" cy="8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% к итогу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081760" y="3253680"/>
                  <a:ext cx="584640" cy="87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667120" y="3253680"/>
                <a:ext cx="498240" cy="874080"/>
                <a:chOff x="5667120" y="3253680"/>
                <a:chExt cx="498240" cy="87408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695920" y="3253680"/>
                  <a:ext cx="439560" cy="8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лн. с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667120" y="3253680"/>
                  <a:ext cx="498240" cy="87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166080" y="3253680"/>
                <a:ext cx="581040" cy="874080"/>
                <a:chOff x="6166080" y="3253680"/>
                <a:chExt cx="581040" cy="8740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195600" y="3253680"/>
                  <a:ext cx="522000" cy="8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% к итогу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166080" y="3253680"/>
                  <a:ext cx="581040" cy="87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6747480" y="3253680"/>
                <a:ext cx="495000" cy="874080"/>
                <a:chOff x="6747480" y="3253680"/>
                <a:chExt cx="495000" cy="8740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6776280" y="3253680"/>
                  <a:ext cx="436320" cy="8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лн. с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747480" y="3253680"/>
                  <a:ext cx="495000" cy="87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7242840" y="3253680"/>
                <a:ext cx="556920" cy="874080"/>
                <a:chOff x="7242840" y="3253680"/>
                <a:chExt cx="556920" cy="8740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271640" y="3253680"/>
                  <a:ext cx="498960" cy="8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% к итогу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242840" y="3253680"/>
                  <a:ext cx="556920" cy="87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7800120" y="3253680"/>
                <a:ext cx="474480" cy="874080"/>
                <a:chOff x="7800120" y="3253680"/>
                <a:chExt cx="474480" cy="8740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7829280" y="3253680"/>
                  <a:ext cx="416160" cy="8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лн. с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800120" y="3253680"/>
                  <a:ext cx="474480" cy="87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8275320" y="3253680"/>
                <a:ext cx="557280" cy="874080"/>
                <a:chOff x="8275320" y="3253680"/>
                <a:chExt cx="557280" cy="8740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8304840" y="3253680"/>
                  <a:ext cx="498240" cy="8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% к итогу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275320" y="3253680"/>
                  <a:ext cx="557280" cy="87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386280" y="4127760"/>
                <a:ext cx="3134160" cy="605160"/>
                <a:chOff x="386280" y="4127760"/>
                <a:chExt cx="3134160" cy="60516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415800" y="4127760"/>
                  <a:ext cx="307548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брабатывающая промышленность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86280" y="4127760"/>
                  <a:ext cx="3134160" cy="60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3520800" y="4127760"/>
                <a:ext cx="471240" cy="605160"/>
                <a:chOff x="3520800" y="4127760"/>
                <a:chExt cx="471240" cy="60516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3550320" y="4127760"/>
                  <a:ext cx="41220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0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520800" y="4127760"/>
                  <a:ext cx="471240" cy="60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3992400" y="4127760"/>
                <a:ext cx="586440" cy="605160"/>
                <a:chOff x="3992400" y="4127760"/>
                <a:chExt cx="586440" cy="60516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021200" y="4127760"/>
                  <a:ext cx="52776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992400" y="4127760"/>
                  <a:ext cx="586440" cy="60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4579560" y="4127760"/>
                <a:ext cx="501840" cy="605160"/>
                <a:chOff x="4579560" y="4127760"/>
                <a:chExt cx="501840" cy="60516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4608360" y="4127760"/>
                  <a:ext cx="44352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7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579560" y="4127760"/>
                  <a:ext cx="501840" cy="60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5081760" y="4127760"/>
                <a:ext cx="584640" cy="605160"/>
                <a:chOff x="5081760" y="4127760"/>
                <a:chExt cx="584640" cy="60516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5110560" y="4127760"/>
                  <a:ext cx="52632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081760" y="4127760"/>
                  <a:ext cx="584640" cy="60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5667120" y="4127760"/>
                <a:ext cx="498240" cy="605160"/>
                <a:chOff x="5667120" y="4127760"/>
                <a:chExt cx="498240" cy="6051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695920" y="4127760"/>
                  <a:ext cx="43956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667120" y="4127760"/>
                  <a:ext cx="498240" cy="60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6166080" y="4127760"/>
                <a:ext cx="581040" cy="605160"/>
                <a:chOff x="6166080" y="4127760"/>
                <a:chExt cx="581040" cy="60516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195600" y="4127760"/>
                  <a:ext cx="52200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166080" y="4127760"/>
                  <a:ext cx="581040" cy="60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747480" y="4127760"/>
                <a:ext cx="495000" cy="605160"/>
                <a:chOff x="6747480" y="4127760"/>
                <a:chExt cx="495000" cy="60516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776280" y="4127760"/>
                  <a:ext cx="43632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1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747480" y="4127760"/>
                  <a:ext cx="495000" cy="60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242840" y="4127760"/>
                <a:ext cx="556920" cy="605160"/>
                <a:chOff x="7242840" y="4127760"/>
                <a:chExt cx="556920" cy="60516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271640" y="4127760"/>
                  <a:ext cx="49896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242840" y="4127760"/>
                  <a:ext cx="556920" cy="60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7800120" y="4127760"/>
                <a:ext cx="474480" cy="605160"/>
                <a:chOff x="7800120" y="4127760"/>
                <a:chExt cx="474480" cy="605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7829280" y="4127760"/>
                  <a:ext cx="41616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7,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800120" y="4127760"/>
                  <a:ext cx="474480" cy="60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8275320" y="4127760"/>
                <a:ext cx="557280" cy="605160"/>
                <a:chOff x="8275320" y="4127760"/>
                <a:chExt cx="557280" cy="60516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8304840" y="4127760"/>
                  <a:ext cx="49824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275320" y="4127760"/>
                  <a:ext cx="557280" cy="60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386280" y="4732920"/>
                <a:ext cx="3134160" cy="470880"/>
                <a:chOff x="386280" y="4732920"/>
                <a:chExt cx="3134160" cy="47088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15800" y="4732920"/>
                  <a:ext cx="3075480" cy="47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 том числе: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86280" y="4732920"/>
                  <a:ext cx="3134160" cy="47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3520800" y="4732920"/>
                <a:ext cx="471240" cy="470880"/>
                <a:chOff x="3520800" y="4732920"/>
                <a:chExt cx="471240" cy="47088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3550320" y="4732920"/>
                  <a:ext cx="412200" cy="47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520800" y="4732920"/>
                  <a:ext cx="471240" cy="47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3992400" y="4732920"/>
                <a:ext cx="586440" cy="470880"/>
                <a:chOff x="3992400" y="4732920"/>
                <a:chExt cx="586440" cy="47088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4021200" y="4732920"/>
                  <a:ext cx="527760" cy="47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992400" y="4732920"/>
                  <a:ext cx="586440" cy="47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4579560" y="4732920"/>
                <a:ext cx="501840" cy="470880"/>
                <a:chOff x="4579560" y="4732920"/>
                <a:chExt cx="501840" cy="4708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4608360" y="4732920"/>
                  <a:ext cx="443520" cy="47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579560" y="4732920"/>
                  <a:ext cx="501840" cy="47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5081760" y="4732920"/>
                <a:ext cx="584640" cy="470880"/>
                <a:chOff x="5081760" y="4732920"/>
                <a:chExt cx="584640" cy="4708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5110560" y="4732920"/>
                  <a:ext cx="526320" cy="47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081760" y="4732920"/>
                  <a:ext cx="584640" cy="47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5667120" y="4732920"/>
                <a:ext cx="498240" cy="470880"/>
                <a:chOff x="5667120" y="4732920"/>
                <a:chExt cx="498240" cy="4708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5695920" y="4732920"/>
                  <a:ext cx="439560" cy="47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667120" y="4732920"/>
                  <a:ext cx="498240" cy="47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166080" y="4732920"/>
                <a:ext cx="581040" cy="470880"/>
                <a:chOff x="6166080" y="4732920"/>
                <a:chExt cx="581040" cy="4708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195600" y="4732920"/>
                  <a:ext cx="522000" cy="47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166080" y="4732920"/>
                  <a:ext cx="581040" cy="47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747480" y="4732920"/>
                <a:ext cx="495000" cy="470880"/>
                <a:chOff x="6747480" y="4732920"/>
                <a:chExt cx="495000" cy="4708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6776280" y="4732920"/>
                  <a:ext cx="436320" cy="47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747480" y="4732920"/>
                  <a:ext cx="495000" cy="47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7242840" y="4732920"/>
                <a:ext cx="556920" cy="470880"/>
                <a:chOff x="7242840" y="4732920"/>
                <a:chExt cx="556920" cy="4708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271640" y="4732920"/>
                  <a:ext cx="498960" cy="47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242840" y="4732920"/>
                  <a:ext cx="556920" cy="47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800120" y="4732920"/>
                <a:ext cx="474480" cy="470880"/>
                <a:chOff x="7800120" y="4732920"/>
                <a:chExt cx="474480" cy="4708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829280" y="4732920"/>
                  <a:ext cx="416160" cy="47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800120" y="4732920"/>
                  <a:ext cx="474480" cy="47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8275320" y="4732920"/>
                <a:ext cx="557280" cy="470880"/>
                <a:chOff x="8275320" y="4732920"/>
                <a:chExt cx="557280" cy="4708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8304840" y="4732920"/>
                  <a:ext cx="498240" cy="47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8275320" y="4732920"/>
                  <a:ext cx="557280" cy="47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386280" y="5204160"/>
                <a:ext cx="3134160" cy="605520"/>
                <a:chOff x="386280" y="5204160"/>
                <a:chExt cx="3134160" cy="6055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415800" y="5204160"/>
                  <a:ext cx="307548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оизводство     пищевых продуктов и табака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6280" y="5204160"/>
                  <a:ext cx="313416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3520800" y="5204160"/>
                <a:ext cx="471240" cy="605520"/>
                <a:chOff x="3520800" y="5204160"/>
                <a:chExt cx="471240" cy="6055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3550320" y="5204160"/>
                  <a:ext cx="41220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3,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520800" y="5204160"/>
                  <a:ext cx="4712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3992400" y="5204160"/>
                <a:ext cx="586440" cy="605520"/>
                <a:chOff x="3992400" y="5204160"/>
                <a:chExt cx="586440" cy="605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4021200" y="5204160"/>
                  <a:ext cx="52776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992400" y="5204160"/>
                  <a:ext cx="5864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4579560" y="5204160"/>
                <a:ext cx="501840" cy="605520"/>
                <a:chOff x="4579560" y="5204160"/>
                <a:chExt cx="501840" cy="6055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4608360" y="5204160"/>
                  <a:ext cx="4435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579560" y="5204160"/>
                  <a:ext cx="5018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5081760" y="5204160"/>
                <a:ext cx="584640" cy="605520"/>
                <a:chOff x="5081760" y="5204160"/>
                <a:chExt cx="584640" cy="6055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5110560" y="5204160"/>
                  <a:ext cx="5263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081760" y="5204160"/>
                  <a:ext cx="5846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5667120" y="5204160"/>
                <a:ext cx="498240" cy="605520"/>
                <a:chOff x="5667120" y="5204160"/>
                <a:chExt cx="498240" cy="6055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5695920" y="5204160"/>
                  <a:ext cx="43956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667120" y="5204160"/>
                  <a:ext cx="4982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166080" y="5204160"/>
                <a:ext cx="581040" cy="605520"/>
                <a:chOff x="6166080" y="5204160"/>
                <a:chExt cx="581040" cy="6055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195600" y="5204160"/>
                  <a:ext cx="52200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166080" y="5204160"/>
                  <a:ext cx="5810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6747480" y="5204160"/>
                <a:ext cx="495000" cy="605520"/>
                <a:chOff x="6747480" y="5204160"/>
                <a:chExt cx="495000" cy="605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6776280" y="5204160"/>
                  <a:ext cx="4363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0,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747480" y="5204160"/>
                  <a:ext cx="49500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7242840" y="5204160"/>
                <a:ext cx="556920" cy="605520"/>
                <a:chOff x="7242840" y="5204160"/>
                <a:chExt cx="556920" cy="6055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7271640" y="5204160"/>
                  <a:ext cx="49896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9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242840" y="5204160"/>
                  <a:ext cx="55692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7800120" y="5204160"/>
                <a:ext cx="474480" cy="605520"/>
                <a:chOff x="7800120" y="5204160"/>
                <a:chExt cx="474480" cy="6055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7829280" y="5204160"/>
                  <a:ext cx="41616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3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800120" y="5204160"/>
                  <a:ext cx="47448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8275320" y="5204160"/>
                <a:ext cx="557280" cy="605520"/>
                <a:chOff x="8275320" y="5204160"/>
                <a:chExt cx="557280" cy="6055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8304840" y="5204160"/>
                  <a:ext cx="49824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275320" y="5204160"/>
                  <a:ext cx="55728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386280" y="5809680"/>
                <a:ext cx="3134160" cy="739440"/>
                <a:chOff x="386280" y="5809680"/>
                <a:chExt cx="3134160" cy="73944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15800" y="5809680"/>
                  <a:ext cx="307548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еталлургическое  производство, производство машин, электрооборудования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86280" y="5809680"/>
                  <a:ext cx="31341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520800" y="5809680"/>
                <a:ext cx="471240" cy="739440"/>
                <a:chOff x="3520800" y="5809680"/>
                <a:chExt cx="471240" cy="7394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550320" y="5809680"/>
                  <a:ext cx="41220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9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520800" y="5809680"/>
                  <a:ext cx="47124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992400" y="5809680"/>
                <a:ext cx="586440" cy="739440"/>
                <a:chOff x="3992400" y="5809680"/>
                <a:chExt cx="586440" cy="7394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4021200" y="5809680"/>
                  <a:ext cx="52776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992400" y="5809680"/>
                  <a:ext cx="58644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579560" y="5809680"/>
                <a:ext cx="501840" cy="739440"/>
                <a:chOff x="4579560" y="5809680"/>
                <a:chExt cx="501840" cy="7394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608360" y="5809680"/>
                  <a:ext cx="44352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92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579560" y="5809680"/>
                  <a:ext cx="50184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081760" y="5809680"/>
                <a:ext cx="584640" cy="739440"/>
                <a:chOff x="5081760" y="5809680"/>
                <a:chExt cx="584640" cy="7394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110560" y="5809680"/>
                  <a:ext cx="52632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6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081760" y="5809680"/>
                  <a:ext cx="58464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5667120" y="5809680"/>
                <a:ext cx="498240" cy="739440"/>
                <a:chOff x="5667120" y="5809680"/>
                <a:chExt cx="498240" cy="73944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695920" y="5809680"/>
                  <a:ext cx="43956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667120" y="5809680"/>
                  <a:ext cx="49824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6166080" y="5809680"/>
                <a:ext cx="581040" cy="739440"/>
                <a:chOff x="6166080" y="5809680"/>
                <a:chExt cx="581040" cy="7394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6195600" y="5809680"/>
                  <a:ext cx="52200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166080" y="5809680"/>
                  <a:ext cx="58104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747480" y="5809680"/>
                <a:ext cx="495000" cy="739440"/>
                <a:chOff x="6747480" y="5809680"/>
                <a:chExt cx="495000" cy="73944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776280" y="5809680"/>
                  <a:ext cx="43632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747480" y="5809680"/>
                  <a:ext cx="4950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7242840" y="5809680"/>
                <a:ext cx="556920" cy="739440"/>
                <a:chOff x="7242840" y="5809680"/>
                <a:chExt cx="556920" cy="73944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7271640" y="5809680"/>
                  <a:ext cx="49896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242840" y="5809680"/>
                  <a:ext cx="55692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7800120" y="5809680"/>
                <a:ext cx="474480" cy="739440"/>
                <a:chOff x="7800120" y="5809680"/>
                <a:chExt cx="474480" cy="7394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7829280" y="5809680"/>
                  <a:ext cx="41616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800120" y="5809680"/>
                  <a:ext cx="47448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8275320" y="5809680"/>
                <a:ext cx="557280" cy="739440"/>
                <a:chOff x="8275320" y="5809680"/>
                <a:chExt cx="557280" cy="7394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8304840" y="5809680"/>
                  <a:ext cx="4982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275320" y="5809680"/>
                  <a:ext cx="55728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6" name=""/>
            <p:cNvSpPr/>
            <p:nvPr/>
          </p:nvSpPr>
          <p:spPr>
            <a:xfrm>
              <a:off x="380880" y="1905120"/>
              <a:ext cx="8457840" cy="46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  <a:ea typeface="Times New Roman"/>
              </a:rPr>
              <a:t>Затраты  и структура на инновации по источникам финансирования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0" y="2786040"/>
          <a:ext cx="434340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6040"/>
                    <a:ext cx="434340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4876920" y="2971800"/>
          <a:ext cx="426708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971800"/>
                    <a:ext cx="4267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533520" y="2209320"/>
            <a:ext cx="31860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Затраты на технологические инновации по источникам финанс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(по 492 промпредприятиям Кыргызской Республики) за 2002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562720" y="1963440"/>
            <a:ext cx="27367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Структура финансирования исследований и разработок в промышленности (за 2002 г., в % к итог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58112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719280" y="1978200"/>
            <a:ext cx="7916760" cy="4678200"/>
            <a:chOff x="719280" y="1978200"/>
            <a:chExt cx="7916760" cy="4678200"/>
          </a:xfrm>
        </p:grpSpPr>
        <p:sp>
          <p:nvSpPr>
            <p:cNvPr id="526" name=""/>
            <p:cNvSpPr/>
            <p:nvPr/>
          </p:nvSpPr>
          <p:spPr>
            <a:xfrm>
              <a:off x="3681720" y="1978200"/>
              <a:ext cx="2315880" cy="43956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Правительство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Кыргызской Республи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70720" y="2689200"/>
              <a:ext cx="3807720" cy="45252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33333"/>
                  </a:solidFill>
                  <a:latin typeface="Times New Roman"/>
                </a:rPr>
                <a:t>Министерство (Госагентство) науки, инноваций и интеллектуальной собственности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17720" y="3460320"/>
              <a:ext cx="1757160" cy="72468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33"/>
                  </a:solidFill>
                  <a:latin typeface="Times New Roman"/>
                </a:rPr>
                <a:t>Департамент по наук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28520" y="4482000"/>
              <a:ext cx="1757880" cy="453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33"/>
                  </a:solidFill>
                  <a:latin typeface="Times New Roman"/>
                </a:rPr>
                <a:t>НИИ, центры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33"/>
                  </a:solidFill>
                  <a:latin typeface="Times New Roman"/>
                </a:rPr>
                <a:t>лаборатори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17720" y="5420520"/>
              <a:ext cx="1757160" cy="45252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33"/>
                  </a:solidFill>
                  <a:latin typeface="Times New Roman"/>
                </a:rPr>
                <a:t>Экспериментальные центры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47400" y="5659920"/>
              <a:ext cx="1757160" cy="2714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33"/>
                  </a:solidFill>
                  <a:latin typeface="Times New Roman"/>
                </a:rPr>
                <a:t>Бизнес-инкубаторы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47400" y="4754160"/>
              <a:ext cx="1757160" cy="44028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33"/>
                  </a:solidFill>
                  <a:latin typeface="Times New Roman"/>
                </a:rPr>
                <a:t>Государственный инновационный фонд КР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47400" y="6087600"/>
              <a:ext cx="1757160" cy="31788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33"/>
                  </a:solidFill>
                  <a:latin typeface="Times New Roman"/>
                </a:rPr>
                <a:t>Венчурные фонды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76000" y="4210560"/>
              <a:ext cx="1757880" cy="45252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33"/>
                  </a:solidFill>
                  <a:latin typeface="Times New Roman"/>
                </a:rPr>
                <a:t>Образовательные центры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76000" y="3460320"/>
              <a:ext cx="1757880" cy="65988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33"/>
                  </a:solidFill>
                  <a:latin typeface="Times New Roman"/>
                </a:rPr>
                <a:t>Департамент по интеллектуальной собственно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47400" y="4301640"/>
              <a:ext cx="1757160" cy="2714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33"/>
                  </a:solidFill>
                  <a:latin typeface="Times New Roman"/>
                </a:rPr>
                <a:t>Выставочный павильон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47400" y="3460320"/>
              <a:ext cx="1757160" cy="72468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33"/>
                  </a:solidFill>
                  <a:latin typeface="Times New Roman"/>
                </a:rPr>
                <a:t>Департамент по инновациям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33"/>
                  </a:solidFill>
                  <a:latin typeface="Times New Roman"/>
                </a:rPr>
                <a:t>(ГЦИТ «Инновация»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25440" y="2417760"/>
              <a:ext cx="0" cy="27144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94040" y="3279600"/>
              <a:ext cx="0" cy="18036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25440" y="3279600"/>
              <a:ext cx="0" cy="18036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60000" y="3279600"/>
              <a:ext cx="0" cy="18036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21280" y="3098520"/>
              <a:ext cx="0" cy="1810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60600" y="3732480"/>
              <a:ext cx="0" cy="2535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60600" y="3732480"/>
              <a:ext cx="5864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60600" y="4392000"/>
              <a:ext cx="5864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60600" y="5023080"/>
              <a:ext cx="5864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60600" y="5452560"/>
              <a:ext cx="5864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60600" y="6268680"/>
              <a:ext cx="5864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4320" y="3848040"/>
              <a:ext cx="2930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4320" y="4728960"/>
              <a:ext cx="2930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4320" y="5724720"/>
              <a:ext cx="2930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87840" y="4482000"/>
              <a:ext cx="4881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94040" y="3279600"/>
              <a:ext cx="556596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76000" y="5659920"/>
              <a:ext cx="1757880" cy="36252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33"/>
                  </a:solidFill>
                  <a:latin typeface="Times New Roman"/>
                </a:rPr>
                <a:t>Центр экспертизы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76000" y="6112800"/>
              <a:ext cx="1757880" cy="5436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Государственная патентно-техническая библиотек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87840" y="5751000"/>
              <a:ext cx="4881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78480" y="6293880"/>
              <a:ext cx="4881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387840" y="3757680"/>
              <a:ext cx="4881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028520" y="6022440"/>
              <a:ext cx="1731240" cy="6336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33"/>
                  </a:solidFill>
                  <a:latin typeface="Times New Roman"/>
                </a:rPr>
                <a:t>Центр научно-технической информаци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9280" y="6293880"/>
              <a:ext cx="2930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9280" y="3848040"/>
              <a:ext cx="0" cy="2445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35520" y="5280840"/>
              <a:ext cx="1762200" cy="28836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Технопарк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80040" y="5755680"/>
              <a:ext cx="5864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78480" y="3757680"/>
              <a:ext cx="0" cy="2535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04800" y="4754160"/>
              <a:ext cx="1731240" cy="3618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33"/>
                  </a:solidFill>
                  <a:latin typeface="Times New Roman"/>
                </a:rPr>
                <a:t>Центр КУИП правами обладателей смежных прав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04800" y="5207040"/>
              <a:ext cx="1731240" cy="36216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33"/>
                  </a:solidFill>
                  <a:latin typeface="Times New Roman"/>
                </a:rPr>
                <a:t>Центр КУИП авторов и правообладателей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378480" y="4935600"/>
              <a:ext cx="4881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78480" y="5388480"/>
              <a:ext cx="4881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30:36Z</dcterms:created>
  <dc:creator>CNTI</dc:creator>
  <dc:description/>
  <dc:language>en-US</dc:language>
  <cp:lastModifiedBy>Cris</cp:lastModifiedBy>
  <dcterms:modified xsi:type="dcterms:W3CDTF">2005-10-03T14:19:30Z</dcterms:modified>
  <cp:revision>13</cp:revision>
  <dc:subject/>
  <dc:title>КОНЦЕПТУАЛЬНЫЕ ВОПРОСЫ РАЗВИТИЯ НАЦИОНАЛЬНОЙ ИННОВАЦИОННОЙ СИСТЕМЫ КЫРГЫЗСТАНА</dc:title>
</cp:coreProperties>
</file>