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4408-EE54-4B08-88BC-80CBB72D6E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ис. Сукупність програмних документі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ис. Інноваціійна політика с.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ис. Реальний ВВП на ст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(Мал. Структура промисловості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816F-BF6C-4E07-855D-E0CE1F1D5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4D26-109A-476E-A738-24E9F0A4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CF29-CE51-409A-B60A-A1D2810E6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C3ED-593F-4358-B3E4-63DCD1394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6F3D-515A-44D7-8B0A-635D2875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6101-B73F-4396-8A1A-8A766D95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BFB4-E242-46CD-B94B-965154C0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BD1C-3B25-4C06-9D68-55C9174D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4FF6-7A0C-4B30-950A-C9B90745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4E90-11BB-4EEA-8B3F-8290693D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43E7-F610-4C51-9D35-ED49B9C3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00A8-2CAB-4BAD-8B78-2B57F589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5FF9-9C37-4121-BD1A-1221B620F3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Концепція</a:t>
            </a:r>
            <a:br>
              <a:rPr sz="4000"/>
            </a:b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соціально-економічного  розвитку України </a:t>
            </a:r>
            <a:br>
              <a:rPr sz="4000"/>
            </a:b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на період до 2010 ро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Необхідні структурні зміни в економіц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5075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В промисловості: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нарощування машинобудування удвіч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В паливно-енергетичному комплексі: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меншення частки паливно-сировинної обробки, доведення виробництва енергії до 8,5─9% у структурі промисловост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В агропромисловому комплексі: з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вершення земельної рефор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У транспорті: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искорений розвиток транспортної інфраструкту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У зв’язку: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ереведення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елефонних мереж на цифрові технології,  розвиток інфраструктури доступу до інформаційних мере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В туристичній та рекреаційній сфері: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озвиток туристично-рекреаційного потенціал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У сфері охорони здоров'я: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безпечення доступності якісної медичної допомог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ріоритетні галузі впровадження інноваційного розвит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Вугільна промисловість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: технологічні та продуктові інновації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Чорна металургія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: одержання високоякісних сталей в умовах обмеженої сировинної баз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Житлово-комунальне господарство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: зменшення вартості і підвищення якості послуг через зниження енерговитр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Інформаційні технології: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створення розгалужених ринків інформації і зна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ринципи реалізації економічної політики Украї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єднання стимулювання ринкових методів господарювання з  державним регулюванням економі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имулювання інноваційного відтворення основного капітал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ведення політики  конкурентоспроможност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еалізація державних програм і проектів соціального характер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силення економічного тиску на виробників із ресурсоємними та шкідливими технологі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8137440" cy="48117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95280" y="560340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укупність програмних документів щодо економічного і соціального розвитку України (Закон України "Про державне прогнозування та розроблення програм економічного і соціального розвитку України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Інструменти реалізації економічної політики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У галузі інвестиційної полі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безпечити покращання інвестиційного кліма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новити дії статей 21 і 22 Закону України „Про інноваційну діяльність”, які були призупинені Верховною Радою на 2003, 2004, 2005 ро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ийняти Закон України “Про державну підтримку та стимулювання інвестиційної діяльності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мінити мораторій на створення технологічних парк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безпечити бюджетне фінансування фундаментальної  нау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У галузі грошово-кредитної та бюджетно-фінансової політ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ивести у відповідність бюджет розвит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еформувати систему амортизації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ктивізувати потенціал банківської системи в напрямку інвестуванн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дійснити удосконалення бюджетної політики на основі методів бюджетування та прийняття Закону України "Про програмно-цільове планування державного бюджету"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дійснити реалізацію бюджетних прогр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досконалити механізм взаємодії органів законодавчої і виконавчої влади, суб'єктів формування та виконання бюджетних програм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У галузі податкової полі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ивести податкову систему України у відповідність до світових принципі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меншити ставки деяких податків з одночасним розширенням бази оподаткуванн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тидіяти ухиленню від сплати податк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ворити рівні умови господарської діяльності для су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єктів підприємництв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гармонізувати податковий та бухгалтерський обліки   створенням прозорих правил оподаткува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У галузі регіональної політ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ідвищити рівень економічної самостійності регіон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озвивати інноваційний потенціал регіонів з урахуванням інтересів населенн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сунути диспропорції соціально-економічного розвитку у регіонах держав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згодити стратегічні цілі та пріоритети розвитку держави та регіон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безпечити стабільність відносин між центральними, місцевими органами виконавчої влади та органами місцевого самоврядуванн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балансувати розвиток областей, районів, міст, селищ, сі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ворити механізм управління державними витратами, планування та моніторингу  результативності бюджетних витрат у регіон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У галузі регуляторної політ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безпечити збалансований розвиток економіки та раціональне витрачання бюджетних кошт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ідвищити ефективність державних закупівел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истематизувати виконання державного замовленн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провадити облік усіх державних контрактів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порядкувати механізм відповідальності за виконання своїх функцій щодо державного замовлення спеціального уповноваженого органу виконавчої влади та його органів на місцях з питань координації закупівель товарів, робіт та послу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досконалити законодавчу базу практики закупівель для державних потре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дачі створення умов інноваційного розвитку економі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формування інноваційної інфраструктур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ведення заходів щодо охорони прав інтелектуальної власності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ідготовку кадрів з управління інноваційною діяльніст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фінансування створення інноваційної продукції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озвиток в Україні системи мікрокредитування як основи боротьби з бідністю та забезпечення зайнятості населенн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безпечення конкурентоспроможності вітчизняного виробн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озвиток системи продукування наукових знань, формування освітнього потенціалу та розвиток інноваційної культу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нцепція – це система стратегічних цілей і орієнтирів, на які має вийти соціально-економічний розвиток Украї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ета Концепції - якісне покращання усіх складових життя  народу  шляхом надання переважного значення системному інноваційному процес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нання та високі технології - головне джерело економічного піднесенн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користання висококваліфікованої праці - в особистих і суспільних інтересах кожної люди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старілі механізми використання природних ресурсів та дешевої робочої сили - головні економічні джерела  суперечностей національної економі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Базовим принципом перебудови засад національної економіки й соціальної сфери може бути лише інноваційний розвит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497800" cy="58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Результати втілення Концепції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формування соціально стійкого суспіль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ворення умов для гідного життя усіх громадя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формування середнього клас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озвиток соціально орієнтованої ринкової системи як основи національної економі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егулювання суспільного господарства на основі критеріїв, які відповідають основним цілям суспіль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ефективне сполучення відкритості національної економіки з моделлю національного відтворенн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реальна розбудова гідного майбутнього Україн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487600" y="1341360"/>
            <a:ext cx="43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Динаміка реального ВВП за ро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84360" y="1197000"/>
          <a:ext cx="7850160" cy="352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197000"/>
                    <a:ext cx="7850160" cy="35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4067280" y="4076640"/>
            <a:ext cx="4392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ьний ВВП,  зміна до попер. ро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ДЕ МИ ЗНАХОДИМОСЬ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Економічне зростання відбувалося переважно за рахунок економічно недоцільного розбазарювання національного багат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раїна не зробила вкрай необхідний крок у бік використання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найефективнішого в сучасних умовах джерела економічного зростання – інноваці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над 90% вітчизняної продукції не має сучасного наукового забезпечення, а національна наука для свого виживання переорієнтовується на виконання зарубіжних замовл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край неконструктивною є здійснювана в країні інвестиційна політика: до 75% –  вкладається в третій технологічний устрі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000000"/>
                </a:solidFill>
                <a:latin typeface="Arial"/>
              </a:rPr>
              <a:t>Вихідні позиції для  соціально-економічного розвитку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плив факторів національного розвитку збільшує видатки виробничої та невиробничої діяльності, початково знижує межі, яких Україна може досягти за рахунок ефективності промислового й аграрного виробниц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гнорування впливу факторів формування та розвитку національної економіки зумовило значні стратегічні помил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Штучна дешевизна електроенергії сприяє відтоку з України найважливіших факторів виробниц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сновна причина відчуження громадян країни від реальної економіки – низька оплата праці й відсутність привабливості робочих місць та умов прац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 сьогодні Україна не має високоорганізованої виробничої сфе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Шляхи випереджального розвитку Украї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становити на кордоні держави ефективні бар’єри відтоку факторів виробництва, які виснажують національну економі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пускати за кордон мінімальну вартість виробничого капіталу, мінімальну кількість невідтворюваної сировини та інших факторів виробниц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ерейти до постіндустріального розвитку на основі активізації інноваційних джерел економічного зроста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кцентувати значення соціокультурного фактора формування та розвитку національної економі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ЦІЛЬОВІ ОРІЄНТИРИ РОЗВИТКУ УКРАЇН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формування  суспільства з гідними умовами життя усіх громадя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формування середнього клас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озвиток соціально орієнтованої ринкової систе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егулювання суспільного господарства на основі критеріїв, які     відповідають основним цілям суспіль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ефективне сполучення відкритості національної економіки з моделлю національного відтворе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плив соціокультурного фактору на соціально-економічний розвиток України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48682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Рівень обсягів бюджетних витрат для інноваційних моделей економі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859280" y="1125360"/>
          <a:ext cx="3960720" cy="29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1125360"/>
                    <a:ext cx="3960720" cy="29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11280" y="1125360"/>
          <a:ext cx="4032000" cy="295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1125360"/>
                    <a:ext cx="4032000" cy="29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95280" y="58032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Три найтиповіших моделі відтворюваного проце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534960"/>
          <a:ext cx="8229600" cy="532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4960"/>
                    <a:ext cx="8229600" cy="53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12:19:59Z</dcterms:created>
  <dc:creator>Greg</dc:creator>
  <dc:description/>
  <dc:language>en-US</dc:language>
  <cp:lastModifiedBy>Cris</cp:lastModifiedBy>
  <dcterms:modified xsi:type="dcterms:W3CDTF">2005-10-03T14:02:55Z</dcterms:modified>
  <cp:revision>57</cp:revision>
  <dc:subject/>
  <dc:title>Концепція соціально-економічного  розвитку України  на період до 2010 року</dc:title>
</cp:coreProperties>
</file>