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ECD-9512-4124-82B5-69E05B9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665-63AB-4204-936A-DAEC486D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632-1A4B-4162-9191-B5C133C8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307-EF85-4807-A6E4-9903A348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093CF-B167-4ABE-9CA6-DC94EEF6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D3F54-AF02-47D7-B755-72832CA7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BE644-5440-48F4-8958-76ECE1A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7A70-87B7-4ECF-9D06-1365357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BC5A4-4D10-487D-A12B-E0D50FE3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5F0FC-5C92-42B3-B1AE-C94E774E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0F104-F960-4DEC-88B1-A0616A7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E75-FDF6-4EB1-8DD7-17980622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B8BE5-53CA-4294-9087-EF48554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F3AAA-F56A-43B7-9125-FE89350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41870-211C-4495-8EB5-618C4DD8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FBC0A-200E-404C-A1AA-BCF58294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FBAE1-95A0-4042-B15C-97228215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55F-7121-4980-B7CC-10CC341C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609-ED0E-4671-A5A4-F0AE652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97C-AC79-44F8-95FF-708A99D0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906-FAE6-457A-85C4-F24608AE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6B2-DC15-4BA2-AE2F-19234DFF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87F-E457-4D68-A5A4-32BB2F0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2A8-C39F-425B-A0D9-2CC8455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CE0-9288-4012-BCA8-5C68927EC720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B7AC-F565-48A7-94D2-634AE8DB951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rzysztof B. MATUSIAK</a:t>
            </a:r>
            <a:br>
              <a:rPr sz="3000"/>
            </a:br>
            <a:br>
              <a:rPr sz="30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GIONALNE PODEJŚCIE DO INNOWACJI I ROZWOJU GOSPODARCZEGO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decentralizacja polityki innowacyjnej 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ŁUSZTA, WRZESIEŃ 2005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8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Główne źródła procesów regionalizacyjnych w zakresie aktywizacji wzrostu gospodarczeg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(endogenizacja rozwoju gospodarczego)</a:t>
            </a:r>
            <a:r>
              <a:rPr b="0" lang="pl-PL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koniec ery przemysłowej i dominacji postfordowskiego paradygmatu organizacji produkcji, rozwój elastycznych systemów produkcyjnyc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zrastającą kompleksowość nauki i techniki; skrócenie cyklu życia poszczególnych produktów i technologi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zrost roli edukacji, jakości kapitału ludzkiego i kultury przedsiębiorczośc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240" y="1618560"/>
            <a:ext cx="86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dowa zdolności innowacyjnych i kształtowanie klimatu przedsiębiorczości, staje się podstawą strategii konkurencji na początku trzeciego milenium. Tworzenie tego typu strategii jest coraz silniej uwarunkowane lokalnie przy jednoczesnej akceptacji globalizacji procesów gospodarczych i rozwojowych. Inicjatywy regionalne koncentrują się uaktywnieniu endogenicznych czynników wzrostu, a głównie poprawie atrakcyjności lokalizacyjnej, podnoszeniu poziomu kwalifikacji zasobów pracy oraz rozwoju regionalnej infrastruktury przedsiębiorczości i transferu technolog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sparcie innowacyjności gospodarki opiera się elastycznych układach sieciowych tworzących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gionalne systemy innowacji (RSI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ie można określić jednego uniwersalnego modelu takiego systemu. To jest przede wszystkim elastyczny, regionalny socjoekonomiczny układ o jak najszerszych powiązaniach, który jest w stanie wykorzystać lokalne zasoby i atrybuty determinujące procesy produkcyjne, produkty oraz usługi stosownie do specyfiki lokalnego/regionalnego rynk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gionalny System Innowacji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publiczno-prywatne forum współpracy świata biznesu, administracji samorządowej i państwowej, instytucji naukowo-badawczych i edukacyjnych oraz instytucji pozarządowych umożliwiające aktywizację lokalnych czynników wzrostu i lepsze wykorzystanie zasobów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684072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nkcjonowanie systemu jest zorientowane na podejmowanie inicjatyw w zakresie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ransferu technologii i systemu powiązań przedsiębiorstw (głównie MSP) z instytucjami naukowym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rganizacyjnego i finansowego wspierania przedsięwzięć innowacyjnyc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motywowania, pozyskiwania i przygotowania do samozatrudnienia oraz szeroko rozumianej przedsiębiorczośc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inicjowania powiązań sieciowych pomiędzy firmami, administracją i trzecim sektorem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orzenia elastycznych systemów wytwórczych (cluster, dystrykt przemysłowy) na styku nauki i gospodark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odnoszenia jakości zasobów ludzkich poprzez edukację, szkolenia i doradztwo oraz informacji i upowszechniania wzorów pozytywnego działan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Korzyści ze sprawnego systemu innowacyjnego obejmuj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rozwój nowoczesnych form transferu technologii, wspierania przedsiębiorczości i marketingu lokalne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mobilizację wszystkich „aktorów” rozwoju lokalnego, aktywizacji stojących na uboczu grup społecznych, tworzenia atmosfery wzajemnego zaufania i wspólnoty celów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rozwój publiczno-prywatnego partnerstwa i uspołecznienia polityki gospodarczej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prowadzania mechanizmów konkurencji w wykorzystaniu środków publicznych i odbiurokratyzowaniu działań prorozwojowyc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łączenia środków publicznych z prywatnymi oraz pozyskiwania środków zewnętrznych dla lokalnych przedsięwzięć prorozwojowych i infrastrukturalnyc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koordynację działań proinnowacyjnych w regionie i oddolne kształtowanie priorytetów polityki innowacyjnej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ziękuję za uwagę 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68360" y="303120"/>
            <a:ext cx="4712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0:16:02Z</dcterms:created>
  <dc:creator> kwiatkowski radosław</dc:creator>
  <dc:description/>
  <dc:language>en-US</dc:language>
  <cp:lastModifiedBy>Cris</cp:lastModifiedBy>
  <dcterms:modified xsi:type="dcterms:W3CDTF">2005-10-03T14:26:04Z</dcterms:modified>
  <cp:revision>22</cp:revision>
  <dc:subject/>
  <dc:title>Folia 1.   Krzysztof B. MATUSIAK    CENTRA TRANSFERU TECHNOLOGII W 2004 r. Warszawa, 27 stycznia 2005 r</dc:title>
</cp:coreProperties>
</file>