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.png" ContentType="image/png"/>
  <Override PartName="/ppt/media/carbrake.wav" ContentType="audio/x-wav"/>
  <Override PartName="/ppt/media/image5.wmf" ContentType="image/x-wmf"/>
  <Override PartName="/ppt/media/image10.wmf" ContentType="image/x-wmf"/>
  <Override PartName="/ppt/media/image2.gif" ContentType="image/gif"/>
  <Override PartName="/ppt/media/whoosh.wav" ContentType="audio/x-wav"/>
  <Override PartName="/ppt/media/image4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707-DE60-4E92-AE2A-E850F532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088-6596-43C6-A64D-FFF7F453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0CA-8270-44B8-86BF-F1E5A722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C93-2508-44C4-A870-B2F20912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A4B-032D-412E-AB14-A9DDD27A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B83E-A222-4460-AE02-1C26BE1D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F34E-D757-4E52-A1C2-230EE466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B819-63AC-4CEF-BD37-58CB2E63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63E5-900D-49D9-8903-90E66EDD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5834-B535-4111-95F1-F3F3FF87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3982-E2FF-4ED5-A338-4D97A079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2DF-A741-4BB3-A70C-6353627C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3F87-9C99-4322-9C37-37CDA52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BE59-27D4-4D8A-AC06-B02C7F5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C7CA-13D9-44F9-A255-076DCA54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1C5E-CFCA-42B6-84A4-329E9ECD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D05A-C418-4AC2-9F46-56ACF9CB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25E-A626-4869-97B0-1A84BE31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533-480A-4AC3-82C9-35210642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4C4-B85E-46DF-9189-8B8D873C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323-02F8-4AA8-A191-35E9EB78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257-175F-4E4B-895A-E7B9EDE0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136-199F-4B57-8A2D-B5518FDC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0E1-0CE6-4F40-B205-785C78CD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CE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2493-FE3C-4D44-A096-9F2A9A9464C6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CE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63C5-44E5-4B6B-A26D-B38EC91872CF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8153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00"/>
                </a:solidFill>
                <a:latin typeface="Arial CE"/>
              </a:rPr>
              <a:t>Региональн</a:t>
            </a:r>
            <a:r>
              <a:rPr b="0" lang="ru-RU" sz="4400" spc="-1" strike="noStrike">
                <a:solidFill>
                  <a:srgbClr val="ffcc00"/>
                </a:solidFill>
                <a:latin typeface="Arial CE"/>
              </a:rPr>
              <a:t>ые стратегии инноваций</a:t>
            </a:r>
            <a:br>
              <a:rPr sz="4400"/>
            </a:br>
            <a:r>
              <a:rPr b="0" lang="pl-PL" sz="3200" spc="-1" strike="noStrike">
                <a:solidFill>
                  <a:srgbClr val="f98d43"/>
                </a:solidFill>
                <a:latin typeface="Arial CE"/>
              </a:rPr>
              <a:t>Regional Innovation Strategies in Poland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190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ихал Клеп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циональный контактный пункт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6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tional Contact Point FP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624852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ушта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ernyo2 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3320" y="699120"/>
            <a:ext cx="736452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Arial CE"/>
              </a:rPr>
              <a:t>Региональная стратегия инноваций</a:t>
            </a:r>
            <a:endParaRPr b="0" lang="en-US" sz="3400" spc="-1" strike="noStrike">
              <a:solidFill>
                <a:srgbClr val="ffcc00"/>
              </a:solidFill>
              <a:latin typeface="Arial CE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11280" y="3500280"/>
            <a:ext cx="1436760" cy="1657080"/>
            <a:chOff x="2411280" y="3500280"/>
            <a:chExt cx="1436760" cy="1657080"/>
          </a:xfrm>
        </p:grpSpPr>
        <p:pic>
          <p:nvPicPr>
            <p:cNvPr id="172" name="k+f" descr=""/>
            <p:cNvPicPr/>
            <p:nvPr/>
          </p:nvPicPr>
          <p:blipFill>
            <a:blip r:embed="rId2"/>
            <a:stretch/>
          </p:blipFill>
          <p:spPr>
            <a:xfrm>
              <a:off x="2704680" y="3500280"/>
              <a:ext cx="101484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411280" y="4644360"/>
              <a:ext cx="143676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cc"/>
                  </a:solidFill>
                  <a:latin typeface="Arial"/>
                </a:rPr>
                <a:t>Институты поддержк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289640" y="4681440"/>
            <a:ext cx="1609920" cy="1374480"/>
            <a:chOff x="7289640" y="4681440"/>
            <a:chExt cx="1609920" cy="1374480"/>
          </a:xfrm>
        </p:grpSpPr>
        <p:pic>
          <p:nvPicPr>
            <p:cNvPr id="175" name="G0800092" descr=""/>
            <p:cNvPicPr/>
            <p:nvPr/>
          </p:nvPicPr>
          <p:blipFill>
            <a:blip r:embed="rId3"/>
            <a:stretch/>
          </p:blipFill>
          <p:spPr>
            <a:xfrm>
              <a:off x="7455240" y="4681440"/>
              <a:ext cx="123336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289640" y="5758560"/>
              <a:ext cx="160992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cc"/>
                  </a:solidFill>
                  <a:latin typeface="Arial"/>
                </a:rPr>
                <a:t>Парки и инкубатор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71880" y="2387520"/>
            <a:ext cx="1300320" cy="1306080"/>
            <a:chOff x="4871880" y="2387520"/>
            <a:chExt cx="1300320" cy="1306080"/>
          </a:xfrm>
        </p:grpSpPr>
        <p:pic>
          <p:nvPicPr>
            <p:cNvPr id="178" name="G0439961" descr=""/>
            <p:cNvPicPr/>
            <p:nvPr/>
          </p:nvPicPr>
          <p:blipFill>
            <a:blip r:embed="rId4"/>
            <a:stretch/>
          </p:blipFill>
          <p:spPr>
            <a:xfrm>
              <a:off x="4871880" y="2387520"/>
              <a:ext cx="1300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201280" y="3396600"/>
              <a:ext cx="762840" cy="297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cc"/>
                  </a:solidFill>
                  <a:latin typeface="Arial"/>
                </a:rPr>
                <a:t>МСП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848640" y="2362320"/>
            <a:ext cx="1906560" cy="1374120"/>
            <a:chOff x="6848640" y="2362320"/>
            <a:chExt cx="1906560" cy="1374120"/>
          </a:xfrm>
        </p:grpSpPr>
        <p:pic>
          <p:nvPicPr>
            <p:cNvPr id="181" name="G0705546" descr=""/>
            <p:cNvPicPr/>
            <p:nvPr/>
          </p:nvPicPr>
          <p:blipFill>
            <a:blip r:embed="rId5"/>
            <a:stretch/>
          </p:blipFill>
          <p:spPr>
            <a:xfrm>
              <a:off x="7242480" y="2362320"/>
              <a:ext cx="1155600" cy="10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848640" y="3439440"/>
              <a:ext cx="1906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cc"/>
                  </a:solidFill>
                  <a:latin typeface="Arial"/>
                </a:rPr>
                <a:t>Исследовательские институты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52280" y="2349360"/>
            <a:ext cx="1688760" cy="1584000"/>
            <a:chOff x="152280" y="2349360"/>
            <a:chExt cx="1688760" cy="1584000"/>
          </a:xfrm>
        </p:grpSpPr>
        <p:pic>
          <p:nvPicPr>
            <p:cNvPr id="184" name="G1314157" descr=""/>
            <p:cNvPicPr/>
            <p:nvPr/>
          </p:nvPicPr>
          <p:blipFill>
            <a:blip r:embed="rId6"/>
            <a:stretch/>
          </p:blipFill>
          <p:spPr>
            <a:xfrm>
              <a:off x="152280" y="2349360"/>
              <a:ext cx="168876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31640" y="3375000"/>
              <a:ext cx="118044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cc"/>
                  </a:solidFill>
                  <a:latin typeface="Arial"/>
                </a:rPr>
                <a:t>Финансовые институты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076720" y="4470480"/>
            <a:ext cx="1780920" cy="1622160"/>
            <a:chOff x="5076720" y="4470480"/>
            <a:chExt cx="1780920" cy="1622160"/>
          </a:xfrm>
        </p:grpSpPr>
        <p:pic>
          <p:nvPicPr>
            <p:cNvPr id="187" name="G0705524" descr=""/>
            <p:cNvPicPr/>
            <p:nvPr/>
          </p:nvPicPr>
          <p:blipFill>
            <a:blip r:embed="rId7"/>
            <a:stretch/>
          </p:blipFill>
          <p:spPr>
            <a:xfrm>
              <a:off x="5076720" y="4470480"/>
              <a:ext cx="1726200" cy="12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264280" y="5772960"/>
              <a:ext cx="159336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cc"/>
                  </a:solidFill>
                  <a:latin typeface="Arial"/>
                </a:rPr>
                <a:t>Университет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116080" y="136440"/>
            <a:ext cx="5200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781360"/>
            <a:ext cx="2274840" cy="1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933720" y="3411000"/>
            <a:ext cx="866880" cy="403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7720" y="2786040"/>
            <a:ext cx="758880" cy="1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65160" y="3054240"/>
            <a:ext cx="649440" cy="303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49840" y="4237200"/>
            <a:ext cx="1407960" cy="606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3860640"/>
            <a:ext cx="1515960" cy="808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26200" y="3665160"/>
            <a:ext cx="974880" cy="6066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71760" y="2857680"/>
            <a:ext cx="3357720" cy="1414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97160" y="4221000"/>
            <a:ext cx="1783800" cy="2036520"/>
            <a:chOff x="497160" y="4221000"/>
            <a:chExt cx="1783800" cy="2036520"/>
          </a:xfrm>
        </p:grpSpPr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815400" y="4221000"/>
              <a:ext cx="101664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97160" y="5676840"/>
              <a:ext cx="1783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Региональная 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местная власт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195640" y="5373720"/>
            <a:ext cx="28810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835280" y="4076280"/>
            <a:ext cx="792000" cy="289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618920" y="3500280"/>
            <a:ext cx="144360" cy="720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63640" y="1268280"/>
            <a:ext cx="5181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новные цели </a:t>
            </a:r>
            <a:r>
              <a:rPr b="1" lang="sv-S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лавные тренды в региональной промышленности и технологи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844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ценить региональную инновационную систему, а в частности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227664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льные и слабые стороны регионального инновационного потенциала предприя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2997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ществующий потенциал поддерживающий иннов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4221000"/>
            <a:ext cx="7296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 региональной стратегии поведения в области иннова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аботка и имплементация пилотных проек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ка сценария имплементации широкой сферы деятель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2781360"/>
            <a:ext cx="1079280" cy="309564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541800 h 3095640"/>
              <a:gd name="textAreaBottom" fmla="*/ 22446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408600"/>
            <a:ext cx="777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c00"/>
                </a:solidFill>
                <a:latin typeface="Times New Roman"/>
              </a:rPr>
              <a:t>Региональная стратегия инноваций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иональный консенсу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WO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Анали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ffcc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Анализ региональных потребностей: определение потребностей фирм в регион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cc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Анализ регионального потенциала: определение региональной инфраструктуры и исследовательно-развивающего потенциала помогающего инновация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оритеты инновационной политики в регио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362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00"/>
                </a:solidFill>
                <a:latin typeface="Times New Roman"/>
              </a:rPr>
              <a:t>Региональная стратегия инноваций</a:t>
            </a:r>
            <a:r>
              <a:rPr b="0" lang="pl-PL" sz="40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958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ительность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12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сяцев и включает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рмирование структуры управления проект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бор национальных и иностранных экспертов участвующих в фазе реализ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здание регионального консенсуса с целью реализации проекта и определения инновационной страте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 методологии прое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стижение согласия всех участвующих сторон относительно целей проекта, рабочей программы, методологии. На этом этапе есть возможность изменения базы проекта способы его реализ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360" y="954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РСИ </a:t>
            </a:r>
            <a:r>
              <a:rPr b="0" lang="pl-PL" sz="4000" spc="-1" strike="noStrike">
                <a:solidFill>
                  <a:srgbClr val="ffcc00"/>
                </a:solidFill>
                <a:latin typeface="Arial CE"/>
              </a:rPr>
              <a:t>-</a:t>
            </a: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 Фаза</a:t>
            </a:r>
            <a:r>
              <a:rPr b="0" lang="pl-PL" sz="4000" spc="-1" strike="noStrike">
                <a:solidFill>
                  <a:srgbClr val="ffcc00"/>
                </a:solidFill>
                <a:latin typeface="Arial CE"/>
              </a:rPr>
              <a:t> 0</a:t>
            </a:r>
            <a:endParaRPr b="0" lang="en-US" sz="4000" spc="-1" strike="noStrike">
              <a:solidFill>
                <a:srgbClr val="ffcc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7958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должительность действия около 8 месяцев и включает в себя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ализация заданий изложенных в фазе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точнение основ стратегии и плана действ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WOT –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анализ региона, анализирующий сектора, кото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ые будут развиваться наиболее динамич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097600"/>
            <a:ext cx="820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Анализ регионального потенциал: определение региональн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инфраструктуры и научно-исследовательского потенциала способствующего развитию иннова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3954600"/>
            <a:ext cx="820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Анализ региональных потребностей: определение потребност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фирм в регио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68360" y="954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РСИ</a:t>
            </a:r>
            <a:r>
              <a:rPr b="0" lang="pl-PL" sz="4000" spc="-1" strike="noStrike">
                <a:solidFill>
                  <a:srgbClr val="ffcc00"/>
                </a:solidFill>
                <a:latin typeface="Arial CE"/>
              </a:rPr>
              <a:t>-</a:t>
            </a: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Фаза</a:t>
            </a:r>
            <a:r>
              <a:rPr b="0" lang="pl-PL" sz="4000" spc="-1" strike="noStrike">
                <a:solidFill>
                  <a:srgbClr val="ffcc00"/>
                </a:solidFill>
                <a:latin typeface="Arial CE"/>
              </a:rPr>
              <a:t> 1</a:t>
            </a:r>
            <a:endParaRPr b="0" lang="en-US" sz="4000" spc="-1" strike="noStrike">
              <a:solidFill>
                <a:srgbClr val="ffcc00"/>
              </a:solidFill>
              <a:latin typeface="Arial CE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61111E-006 1.11111E-006 L -3.61111E-006 -0.15741 E">
                                      <p:cBhvr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82360" y="1980720"/>
            <a:ext cx="752940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должительность действия около 8 месяцев и включает в себя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зультаты проведенного анали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аботка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ение, реализация, а также тестирование конкретных видов деятельности, предусмотренных в пилотных проект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5157720"/>
            <a:ext cx="806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498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внедрение систем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ы мониторинга с целью контроля и оценки реализованных зада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9550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РСИ  - Фаза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2155680"/>
            <a:ext cx="5076720" cy="47023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5 Рамковая програм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прое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инистерство нау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0 целевых прое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Рамковая програм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7 прое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00640" y="2906640"/>
            <a:ext cx="1008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RIS FP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8276600">
            <a:off x="6057360" y="5281200"/>
            <a:ext cx="1008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RIS FP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8490200">
            <a:off x="5553000" y="5138640"/>
            <a:ext cx="1008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RIS FP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7000" y="3986280"/>
            <a:ext cx="1008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RIS FP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0080" y="2617920"/>
            <a:ext cx="1008000" cy="57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RIS FP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4648320"/>
            <a:ext cx="1079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R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KB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21360" y="4994280"/>
            <a:ext cx="1079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4495680"/>
            <a:ext cx="1079280" cy="64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61000" y="4778280"/>
            <a:ext cx="107928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13720" y="3122640"/>
            <a:ext cx="107928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5715000"/>
            <a:ext cx="107928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0120" y="5486400"/>
            <a:ext cx="107928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590920"/>
            <a:ext cx="1079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RIS KB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69000" y="3265560"/>
            <a:ext cx="1079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RIS KB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962520"/>
            <a:ext cx="1079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R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KB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3733920"/>
            <a:ext cx="1079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RIS FP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251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00"/>
                </a:solidFill>
                <a:latin typeface="Arial CE"/>
              </a:rPr>
              <a:t>Региональные инновационные стратегии в Польш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32440" y="3049560"/>
            <a:ext cx="4111560" cy="3808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3160" y="1752480"/>
            <a:ext cx="46479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98d43"/>
                </a:solidFill>
                <a:uFillTx/>
                <a:latin typeface="Times New Roman"/>
              </a:rPr>
              <a:t>Дополнительные шансы на современном этап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98d43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f98d43"/>
                </a:solidFill>
                <a:latin typeface="Times New Roman"/>
              </a:rPr>
              <a:t>Возможность использования опыта других реги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98d4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98d43"/>
                </a:solidFill>
                <a:latin typeface="Times New Roman"/>
              </a:rPr>
              <a:t>Минимизация риска связанного с Р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98d4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98d43"/>
                </a:solidFill>
                <a:latin typeface="Times New Roman"/>
              </a:rPr>
              <a:t>Концентрация внимания на стратегии и ее целя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98d43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f98d43"/>
                </a:solidFill>
                <a:latin typeface="Times New Roman"/>
              </a:rPr>
              <a:t>Возможность поддержки процесса создания РСИ через структурные фон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733920"/>
            <a:ext cx="793800" cy="439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</a:rPr>
              <a:t>RIS FP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8276600">
            <a:off x="6181560" y="5519880"/>
            <a:ext cx="874800" cy="34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</a:rPr>
              <a:t>RIS FP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490200">
            <a:off x="6580080" y="5687280"/>
            <a:ext cx="887400" cy="331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</a:rPr>
              <a:t>RIS FP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4572000"/>
            <a:ext cx="793800" cy="439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</a:rPr>
              <a:t>RIS FP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505320"/>
            <a:ext cx="793800" cy="439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33"/>
                </a:solidFill>
                <a:latin typeface="Times New Roman"/>
              </a:rPr>
              <a:t>RIS FP5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7320" y="5029200"/>
            <a:ext cx="85068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R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KB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5410080"/>
            <a:ext cx="85104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4876920"/>
            <a:ext cx="85104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5257800"/>
            <a:ext cx="85104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3886200"/>
            <a:ext cx="85068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6019920"/>
            <a:ext cx="85068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5791320"/>
            <a:ext cx="85068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RIS KB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4038480"/>
            <a:ext cx="85104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RIS KB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3429000"/>
            <a:ext cx="85104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RIS KB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+ FP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4572000"/>
            <a:ext cx="85104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RI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Times New Roman"/>
              </a:rPr>
              <a:t>KB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67480" y="4419720"/>
            <a:ext cx="851040" cy="4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RIS FP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546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CE"/>
              </a:rPr>
              <a:t>Региональные стратегии инноваций в Польш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348480"/>
            <a:ext cx="8763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 CE"/>
              </a:rPr>
              <a:t>Принятые приоритеты сфер применения за критерием PL -15</a:t>
            </a:r>
            <a:endParaRPr b="0" lang="en-US" sz="36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  <a:ea typeface="Times New Roman"/>
              </a:rPr>
              <a:t>1.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ереориен</a:t>
            </a:r>
            <a:r>
              <a:rPr b="1" lang="ru-RU" sz="2600" spc="-1" strike="noStrike">
                <a:solidFill>
                  <a:srgbClr val="ffffff"/>
                </a:solidFill>
                <a:latin typeface="Arial CE"/>
                <a:ea typeface="Times New Roman"/>
              </a:rPr>
              <a:t>тация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ин</a:t>
            </a:r>
            <a:r>
              <a:rPr b="1" lang="ru-RU" sz="2600" spc="-1" strike="noStrike">
                <a:solidFill>
                  <a:srgbClr val="ffffff"/>
                </a:solidFill>
                <a:latin typeface="Arial CE"/>
                <a:ea typeface="Times New Roman"/>
              </a:rPr>
              <a:t>фраструктуры инноваций и созданий системного подх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</a:rPr>
              <a:t>	</a:t>
            </a:r>
            <a:r>
              <a:rPr b="1" lang="pl-PL" sz="2000" spc="-1" strike="noStrike">
                <a:solidFill>
                  <a:srgbClr val="ffcc66"/>
                </a:solidFill>
                <a:latin typeface="Arial CE"/>
              </a:rPr>
              <a:t>15 </a:t>
            </a:r>
            <a:r>
              <a:rPr b="1" lang="ru-RU" sz="2000" spc="-1" strike="noStrike">
                <a:solidFill>
                  <a:srgbClr val="ffcc66"/>
                </a:solidFill>
                <a:latin typeface="Arial CE"/>
              </a:rPr>
              <a:t>реги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  <a:ea typeface="Times New Roman"/>
              </a:rPr>
              <a:t>2.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и продвижение сотрудничества между фирмами и институция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14 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реги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  <a:ea typeface="Times New Roman"/>
              </a:rPr>
              <a:t>3.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ru-RU" sz="2600" spc="-1" strike="noStrike">
                <a:solidFill>
                  <a:srgbClr val="ffffff"/>
                </a:solidFill>
                <a:latin typeface="Arial CE"/>
                <a:ea typeface="Times New Roman"/>
              </a:rPr>
              <a:t>Финанс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</a:rPr>
              <a:t>	</a:t>
            </a:r>
            <a:r>
              <a:rPr b="1" lang="pl-PL" sz="2000" spc="-1" strike="noStrike">
                <a:solidFill>
                  <a:srgbClr val="ffcc66"/>
                </a:solidFill>
                <a:latin typeface="Arial CE"/>
              </a:rPr>
              <a:t>9 </a:t>
            </a:r>
            <a:r>
              <a:rPr b="1" lang="ru-RU" sz="2000" spc="-1" strike="noStrike">
                <a:solidFill>
                  <a:srgbClr val="ffcc66"/>
                </a:solidFill>
                <a:latin typeface="Arial CE"/>
              </a:rPr>
              <a:t>реги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  <a:ea typeface="Times New Roman"/>
              </a:rPr>
              <a:t>4.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ка фирм с целью стимулирования инновационной 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</a:rPr>
              <a:t>	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12 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реги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План презентации</a:t>
            </a:r>
            <a:endParaRPr b="0" lang="en-US" sz="40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6370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итика инноваций на региональном уров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иональные стратегии инноваций в П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езная практика и рекоменд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 CE"/>
                <a:ea typeface="Times New Roman"/>
              </a:rPr>
              <a:t>5.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ru-RU" sz="2600" spc="-1" strike="noStrike">
                <a:solidFill>
                  <a:srgbClr val="ffffff"/>
                </a:solidFill>
                <a:latin typeface="Arial CE"/>
                <a:ea typeface="Times New Roman"/>
              </a:rPr>
              <a:t>Создание новых инновационных фир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10 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реги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  <a:ea typeface="Times New Roman"/>
              </a:rPr>
              <a:t>6.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дрение в научно-производственный секто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9 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реги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  <a:ea typeface="Times New Roman"/>
              </a:rPr>
              <a:t>7.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ие ресурсы в инновациях, подготовк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Arial CE"/>
              </a:rPr>
              <a:t> 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15 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реги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  <a:ea typeface="Times New Roman"/>
              </a:rPr>
              <a:t>8.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ru-RU" sz="2600" spc="-1" strike="noStrike">
                <a:solidFill>
                  <a:srgbClr val="ffffff"/>
                </a:solidFill>
                <a:latin typeface="Arial CE"/>
                <a:ea typeface="Times New Roman"/>
              </a:rPr>
              <a:t>Секторный подхо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</a:rPr>
              <a:t>	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9 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реги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</a:rPr>
              <a:t>9.   </a:t>
            </a:r>
            <a:r>
              <a:rPr b="1" lang="ru-RU" sz="2600" spc="-1" strike="noStrike">
                <a:solidFill>
                  <a:srgbClr val="ffffff"/>
                </a:solidFill>
                <a:latin typeface="Arial CE"/>
                <a:ea typeface="Times New Roman"/>
              </a:rPr>
              <a:t>Интернационализация иннова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 CE"/>
              </a:rPr>
              <a:t>	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11 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реги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5600880"/>
            <a:ext cx="1219320" cy="380880"/>
          </a:xfrm>
          <a:prstGeom prst="leftArrow">
            <a:avLst>
              <a:gd name="adj1" fmla="val 50000"/>
              <a:gd name="adj2" fmla="val 80033"/>
            </a:avLst>
          </a:prstGeom>
          <a:solidFill>
            <a:srgbClr val="ff0000"/>
          </a:solidFill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96080" y="5181480"/>
            <a:ext cx="1447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80880" y="348480"/>
            <a:ext cx="8763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 CE"/>
              </a:rPr>
              <a:t>Принятые приоритеты сфер применения за критерием PL -15</a:t>
            </a:r>
            <a:endParaRPr b="0" lang="en-US" sz="3600" spc="-1" strike="noStrike">
              <a:solidFill>
                <a:srgbClr val="ffcc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сс развития инноваций привел к повышению осознания процесса инноваций в регионах и концентрации действий способствующих развитию культуры и продвижения инноваций в стратегия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евым элементом повышения инновационной деятельности в регионах стали сети сотрудничества предприятий с институциями в региона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регионы считают необходимым создание условий для эффективной и современной системы подготовки для целей инноваций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оны в основном воспринимают малые и средние предприятия как главный двигатель инноваций и разными методами определяют целые приоритеты или отдельные задания в их поддержку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380880" y="348480"/>
            <a:ext cx="8763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 CE"/>
              </a:rPr>
              <a:t>Принятые приоритеты сфер применения за критерием PL -15</a:t>
            </a:r>
            <a:endParaRPr b="0" lang="en-US" sz="3600" spc="-1" strike="noStrike">
              <a:solidFill>
                <a:srgbClr val="ffcc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писание приоритетов и соответствующих им заданий в отдельных регионах указывает на существование интегрированного подхода к инновационной деятельности , что проявляется в свою очередь диверсификацией приоритетов и заданий среди ряда комплементарных уровней в рамках одной стратегии . Этот подход применяется как на уровне отдельных приоритетов так и целых стратегий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80880" y="348480"/>
            <a:ext cx="8763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 CE"/>
              </a:rPr>
              <a:t>Принятые приоритеты сфер применения за критерием PL -15</a:t>
            </a:r>
            <a:endParaRPr b="0" lang="en-US" sz="3600" spc="-1" strike="noStrike">
              <a:solidFill>
                <a:srgbClr val="ffcc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меры интегрированного подх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Воеводство великопольское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„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и предприятий к проведению внедрений инноваций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ритет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)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ует вмешательства в технические методы фирм, создания культуры инноваций, повышения квалификации кадров, а также помощь в развитии международного сотрудничества фирм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еводство любельское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„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предпринимательской деятельности в регионе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ритет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)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зывает на необходимость помощи предприятиям и их окружению в следующих сферах : инфраструктура, сотрудничество фирм с научно-исследовательскими институциями, созданий культуры инноваций, развитие человеческого потенциала, налаживание взаимозависимости международных фирм и результате построение системы инновационной деятельности в регион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80880" y="348480"/>
            <a:ext cx="8763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 CE"/>
              </a:rPr>
              <a:t>Принятые приоритеты сфер применения за критерием PL -15</a:t>
            </a:r>
            <a:endParaRPr b="0" lang="en-US" sz="3600" spc="-1" strike="noStrike">
              <a:solidFill>
                <a:srgbClr val="ffcc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733920" y="4343400"/>
            <a:ext cx="3352680" cy="152280"/>
          </a:xfrm>
          <a:prstGeom prst="rightArrow">
            <a:avLst>
              <a:gd name="adj1" fmla="val 50000"/>
              <a:gd name="adj2" fmla="val 550414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CE"/>
              </a:rPr>
              <a:t>Место </a:t>
            </a:r>
            <a:r>
              <a:rPr b="0" lang="pl-PL" sz="4400" spc="-1" strike="noStrike">
                <a:solidFill>
                  <a:srgbClr val="ffcc00"/>
                </a:solidFill>
                <a:latin typeface="Arial CE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 CE"/>
              </a:rPr>
              <a:t>МСП в приоритетах</a:t>
            </a: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6002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риорите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01080" y="3429000"/>
            <a:ext cx="914400" cy="2284560"/>
          </a:xfrm>
          <a:prstGeom prst="rect">
            <a:avLst/>
          </a:prstGeom>
          <a:solidFill>
            <a:srgbClr val="ffcc99"/>
          </a:solidFill>
          <a:ln w="2844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44"/>
                </a:solidFill>
                <a:latin typeface="Times New Roman"/>
              </a:rPr>
              <a:t>ФИРМЫ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44"/>
                </a:solidFill>
                <a:latin typeface="Times New Roman"/>
              </a:rPr>
              <a:t>FI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16002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1600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2286000"/>
            <a:ext cx="102888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3124080"/>
            <a:ext cx="1067040" cy="649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4038480"/>
            <a:ext cx="1067040" cy="649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5029200"/>
            <a:ext cx="1067040" cy="649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24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2209680"/>
            <a:ext cx="457200" cy="381240"/>
          </a:xfrm>
          <a:prstGeom prst="rect">
            <a:avLst/>
          </a:prstGeom>
          <a:solidFill>
            <a:srgbClr val="ffd6ad"/>
          </a:solidFill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solidFill>
            <a:srgbClr val="ffd6ad"/>
          </a:solidFill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2514600"/>
            <a:ext cx="457200" cy="380880"/>
          </a:xfrm>
          <a:prstGeom prst="rect">
            <a:avLst/>
          </a:prstGeom>
          <a:solidFill>
            <a:srgbClr val="ffd6ad"/>
          </a:solidFill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3200400"/>
            <a:ext cx="457200" cy="380880"/>
          </a:xfrm>
          <a:prstGeom prst="rect">
            <a:avLst/>
          </a:prstGeom>
          <a:solidFill>
            <a:srgbClr val="ffd6ad"/>
          </a:solidFill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352680"/>
            <a:ext cx="457200" cy="381240"/>
          </a:xfrm>
          <a:prstGeom prst="rect">
            <a:avLst/>
          </a:prstGeom>
          <a:solidFill>
            <a:srgbClr val="ffd6ad"/>
          </a:solidFill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3505320"/>
            <a:ext cx="457200" cy="380880"/>
          </a:xfrm>
          <a:prstGeom prst="rect">
            <a:avLst/>
          </a:prstGeom>
          <a:solidFill>
            <a:srgbClr val="ffd6ad"/>
          </a:solidFill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4343400"/>
            <a:ext cx="457200" cy="380880"/>
          </a:xfrm>
          <a:prstGeom prst="rect">
            <a:avLst/>
          </a:prstGeom>
          <a:solidFill>
            <a:srgbClr val="ffd6ad"/>
          </a:solidFill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4495680"/>
            <a:ext cx="457200" cy="381240"/>
          </a:xfrm>
          <a:prstGeom prst="rect">
            <a:avLst/>
          </a:prstGeom>
          <a:solidFill>
            <a:srgbClr val="ffd6ad"/>
          </a:solidFill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4648320"/>
            <a:ext cx="457200" cy="380880"/>
          </a:xfrm>
          <a:prstGeom prst="rect">
            <a:avLst/>
          </a:prstGeom>
          <a:solidFill>
            <a:srgbClr val="ffd6ad"/>
          </a:solidFill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20574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220968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2362320"/>
            <a:ext cx="30456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25146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266688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91320" y="2819520"/>
            <a:ext cx="30456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29718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2971800"/>
            <a:ext cx="30456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312408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10080" y="327672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380988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396252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5257800"/>
            <a:ext cx="30456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1008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38680" y="556272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41148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4267080"/>
            <a:ext cx="30456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441972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4572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4724280"/>
            <a:ext cx="30456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487692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396252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380988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5334120"/>
            <a:ext cx="2743200" cy="304560"/>
          </a:xfrm>
          <a:prstGeom prst="rightArrow">
            <a:avLst>
              <a:gd name="adj1" fmla="val 50000"/>
              <a:gd name="adj2" fmla="val 22517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533412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3276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487692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09680" y="23623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236232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2286000"/>
            <a:ext cx="2514600" cy="457200"/>
          </a:xfrm>
          <a:prstGeom prst="rightArrow">
            <a:avLst>
              <a:gd name="adj1" fmla="val 50000"/>
              <a:gd name="adj2" fmla="val 137500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58200" y="2057400"/>
            <a:ext cx="685800" cy="685800"/>
          </a:xfrm>
          <a:prstGeom prst="star5">
            <a:avLst/>
          </a:prstGeom>
          <a:noFill/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7527600">
            <a:off x="7992720" y="3055680"/>
            <a:ext cx="1060200" cy="130320"/>
          </a:xfrm>
          <a:prstGeom prst="rightArrow">
            <a:avLst>
              <a:gd name="adj1" fmla="val 50000"/>
              <a:gd name="adj2" fmla="val 203384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33920" y="327672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2704200">
            <a:off x="5715000" y="3581280"/>
            <a:ext cx="419040" cy="114480"/>
          </a:xfrm>
          <a:prstGeom prst="rightArrow">
            <a:avLst>
              <a:gd name="adj1" fmla="val 50000"/>
              <a:gd name="adj2" fmla="val 91509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712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647712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640080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640080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640080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640080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640080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188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92360" y="155736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Полезная практика поддержки инновационной деятельности на региональном уровне</a:t>
            </a:r>
            <a:endParaRPr b="0" lang="en-US" sz="4000" spc="-1" strike="noStrike">
              <a:solidFill>
                <a:srgbClr val="ffcc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 CE"/>
              </a:rPr>
              <a:t>Классификация инструментов поддержки инновационной деятельности с точки зрения конечных получателей</a:t>
            </a:r>
            <a:r>
              <a:rPr b="0" lang="ru-RU" sz="3400" spc="-1" strike="noStrike">
                <a:solidFill>
                  <a:srgbClr val="ffcc00"/>
                </a:solidFill>
                <a:latin typeface="Arial CE"/>
              </a:rPr>
              <a:t> </a:t>
            </a:r>
            <a:endParaRPr b="0" lang="en-US" sz="3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6843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ные на предприя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ные на работников предприят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ные на бизнес-окру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ные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научно-исследовательские структу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ные на научных сотрудников, доцентов, студентов, изобрета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ные на региональную в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ные на обществ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819520"/>
            <a:ext cx="289080" cy="2881080"/>
          </a:xfrm>
          <a:custGeom>
            <a:avLst/>
            <a:gdLst>
              <a:gd name="textAreaLeft" fmla="*/ 0 w 289080"/>
              <a:gd name="textAreaRight" fmla="*/ 104400 w 28908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7055640" y="3969720"/>
            <a:ext cx="2232000" cy="1008000"/>
          </a:xfrm>
          <a:prstGeom prst="rect">
            <a:avLst/>
          </a:prstGeom>
          <a:noFill/>
          <a:ln w="9360">
            <a:solidFill>
              <a:srgbClr val="9ce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e157"/>
                </a:solidFill>
                <a:latin typeface="Arial"/>
              </a:rPr>
              <a:t>Предприя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050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CE"/>
              </a:rPr>
              <a:t>Классификация методов поддержки инновационной деятельности с точки зрения гранто-заявителей</a:t>
            </a:r>
            <a:endParaRPr b="0" lang="en-US" sz="32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ализованные предприятия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ализованные бизнес-окружен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ализованные научно-исследовательскими структур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ализованные региональной вла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ализованные консорциумы при участии высше указанных субъектов, в т.ч. научные консорциу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-22320"/>
            <a:ext cx="7772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00"/>
                </a:solidFill>
                <a:latin typeface="Arial CE"/>
              </a:rPr>
              <a:t>Классификация методов поддержки инноваций с точки зрения</a:t>
            </a:r>
            <a:br>
              <a:rPr sz="3800"/>
            </a:br>
            <a:r>
              <a:rPr b="0" lang="ru-RU" sz="3800" spc="-1" strike="noStrike">
                <a:solidFill>
                  <a:srgbClr val="ffcc00"/>
                </a:solidFill>
                <a:latin typeface="Arial CE"/>
              </a:rPr>
              <a:t>объемов поддержки</a:t>
            </a:r>
            <a:endParaRPr b="0" lang="en-US" sz="38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424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ы на поддержку инновационной культу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ы на создание удобных условий ведения инновационной 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ы на превращение исследований в иннов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9640" y="5734080"/>
            <a:ext cx="7848720" cy="649080"/>
          </a:xfrm>
          <a:prstGeom prst="rect">
            <a:avLst/>
          </a:prstGeom>
          <a:noFill/>
          <a:ln w="15840">
            <a:solidFill>
              <a:srgbClr val="9ce15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ce157"/>
                </a:solidFill>
                <a:latin typeface="Arial"/>
              </a:rPr>
              <a:t>В соответствии с </a:t>
            </a:r>
            <a:r>
              <a:rPr b="0" lang="pl-PL" sz="1800" spc="-1" strike="noStrike">
                <a:solidFill>
                  <a:srgbClr val="9ce157"/>
                </a:solidFill>
                <a:latin typeface="Arial"/>
              </a:rPr>
              <a:t>Trend Chart Innovation Policy in 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000" y="374040"/>
            <a:ext cx="82803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 CE"/>
              </a:rPr>
              <a:t>Проинновационная деятельность </a:t>
            </a:r>
            <a:r>
              <a:rPr b="0" lang="pl-PL" sz="3200" spc="-1" strike="noStrike">
                <a:solidFill>
                  <a:srgbClr val="ffcc66"/>
                </a:solidFill>
                <a:latin typeface="Arial CE"/>
              </a:rPr>
              <a:t> - </a:t>
            </a:r>
            <a:r>
              <a:rPr b="0" lang="ru-RU" sz="3200" spc="-1" strike="noStrike">
                <a:solidFill>
                  <a:srgbClr val="ffcc66"/>
                </a:solidFill>
                <a:latin typeface="Arial CE"/>
              </a:rPr>
              <a:t>Греция</a:t>
            </a:r>
            <a:endParaRPr b="0" lang="en-US" sz="32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Центры технологии – развитие сети услуг для предпринимателей в сфере передачи технологий и знани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лавные цели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ддержка предпринимателей в сфере методов передачи технологий с  помощью создания центров и сети передачи технолог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ификация доступных предложений технологий предложенными предприятиями и научно-исследовательскими структурам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звитие инновационных продуктов и технологий, а также поддержка процессов адаптации в регион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слуги для предпринимателей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дентификация и продвижение технологий в регионе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(ii)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хнологические аудиты на предприятиях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сследование рынка в сфере новых технологий и оценки технологий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переговоров с целью принятия технологии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ступительные тесты способности адаптации технологии в предприятии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комендации в сфере интеллектуальной собствен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предприятий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in-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Политика инновации</a:t>
            </a:r>
            <a:endParaRPr b="0" lang="en-US" sz="40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яд действий влияющих на повышение количества и эффективности инновационной деятельности, инновационная деятельность в свою очередь относится к созданию, адаптации и принятию  новых или усовершенствованных продуктов, процессов или услуг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European Commission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Innovation Policy in a Knowledge- Based Econom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280" y="648720"/>
            <a:ext cx="820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66"/>
                </a:solidFill>
                <a:latin typeface="Arial CE"/>
              </a:rPr>
              <a:t>Проинновационная деятельность </a:t>
            </a:r>
            <a:r>
              <a:rPr b="0" lang="pl-PL" sz="2800" spc="-1" strike="noStrike">
                <a:solidFill>
                  <a:srgbClr val="ffcc66"/>
                </a:solidFill>
                <a:latin typeface="Arial CE"/>
              </a:rPr>
              <a:t> - Греция</a:t>
            </a:r>
            <a:endParaRPr b="0" lang="en-US" sz="28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ластерование ма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ых и средних предприят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ль деятельности: развитие продуктивности, инновационности и конкурентоспособности малых и очень мелких предприятий через их участие в кластерах которые предлагают стоимость которая возникает от соединения малых и больших финансовых и рыночных потенциалов. С другой стороны целью является повышение конкурентной способности предприятий и их способности к увеличению занят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дания деятельности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(i)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бъединение минимум 3-х объектов и включение в кластер минимум 7 очередных фир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(ii)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инансовая поддержка на покрытие средств, потраченных на создание кластера, а в частности, зарплаты, рекламных материалов, инструментов обмена информацией, обучения, анализа рынка, открытия офис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646920"/>
            <a:ext cx="842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 CE"/>
              </a:rPr>
              <a:t>Проинновационная деятельность</a:t>
            </a:r>
            <a:r>
              <a:rPr b="0" lang="pl-PL" sz="3200" spc="-1" strike="noStrike">
                <a:solidFill>
                  <a:srgbClr val="ffcc66"/>
                </a:solidFill>
                <a:latin typeface="Arial CE"/>
              </a:rPr>
              <a:t> - </a:t>
            </a:r>
            <a:r>
              <a:rPr b="0" lang="ru-RU" sz="3200" spc="-1" strike="noStrike">
                <a:solidFill>
                  <a:srgbClr val="ffcc66"/>
                </a:solidFill>
                <a:latin typeface="Arial CE"/>
              </a:rPr>
              <a:t>Греция</a:t>
            </a:r>
            <a:endParaRPr b="0" lang="en-US" sz="32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вери открыты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движение инноваций в регионе через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елю инноваций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ли деятельности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легчить обществу доступ к научно-исследовательской деятельности реализованной с помощью общественных исследовательских центров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ъяснение предложений этих институций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величение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можности выбора науки и исследований,  а также, ознакомление исследователей со мнением общества и их потребностя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дания деятельности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(i)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нцентрация на определенной группе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щество, предприниматели, студенты, молодежь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(ii)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концентрация на конкретных промо-мероприятиях (конференции, торги, семинары, конкурсы, выставки, научные визиты, публикации, радио/тв и др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рытие зарплаты, открытия, обучения, внешних услу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инансирование проектов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, которые минимум ориентированы на 50 лиц или 25 субъект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74040"/>
            <a:ext cx="80773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 CE"/>
              </a:rPr>
              <a:t>Проинновационная деятельность</a:t>
            </a:r>
            <a:r>
              <a:rPr b="0" lang="pl-PL" sz="3200" spc="-1" strike="noStrike">
                <a:solidFill>
                  <a:srgbClr val="ffcc66"/>
                </a:solidFill>
                <a:latin typeface="Arial CE"/>
              </a:rPr>
              <a:t> - </a:t>
            </a:r>
            <a:r>
              <a:rPr b="0" lang="ru-RU" sz="3200" spc="-1" strike="noStrike">
                <a:solidFill>
                  <a:srgbClr val="ffcc66"/>
                </a:solidFill>
                <a:latin typeface="Arial CE"/>
              </a:rPr>
              <a:t>Норвегия</a:t>
            </a:r>
            <a:endParaRPr b="0" lang="en-US" sz="32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грамма обучения предпринимательской деятельности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в упадочных област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ь стимулирования  предпринимательской деятельности с целью создания новых рабочих мест основываясь на упадочный уровень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новная 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Адресована ученикам началь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ых и средних школ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ходящихся в упадке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новываются на совместной работе школ, местных авторитетов, а также предприятий и целью которой является обучение детей и молодежи деловой креативности и предпринимательской деятельности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знание собственной креативности и способности использования локальных ценностей и способов развития новой деятель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тивирование желания создания «школьных предприятий», как инструмент обучения, элемента локальной структуры , а также , акселератора местного предпринима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74040"/>
            <a:ext cx="83059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 CE"/>
              </a:rPr>
              <a:t>Проинновационная деятельность </a:t>
            </a:r>
            <a:r>
              <a:rPr b="0" lang="pl-PL" sz="3200" spc="-1" strike="noStrike">
                <a:solidFill>
                  <a:srgbClr val="ffcc66"/>
                </a:solidFill>
                <a:latin typeface="Arial CE"/>
              </a:rPr>
              <a:t> - </a:t>
            </a:r>
            <a:r>
              <a:rPr b="0" lang="ru-RU" sz="3200" spc="-1" strike="noStrike">
                <a:solidFill>
                  <a:srgbClr val="ffcc66"/>
                </a:solidFill>
                <a:latin typeface="Arial CE"/>
              </a:rPr>
              <a:t>Бельгия</a:t>
            </a:r>
            <a:endParaRPr b="0" lang="en-US" sz="32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дача полезного опыта между предприятиями и МС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величение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мпетенции и эволюции малых и средних предприят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величение активности в сфере инноваций, а также конкурентности с помощью передачи полезного опыта больших предприят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лаживание длительных связей в научно-исследовательской деятельност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(iv)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звитие предпринимательства и улучшение понимания взглядов малых и средних предприятий через работников больших предприят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новная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ятельность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ндивидуальные рекомендации больших предприятий малы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енарные сессии сетей, объединяющих малые, средние и большие предприят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создание сети связей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совмест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ые рекламные и информационные инициативы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работка отчетов о возможностях реализации совместных проектов и д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CE"/>
              </a:rPr>
              <a:t>Будущее региональной инновационной политики в Польше</a:t>
            </a:r>
            <a:endParaRPr b="0" lang="en-US" sz="36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иск полезной практики – перенятие опыта у друг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Benchmarking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емление к лучше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плементация региональной стратегии иннова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тимальное использование структурных фон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Поточний мониторинг досягаемых результа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Будущее инновационной политики в Украине</a:t>
            </a:r>
            <a:endParaRPr b="0" lang="en-US" sz="40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ение и структуризация внутренних экономических процес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enchma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иск полезной практ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ализ возможности использования финансовых механизмов в 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520" y="16002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CE"/>
              </a:rPr>
              <a:t>Такая инновационная политика направит регион на путь длительного инновационного развития</a:t>
            </a:r>
            <a:r>
              <a:rPr b="0" lang="pl-PL" sz="4400" spc="-1" strike="noStrike">
                <a:solidFill>
                  <a:srgbClr val="ffcc00"/>
                </a:solidFill>
                <a:latin typeface="Arial CE"/>
              </a:rPr>
              <a:t>!</a:t>
            </a:r>
            <a:endParaRPr b="0" lang="en-US" sz="4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Инновационная политика</a:t>
            </a:r>
            <a:endParaRPr b="0" lang="en-US" sz="40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новационная политика основывается на поддержке государством инновационной деятельности, которую ведут юридические и физические лица. Целью инновационной политики в первую очередь является рост конкурентности польских предприятий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нистерство экономики и тру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Инновационная политика</a:t>
            </a:r>
            <a:endParaRPr b="0" lang="en-US" sz="40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Инновационная деятельность – это ряд действий научного (исследовательского), технического, организационного, финансового и торгового (коммерческого) характера, целью которых является обработка и внедрение новых или радикально улучшенных продуктов и процессов. Некоторые из этих действий уже сами по себе являются инновациями, а другие, хотя могут и не нести в себе элементы новизны, но необходимы для обработки и внедрения инноваци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нистерство экономики и тру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1600200"/>
            <a:ext cx="48006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авленная на потребности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итель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2767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ческая м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9877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синергический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76244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зрач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4864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CE"/>
              </a:rPr>
              <a:t>Эффективная инновационная полит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2819520"/>
            <a:ext cx="2361960" cy="990360"/>
          </a:xfrm>
          <a:custGeom>
            <a:avLst/>
            <a:gdLst>
              <a:gd name="textAreaLeft" fmla="*/ 369000 w 2361960"/>
              <a:gd name="textAreaRight" fmla="*/ 2066760 w 236196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1295280"/>
            <a:ext cx="2514600" cy="2667240"/>
          </a:xfrm>
          <a:prstGeom prst="flowChartMultidocumen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грацион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хо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4724280"/>
            <a:ext cx="1676520" cy="1600200"/>
          </a:xfrm>
          <a:prstGeom prst="flowChartMultidocumen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С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396252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639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Интеграционный подход к инновационности МСП</a:t>
            </a:r>
            <a:endParaRPr b="0" lang="en-US" sz="40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ществование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комплементар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ых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йствий во многих сферах, на пример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роение культуры иннова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держка проникновения (диффузии) технолог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движение сетей и класте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держка исследован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ждународное сотруднич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ществование взаимосвязи между отдельными действия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Региональная инновационная страте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875520"/>
            <a:ext cx="77724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cc00"/>
                </a:solidFill>
                <a:latin typeface="Arial CE"/>
              </a:rPr>
              <a:t>Региональная стратегия инноваций</a:t>
            </a:r>
            <a:endParaRPr b="0" lang="en-US" sz="34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гиональные стратегии инноваций – это внутренний восходящий процесс, направленный на деловые услуги. Эти задания рассчитаны на долговременное планирование и для того , чтобы они были успешными нужно распространять связи между деятелями в области региональной иннов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DG Regio, DG Enterprise, RIS Practical Gu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CE"/>
              </a:rPr>
              <a:t>Региональная стратегия </a:t>
            </a:r>
            <a:endParaRPr b="0" lang="en-US" sz="4000" spc="-1" strike="noStrike">
              <a:solidFill>
                <a:srgbClr val="ffcc00"/>
              </a:solidFill>
              <a:latin typeface="Arial C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гиональная стратегия инноваций (РСИ) направлена на содействие региональным или локальным структурам, а также организациям регионального развития во время внедрения эффективной системы поддержки инновационности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регион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ратегия должна определить направление инновационной политики и способы оптимизации региональной структуры, содействующей инновациям в зависимости от ее соответствия потребностям малых и средних предприят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98d43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нистерство науки и информатиз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09:22:35Z</dcterms:created>
  <dc:creator>Klepka</dc:creator>
  <dc:description/>
  <dc:language>en-US</dc:language>
  <cp:lastModifiedBy>Cris</cp:lastModifiedBy>
  <dcterms:modified xsi:type="dcterms:W3CDTF">2005-10-03T14:26:45Z</dcterms:modified>
  <cp:revision>86</cp:revision>
  <dc:subject/>
  <dc:title>Regionalna Polityka Innowacji w Polsce Regional Innovation Policy in Poland </dc:title>
</cp:coreProperties>
</file>