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062-DD22-474D-AD6F-C173D76F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B82-E0AB-4D8F-BAA3-97EA07A1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709-8ABE-4699-A1C3-50ADEE8D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D6A-2A8C-4030-BAF7-DB573F2A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BB7-FA11-48D2-A1C0-4AFFA7E6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C21-64BD-436E-84B6-E79775E9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F6F8-95FE-44C6-8619-4D60C520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87E-3B79-4503-887B-09350666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262-1D31-47E8-B19F-6A7B3F9C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E09-779A-4F4B-8815-DE4CDFA4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64C-6FFE-4AB5-ABD2-427B3963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02D-411C-4B4D-A2E9-6016DAD8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14AC-FBA1-49AB-9744-E721ED26149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33520"/>
            <a:ext cx="8381880" cy="18288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4320" y="781200"/>
            <a:ext cx="810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REGIONALNA STRATEGIA INNOWACYJN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W WOJEWÓDZTWIE ZACHODNIOPOMORSK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I EFEKTY JEJ WDRO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2536920"/>
            <a:ext cx="820908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Zbigniew P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Zachodniopomorskie Stowarzyszenie Rozwoju Gospodarcz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- Szczecińskie Centrum Przedsiębiorczoś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2560" y="630864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66"/>
                </a:solidFill>
                <a:latin typeface="Arial"/>
              </a:rPr>
              <a:t>Auszta, wrzesień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Факторы инновационной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6994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(Внешний) ры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оступ к Интерне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Размер гор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Область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Обор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Занят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ертификаты кач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Факторы европейской актив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620244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(внешний) 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бласть деятельности (промышленност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1160"/>
            <a:ext cx="87854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Факторы успеха</a:t>
            </a:r>
            <a:r>
              <a:rPr b="1" lang="pl-PL" sz="3200" spc="-1" strike="noStrike">
                <a:solidFill>
                  <a:srgbClr val="ff660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ли чем отличаются преуспевающие фирмы от друг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981000"/>
          <a:ext cx="8136000" cy="5889600"/>
        </p:xfrm>
        <a:graphic>
          <a:graphicData uri="http://schemas.openxmlformats.org/drawingml/2006/table">
            <a:tbl>
              <a:tblPr/>
              <a:tblGrid>
                <a:gridCol w="6770520"/>
                <a:gridCol w="1365480"/>
              </a:tblGrid>
              <a:tr h="28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в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Miara różn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.1.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Инновационная деятельность: внедрение новой технологии произво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6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.2.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Инновационная деятельность: внедрение новых систем управления фирм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6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M8.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диус действий рынка (внеш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6.1.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вышение числа клиентов в результате инновацион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6,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.1.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ценка силбных сторон; качество наших услуг выше обыч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M6.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Обор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.9.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ценка силбных сторон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: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наши рынки сбыта шире друг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.4.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Инновационная деятельность; внедрение новых практических знаний, патентов, лиценз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4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M11.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Лучший доступ к ресурсам Интерн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8.1.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Участие в семинар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6.2.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ыход на новые ры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4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6.12.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движение новых проду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4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4.1.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Сотрудничество с Агентством Регионального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3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9.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Деятельность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 B+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3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2.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В распоряжении фирмы находятся материалы связанные с разработкой новых продуктов и технолог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3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.8.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ширение ассортим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3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.10.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Оценка сильных сторон; у  нас больше информации о новых технологических разработках и процесс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3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.5.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Закупка нового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3. 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Мы знаем как составить стратегический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3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6.4.</a:t>
                      </a:r>
                      <a:r>
                        <a:rPr b="1" lang="pl-PL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вышение производственных способностей фи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84360" y="1268280"/>
          <a:ext cx="73594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3594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-152280" y="152280"/>
            <a:ext cx="937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6600"/>
                </a:solidFill>
                <a:uFillTx/>
                <a:latin typeface="Arial"/>
              </a:rPr>
              <a:t>II </a:t>
            </a:r>
            <a:r>
              <a:rPr b="1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рабочий коллектив</a:t>
            </a:r>
            <a:r>
              <a:rPr b="1" lang="pl-PL" sz="2800" spc="-1" strike="noStrike" u="sng">
                <a:solidFill>
                  <a:srgbClr val="ff66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66"/>
                </a:solidFill>
                <a:latin typeface="Arial"/>
              </a:rPr>
              <a:t>Анализ технологического предложения регион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24000" y="228600"/>
          <a:ext cx="8583480" cy="6753240"/>
        </p:xfrm>
        <a:graphic>
          <a:graphicData uri="http://schemas.openxmlformats.org/drawingml/2006/table">
            <a:tbl>
              <a:tblPr/>
              <a:tblGrid>
                <a:gridCol w="395280"/>
                <a:gridCol w="5910120"/>
                <a:gridCol w="1219320"/>
                <a:gridCol w="1058760"/>
              </a:tblGrid>
              <a:tr h="825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бласти в которых не существует предложение на технолог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66"/>
                      </a:solidFill>
                    </a:lnR>
                    <a:lnT>
                      <a:noFill/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участ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участ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птовая торговл за исключением торговли машинами и мотоцикл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7,3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озничная торговля за исключением торговли машинами и мотоцикл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6,7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ухопутный и трубопроводный транспор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2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,3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Издательская и полиграфияеская дея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,1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даж и ремонт маши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,8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изводство мебел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,7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изводство резиновых издели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7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,4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даж недвижим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,1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еятельность туристических агентств, транспор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6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,1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Торговля древесин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3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,7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изводство одеж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,7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изводство целлюлез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,7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изводство ткан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,5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Финансовое посредниче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,5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ыделка кож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7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Горная промышлен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5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paliw jądrowy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5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117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 обще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5,0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52280" y="304920"/>
          <a:ext cx="8839440" cy="6681600"/>
        </p:xfrm>
        <a:graphic>
          <a:graphicData uri="http://schemas.openxmlformats.org/drawingml/2006/table">
            <a:tbl>
              <a:tblPr/>
              <a:tblGrid>
                <a:gridCol w="447840"/>
                <a:gridCol w="6591240"/>
                <a:gridCol w="846000"/>
                <a:gridCol w="954360"/>
              </a:tblGrid>
              <a:tr h="687960">
                <a:tc gridSpan="2"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бласти в которых существует предложение на технолог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едлож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про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1419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участ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участ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роительство</a:t>
                      </a:r>
                      <a:r>
                        <a:rPr b="0" lang="pl-PL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7,4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2,7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ельское хозяйство, рыболовство, охотничий промысе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9,8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0,6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ищевая промышлен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6,2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6,8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ругие виды деятельности связанной с бизнес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6,7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,1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Produkcja wyr. z pozostałych surowców niemetalicznych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3,9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,1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изводство хирургических инструмент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7,5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,7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изводство сельскохозяйственных маши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3,7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,4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изводство электрической аппаратуры</a:t>
                      </a:r>
                      <a:r>
                        <a:rPr b="0" lang="pl-PL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,0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,5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изводство других вид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,1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,5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Речной и морской транспорт</a:t>
                      </a:r>
                      <a:r>
                        <a:rPr b="1" lang="pl-PL" sz="13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1,9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1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изводство электрической энерг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7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изводство химикат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3,5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8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чистка в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,0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7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Производство других видов транспортных средст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2,9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0,5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аллург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1,9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5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изводство аудио и видео-техни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5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Лесовод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3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0,5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291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 обще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65,6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52,8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База технологических предложений Западнопоморского воевод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263600"/>
            <a:ext cx="853452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66"/>
                </a:solidFill>
                <a:latin typeface="Arial"/>
              </a:rPr>
              <a:t>OFERTY ZWIĄZANE Z TECHNIKĄ MORSK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66"/>
                </a:solidFill>
                <a:uFillTx/>
                <a:latin typeface="Arial"/>
              </a:rPr>
              <a:t>Politechnika Szczecińsk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Silniki tarczowe z komutacją elektroniczną o ruchu przeciwbieżnym elementów aktyw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Bezszczotkowy wysokomomentowy regulowany napęd elektryczny małej i średniej mocy o podwyższonych wskaźnikach energetycz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Barka rzeczna z paneli sandwicz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System monitoringu podwod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66"/>
                </a:solidFill>
                <a:uFillTx/>
                <a:latin typeface="Arial"/>
              </a:rPr>
              <a:t>Akademia Rolnicz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Narzędzie połowowe – mieroża do połowu ry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Niskooporowy włok pelagiczny dla kutrów o mocy silnika 500-600 K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Wielozadaniowa pokładowa łódź rybacka Lc=12,4m i typoszereg jednostek różnej długości i o podobnej konstruk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66"/>
                </a:solidFill>
                <a:uFillTx/>
                <a:latin typeface="Arial"/>
              </a:rPr>
              <a:t>Akademia Morsk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Symulacyjna metoda wymiarowania obszaru manewrowego, oceny bezpieczeństwa żeglugi oraz wspomagania manewru na akwenach ograniczo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Badanie i projektowanie urządzeń i instalacji do oczyszczania w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Homogenizator Statycz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Technologia kompozytów metal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Symulacja komputerowa i badania laboratoryjne elementów wykonanych z materiałów hiperelastycz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Optymalizacja procesów składowania, przeładunków i przewozów ze szczególnym uwzględnieniem jakości, bezpieczeństwa i ochrony środowi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66"/>
                </a:solidFill>
                <a:uFillTx/>
                <a:latin typeface="Arial"/>
              </a:rPr>
              <a:t>Politechnika Koszalińsk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12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Technologia plastycznego kształtowania elementów walc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66"/>
                </a:solidFill>
                <a:uFillTx/>
                <a:latin typeface="Arial"/>
              </a:rPr>
              <a:t>Autocomp Electronic Sp. z o.o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Dynamiczna Stabilizacja Położenia (DSP) i ruchu jednostek pływa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9280" y="2209320"/>
            <a:ext cx="8604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изкая кредитоспособ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тсутствие кредитного обесп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раткий срок действования фирмы на рын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изкий основной капит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лохое бюджетное и стратегическое план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еумение составить бизнес-пл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еумение аргументировать просьбу о признание кред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2952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Препятствия на пути к получению финанс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522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6600"/>
                </a:solidFill>
                <a:uFillTx/>
                <a:latin typeface="Arial"/>
              </a:rPr>
              <a:t>III </a:t>
            </a:r>
            <a:r>
              <a:rPr b="1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рабочий коллектив</a:t>
            </a:r>
            <a:r>
              <a:rPr b="1" lang="pl-PL" sz="2800" spc="-1" strike="noStrike" u="sng">
                <a:solidFill>
                  <a:srgbClr val="ff6600"/>
                </a:solidFill>
                <a:uFillTx/>
                <a:latin typeface="Arial"/>
              </a:rPr>
              <a:t>:</a:t>
            </a:r>
            <a:r>
              <a:rPr b="0" lang="pl-PL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Оценка финансовых и вне-финансовых инструментов поддержки МС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57200" y="2060640"/>
          <a:ext cx="8077320" cy="4189320"/>
        </p:xfrm>
        <a:graphic>
          <a:graphicData uri="http://schemas.openxmlformats.org/drawingml/2006/table">
            <a:tbl>
              <a:tblPr/>
              <a:tblGrid>
                <a:gridCol w="533520"/>
                <a:gridCol w="6095880"/>
                <a:gridCol w="1447920"/>
              </a:tblGrid>
              <a:tr h="453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Но</a:t>
                      </a:r>
                      <a:r>
                        <a:rPr b="1" lang="pl-PL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Цели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 общ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дготовка кадров и консультацион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имулирование развития местной эконом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пуляризация региона и его фир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мощь при создании новых фир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Использование помощи 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едставление интересов фир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Защита интересов рабо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мощь для безработных в находк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Финансовая поддерж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380880" y="228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Цели деятельности не-финансовыхс институтов поддерж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315120" cy="5362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53080" y="4876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Województwo zachodniopomorsk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5791320"/>
            <a:ext cx="50292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66"/>
                </a:solidFill>
                <a:latin typeface="Arial"/>
              </a:rPr>
              <a:t>powierzchnia:</a:t>
            </a:r>
            <a:r>
              <a:rPr b="1" lang="pl-PL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66"/>
                </a:solidFill>
                <a:latin typeface="Arial"/>
              </a:rPr>
              <a:t>22 896 km</a:t>
            </a:r>
            <a:r>
              <a:rPr b="1" lang="pl-PL" sz="1800" spc="-1" strike="noStrike" baseline="30000">
                <a:solidFill>
                  <a:srgbClr val="ffff66"/>
                </a:solidFill>
                <a:latin typeface="Arial"/>
              </a:rPr>
              <a:t>2   </a:t>
            </a:r>
            <a:r>
              <a:rPr b="1" lang="pl-PL" sz="1800" spc="-1" strike="noStrike">
                <a:solidFill>
                  <a:srgbClr val="ffff66"/>
                </a:solidFill>
                <a:latin typeface="Arial"/>
              </a:rPr>
              <a:t>( 5 w Polsc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66"/>
                </a:solidFill>
                <a:latin typeface="Arial"/>
              </a:rPr>
              <a:t>ludność:</a:t>
            </a:r>
            <a:r>
              <a:rPr b="1" lang="pl-PL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66"/>
                </a:solidFill>
                <a:latin typeface="Arial"/>
              </a:rPr>
              <a:t>1 695 tys.     ( 11 w Polsce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495680" y="2666520"/>
            <a:ext cx="2895840" cy="2210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05360" y="152280"/>
            <a:ext cx="4986360" cy="6553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000" y="1484280"/>
            <a:ext cx="3935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6600"/>
                </a:solidFill>
                <a:uFillTx/>
                <a:latin typeface="Arial"/>
              </a:rPr>
              <a:t>IV </a:t>
            </a:r>
            <a:r>
              <a:rPr b="1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рабочий коллектив</a:t>
            </a:r>
            <a:r>
              <a:rPr b="1" lang="pl-PL" sz="2800" spc="-1" strike="noStrike" u="sng">
                <a:solidFill>
                  <a:srgbClr val="ff6600"/>
                </a:solidFill>
                <a:uFillTx/>
                <a:latin typeface="Arial"/>
              </a:rPr>
              <a:t> 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Сценарии развития для самых отсталых реги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Методология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5438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"/>
              </a:rPr>
              <a:t>3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семина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Участники</a:t>
            </a:r>
            <a:r>
              <a:rPr b="0" lang="pl-PL" sz="3200" spc="-1" strike="noStrike">
                <a:solidFill>
                  <a:srgbClr val="ffff66"/>
                </a:solidFill>
                <a:latin typeface="Arial"/>
              </a:rPr>
              <a:t>: </a:t>
            </a:r>
            <a:br>
              <a:rPr sz="3200"/>
            </a:br>
            <a:r>
              <a:rPr b="0" lang="pl-PL" sz="3200" spc="-1" strike="noStrike">
                <a:solidFill>
                  <a:srgbClr val="ffff66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редставитель местных властей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редприниматель</a:t>
            </a:r>
            <a:r>
              <a:rPr b="0" lang="pl-PL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Значение морской экономики</a:t>
            </a:r>
            <a:r>
              <a:rPr b="1" lang="pl-PL" sz="3200" spc="-1" strike="noStrike">
                <a:solidFill>
                  <a:srgbClr val="ff66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77520"/>
            <a:ext cx="77770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Морская экономика – один из главных пунктов Стратегии Развития Западнопоморского воевод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Все время уменьшается знаяение морской экономики для развития регио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Морская экономика не выполняет уже роли экономического стабилизато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Морская экономика требует больших капиталовлож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Стратегическая цель</a:t>
            </a:r>
            <a:r>
              <a:rPr b="1" lang="pl-PL" sz="2000" spc="-1" strike="noStrike">
                <a:solidFill>
                  <a:srgbClr val="ff6600"/>
                </a:solidFill>
                <a:latin typeface="Arial"/>
              </a:rPr>
              <a:t> 1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Рост инновационного сознания МС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770120"/>
            <a:ext cx="800748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66"/>
                </a:solidFill>
                <a:uFillTx/>
                <a:latin typeface="Arial"/>
              </a:rPr>
              <a:t>Опеоационные цели</a:t>
            </a:r>
            <a:r>
              <a:rPr b="0" lang="pl-PL" sz="2200" spc="-1" strike="noStrike" u="sng">
                <a:solidFill>
                  <a:srgbClr val="ffff66"/>
                </a:solidFill>
                <a:uFillTx/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Всеобщий доступ к информации о инновационных инициятива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     Система обучения которая популяризует активность, предприимчивость и инновационн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3.   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Популяризация инновационных инициати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Стратегическая цель</a:t>
            </a:r>
            <a:r>
              <a:rPr b="1" lang="pl-PL" sz="2000" spc="-1" strike="noStrike">
                <a:solidFill>
                  <a:srgbClr val="ff6600"/>
                </a:solidFill>
                <a:latin typeface="Arial"/>
              </a:rPr>
              <a:t> 2:</a:t>
            </a:r>
            <a:br>
              <a:rPr sz="2000"/>
            </a:b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Создать условия создания рынка технологий в регио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2098800"/>
            <a:ext cx="85150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Опеоационные цели</a:t>
            </a:r>
            <a:r>
              <a:rPr b="0" lang="pl-PL" sz="2200" spc="-1" strike="noStrike" u="sng">
                <a:solidFill>
                  <a:srgbClr val="ffff66"/>
                </a:solidFill>
                <a:uFillTx/>
                <a:latin typeface="Arial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1.   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Система трансфера технологий и инновационных реш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2.    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Мониторинг и анализ технологических и инновационных  нужд предприят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3.    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Поддержка стратегически важных для региона исследовательских област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4.    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Содействие созданию новых инновационных фир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Стратегическая цель</a:t>
            </a:r>
            <a:r>
              <a:rPr b="1" lang="pl-PL" sz="2000" spc="-1" strike="noStrike">
                <a:solidFill>
                  <a:srgbClr val="ff6600"/>
                </a:solidFill>
                <a:latin typeface="Arial"/>
              </a:rPr>
              <a:t> 3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Развитие системы поддержки инновационной деятельности в регио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994040"/>
            <a:ext cx="800748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66"/>
                </a:solidFill>
                <a:uFillTx/>
                <a:latin typeface="Arial"/>
              </a:rPr>
              <a:t>Операционные цели</a:t>
            </a:r>
            <a:r>
              <a:rPr b="0" lang="pl-PL" sz="2200" spc="-1" strike="noStrike" u="sng">
                <a:solidFill>
                  <a:srgbClr val="ffff66"/>
                </a:solidFill>
                <a:uFillTx/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1.   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Создать ряд инструментовфинансовой поддержки для МСП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2.   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Приспособить предложение фирм финансовой поддержки к нуждам МСП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380880"/>
            <a:ext cx="8382240" cy="12956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Инновационность и сотрудничеств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главные чер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морской экономики реги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637000"/>
            <a:ext cx="84582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Интегрированная Операционная Программа Регионального Разви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Региональные стратегии развития и трансфера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304920"/>
            <a:ext cx="7010280" cy="10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Партнеры прое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219320"/>
            <a:ext cx="83818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Stocznia Szczecińska Nowa Sp. z o.o – koordynator projekt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Stocznia Remontowa „Gryfia” S.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Porta Styl Sp. z o.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Zarząd Morskich Portów Szczecin i Świnoujście S.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Politechnika Szczecińs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Akademia Mors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Uniwersytet Szczeciń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Zachodniopomorskie Stowarzyszenie Rozwoju Gospodarczego – Szczecińskie Centrum Przedsiębiorczośc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40840" y="304920"/>
            <a:ext cx="29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Цель прое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371600"/>
            <a:ext cx="822960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Повысить конкурентоспособность Западнопоморского региона (в области внедрения инновационных технологий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Создать систему коммуникации и сотрудничества между предприятиями морской экономики, исследовательским сектором и фирмами оказующими финансовую помощ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75920" y="30492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371600"/>
            <a:ext cx="82296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2750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Анализы потенциала МСП, больших фирм и исследовательских институтов которые действуют в сфере морской экономи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2750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Организация «бирж кооперации», информационных встреч, которые стимулируют сотрудничество в области развития иннова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2750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Создание интернетной базы данных (предложения сотрудничества, информация о возможностях финансирования проектов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73840" y="457200"/>
            <a:ext cx="810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AJLEPIEJ ROZWIJAJĄCE SIĘ BRANŻ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W WOJEWÓDZTWIE ZACHODNIOPOMORSK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46440" y="1677960"/>
            <a:ext cx="63021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przetwórstwo ryb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przetwórstwo drewna i produkcja mebl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duże gospodarstwa rolne – silna pozycja sektorow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znacząca rola gospodarki morsk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9880" y="152280"/>
            <a:ext cx="857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Препятствия на пути к инновацион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ектора морской эконом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295280"/>
            <a:ext cx="822960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Отсутствие источников информации о возможностях финансирования новых технолог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Отсутствие знаний о других предметах морской эконом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опернич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роблемы с определением технологических нужд фир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Отсутствие источников «профессиональных знаний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лабая финансовая поддерж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05000" y="457200"/>
            <a:ext cx="39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Бюджет проек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0280" y="1539720"/>
            <a:ext cx="4015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66"/>
                </a:solidFill>
                <a:latin typeface="Arial"/>
              </a:rPr>
              <a:t>1 788 558, 40 z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Финансирование</a:t>
            </a:r>
            <a:r>
              <a:rPr b="1" lang="pl-PL" sz="2400" spc="-1" strike="noStrike">
                <a:solidFill>
                  <a:srgbClr val="ffff66"/>
                </a:solidFill>
                <a:latin typeface="Arial"/>
              </a:rPr>
              <a:t>:   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28600"/>
            <a:ext cx="7315200" cy="259092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5000" y="3962520"/>
            <a:ext cx="34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Длитель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920" y="5091120"/>
            <a:ext cx="514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66"/>
                </a:solidFill>
                <a:latin typeface="Arial"/>
              </a:rPr>
              <a:t>27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66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ентябь</a:t>
            </a:r>
            <a:r>
              <a:rPr b="1" lang="pl-PL" sz="2400" spc="-1" strike="noStrike">
                <a:solidFill>
                  <a:srgbClr val="ffff66"/>
                </a:solidFill>
                <a:latin typeface="Arial"/>
              </a:rPr>
              <a:t> 2005 – 30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Ноябрь</a:t>
            </a:r>
            <a:r>
              <a:rPr b="1" lang="pl-PL" sz="2400" spc="-1" strike="noStrike">
                <a:solidFill>
                  <a:srgbClr val="ffff66"/>
                </a:solidFill>
                <a:latin typeface="Arial"/>
              </a:rPr>
              <a:t>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733920"/>
            <a:ext cx="7315200" cy="274320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76320"/>
            <a:ext cx="8382240" cy="144756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049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Центр популяризации и трансфера технологий</a:t>
            </a:r>
            <a:r>
              <a:rPr b="1" lang="pl-PL" sz="3200" spc="-1" strike="noStrike">
                <a:solidFill>
                  <a:srgbClr val="3333cc"/>
                </a:solidFill>
                <a:latin typeface="Arial"/>
              </a:rPr>
              <a:t>(CPiT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79960" y="1752480"/>
            <a:ext cx="61869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Штудия возможнос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Подготовлено для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</a:rPr>
              <a:t> dla CPiT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 Западнопоморском воевод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304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Предприимчивость в Польше – региональная программа поддержки МС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52480"/>
            <a:ext cx="8058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Программу финансируют: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PHARE 2002 SSG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и польское государств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6600"/>
                </a:solidFill>
                <a:uFillTx/>
                <a:latin typeface="Arial"/>
              </a:rPr>
              <a:t>Реализатор контракта</a:t>
            </a:r>
            <a:r>
              <a:rPr b="0" lang="pl-PL" sz="2200" spc="-1" strike="noStrike" u="sng">
                <a:solidFill>
                  <a:srgbClr val="ff6600"/>
                </a:solidFill>
                <a:uFillTx/>
                <a:latin typeface="Arial"/>
              </a:rPr>
              <a:t>: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– Danish Technological Instit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6600"/>
                </a:solidFill>
                <a:uFillTx/>
                <a:latin typeface="Arial"/>
              </a:rPr>
              <a:t>Единица занимающаяся внедрением</a:t>
            </a:r>
            <a:r>
              <a:rPr b="0" lang="pl-PL" sz="2200" spc="-1" strike="noStrike" u="sng">
                <a:solidFill>
                  <a:srgbClr val="ff6600"/>
                </a:solidFill>
                <a:uFillTx/>
                <a:latin typeface="Arial"/>
              </a:rPr>
              <a:t>: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– Polska Agencja Rozwoju 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  Przedsiębiorczości (PARP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517680"/>
            <a:ext cx="7850160" cy="29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Цели проекта</a:t>
            </a:r>
            <a:r>
              <a:rPr b="1" lang="pl-PL" sz="32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8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Повышение инновационного сознания фир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8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Развитие рынка трансфера технолог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8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Создание системы инструментов внедрения трансфера технолог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517680"/>
            <a:ext cx="78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Источники финансирования проекта</a:t>
            </a:r>
            <a:r>
              <a:rPr b="1" lang="pl-PL" sz="32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1413000"/>
            <a:ext cx="68407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825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бюджетные средства региона и стра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825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Средства Е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825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Взносы членов проек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825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Приход от коммерческих услу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457200"/>
            <a:ext cx="778356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Центр будет реализовать определенные задачи</a:t>
            </a:r>
            <a:r>
              <a:rPr b="1" lang="pl-PL" sz="32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0" lang="pl-PL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Повышение инновационного сознания предпринимател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Популяризация инновационных инициати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Стимулирование и поддержка трансфера технологи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457200"/>
            <a:ext cx="8215200" cy="34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Пользы от участия в проекте</a:t>
            </a:r>
            <a:r>
              <a:rPr b="1" lang="pl-PL" sz="32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0" lang="pl-PL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Рост конкурентоспособности регио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«Реклама» регио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Доступ к новым технологиям и знан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Развитие человеческих ресурсов – группы специалис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Создание «клястров» - 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clus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2600" y="961920"/>
            <a:ext cx="713448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Предпринимател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Научно-исследовательские институ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отраслевые и секторовые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Ц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Т регио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Ц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TT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других стра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Органы местного и регионального самоупр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66"/>
                </a:solidFill>
                <a:latin typeface="Arial"/>
              </a:rPr>
              <a:t>Другие организации цель которых – развитие иннова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303120"/>
            <a:ext cx="58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отрудничающие единицы</a:t>
            </a:r>
            <a:r>
              <a:rPr b="1" lang="pl-PL" sz="32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6880" y="907920"/>
            <a:ext cx="776412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Arial"/>
              </a:rPr>
              <a:t>Контакт</a:t>
            </a:r>
            <a:r>
              <a:rPr b="1" lang="pl-PL" sz="2400" spc="-1" strike="noStrike" u="sng">
                <a:solidFill>
                  <a:srgbClr val="ff66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ffff66"/>
                </a:solidFill>
                <a:latin typeface="Arial"/>
              </a:rPr>
              <a:t>Zbigniew Plu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ffff66"/>
                </a:solidFill>
                <a:latin typeface="Arial"/>
              </a:rPr>
              <a:t>Zachodniopomorskie Stowarzyszenie Rozwoju Regionalne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pl-PL" sz="2200" spc="-1" strike="noStrike">
                <a:solidFill>
                  <a:srgbClr val="ffff66"/>
                </a:solidFill>
                <a:latin typeface="Arial"/>
              </a:rPr>
              <a:t>Szczecińskie Centrum Przedsiębiorczośc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ul. Kolumba 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70-035 Szczec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tel. 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+48 091 489227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fax: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+48 091 490205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e-mail: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66"/>
                </a:solidFill>
                <a:latin typeface="Arial"/>
              </a:rPr>
              <a:t>zsrg@pro.onet.p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0880" y="457200"/>
            <a:ext cx="75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TRUKTURA GOSPODARKI REGIONAL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8680" y="1371600"/>
            <a:ext cx="7582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handel i usługi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  31,7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obsługa nieruchomości i firm, pośrednictwo finansowe:   18,8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budownictwo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  11,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przemysł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    9,1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transport, składowanie i łączność 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    7,6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hotelarstwo i gastronomia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    5,6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rolnictwo, leśnictwo, rybołówstwo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    3,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pozostałe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  13,2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228600"/>
            <a:ext cx="8382240" cy="121932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7239240" cy="379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415800"/>
            <a:ext cx="7993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Региональная Стратегия Инноваций</a:t>
            </a:r>
            <a:r>
              <a:rPr b="1" lang="pl-P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 Западнопоморском воевод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11360" y="1676520"/>
            <a:ext cx="61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январь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2002 - 28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февраль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2005 (30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апрель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Цели проекта</a:t>
            </a:r>
            <a:r>
              <a:rPr b="1" lang="pl-PL" sz="2800" spc="-1" strike="noStrike" u="sng">
                <a:solidFill>
                  <a:srgbClr val="ff66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„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Анализ, разработка и совершенствование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Региональной Стратегии Инноваций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 Западнопоморском воеводстве при сотрудничестве с  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RITTS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региона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Neubrandenburga/Greifswaldu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(Германия)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и международными эксперт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Партнеры</a:t>
            </a:r>
            <a:r>
              <a:rPr b="1" lang="pl-PL" sz="2800" spc="-1" strike="noStrike" u="sng">
                <a:solidFill>
                  <a:srgbClr val="ff66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- ZARR S.A. – Szczecin (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координатор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- ATI Kueste – Rostock/Greifsw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- titan e.V. – Neubrandenb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Проект начался в январе 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2002 –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закончится в феврале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апреле</a:t>
            </a:r>
            <a:r>
              <a:rPr b="0" lang="pl-PL" sz="2000" spc="-1" strike="noStrike">
                <a:solidFill>
                  <a:srgbClr val="ffff66"/>
                </a:solidFill>
                <a:latin typeface="Arial"/>
              </a:rPr>
              <a:t>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3960" y="151920"/>
            <a:ext cx="664704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нновационность? Зачем?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323720"/>
            <a:ext cx="81532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2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Европейская экономика менее инновационная чем экономики США и Япо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66"/>
                </a:solidFill>
                <a:latin typeface="Arial"/>
              </a:rPr>
              <a:t>1994: 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ЕК принимает решение о поддержке региональных стратегий иннов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Регион = лучшая область для введения инноваций</a:t>
            </a:r>
            <a:r>
              <a:rPr b="0" lang="pl-PL" sz="1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3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Лизбонская стратегия (март 2000) – мечта о экономике опирающейся на инновационной деятельности малых и средних предприя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762120"/>
            <a:ext cx="81536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Этап 0</a:t>
            </a:r>
            <a:r>
              <a:rPr b="0" lang="pl-PL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обрана полная информация о регио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определенная методология про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уществует «надзирательная» комисс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Этап</a:t>
            </a:r>
            <a:r>
              <a:rPr b="0" lang="pl-PL" sz="2800" spc="-1" strike="noStrike" u="sng">
                <a:solidFill>
                  <a:srgbClr val="ff6600"/>
                </a:solidFill>
                <a:uFillTx/>
                <a:latin typeface="Arial"/>
              </a:rPr>
              <a:t> 1</a:t>
            </a:r>
            <a:r>
              <a:rPr b="0" lang="pl-PL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роведены исследования в 4 рабочих коллектив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роведен полный анализ реги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Этап</a:t>
            </a:r>
            <a:r>
              <a:rPr b="0" lang="pl-PL" sz="2800" spc="-1" strike="noStrike" u="sng">
                <a:solidFill>
                  <a:srgbClr val="ff6600"/>
                </a:solidFill>
                <a:uFillTx/>
                <a:latin typeface="Arial"/>
              </a:rPr>
              <a:t> 2</a:t>
            </a:r>
            <a:r>
              <a:rPr b="0" lang="pl-PL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Разработана стратегия про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оздана система оценки и мониторин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r>
              <a:rPr b="1" lang="pl-PL" sz="3200" spc="-1" strike="noStrike" u="sng">
                <a:solidFill>
                  <a:srgbClr val="ff6600"/>
                </a:solidFill>
                <a:uFillTx/>
                <a:latin typeface="Arial"/>
              </a:rPr>
              <a:t> 1:</a:t>
            </a:r>
            <a:r>
              <a:rPr b="1" lang="pl-PL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4 рабочие коллекти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66"/>
                </a:solidFill>
                <a:uFillTx/>
                <a:latin typeface="Arial"/>
              </a:rPr>
              <a:t>I </a:t>
            </a: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рабочий коллектив</a:t>
            </a:r>
            <a:r>
              <a:rPr b="0" lang="pl-PL" sz="2400" spc="-1" strike="noStrike" u="sng">
                <a:solidFill>
                  <a:srgbClr val="ffff66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анализ нужд региональных предпри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66"/>
                </a:solidFill>
                <a:uFillTx/>
                <a:latin typeface="Arial"/>
              </a:rPr>
              <a:t>II </a:t>
            </a: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рабочий коллектив</a:t>
            </a:r>
            <a:r>
              <a:rPr b="0" lang="pl-PL" sz="2400" spc="-1" strike="noStrike" u="sng">
                <a:solidFill>
                  <a:srgbClr val="ffff66"/>
                </a:solidFill>
                <a:uFillTx/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анализ технологического предложения реги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66"/>
                </a:solidFill>
                <a:uFillTx/>
                <a:latin typeface="Arial"/>
              </a:rPr>
              <a:t>III </a:t>
            </a: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рабочий коллектив</a:t>
            </a:r>
            <a:r>
              <a:rPr b="0" lang="pl-PL" sz="2400" spc="-1" strike="noStrike" u="sng">
                <a:solidFill>
                  <a:srgbClr val="ffff66"/>
                </a:solidFill>
                <a:uFillTx/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ценка финансовых и вне-финансовых инструментов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ддержки для малых и спедних предпри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66"/>
                </a:solidFill>
                <a:uFillTx/>
                <a:latin typeface="Arial"/>
              </a:rPr>
              <a:t>IV </a:t>
            </a: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рабочий коллектив</a:t>
            </a:r>
            <a:r>
              <a:rPr b="0" lang="pl-PL" sz="2400" spc="-1" strike="noStrike" u="sng">
                <a:solidFill>
                  <a:srgbClr val="ffff66"/>
                </a:solidFill>
                <a:uFillTx/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ценарий развития для самых «отсталых» регио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8:26:04Z</dcterms:created>
  <dc:creator>Małgorzata Pluta</dc:creator>
  <dc:description/>
  <dc:language>en-US</dc:language>
  <cp:lastModifiedBy>Cris</cp:lastModifiedBy>
  <dcterms:modified xsi:type="dcterms:W3CDTF">2005-10-03T14:28:52Z</dcterms:modified>
  <cp:revision>71</cp:revision>
  <dc:subject/>
  <dc:title>Prezentacja programu PowerPoint</dc:title>
</cp:coreProperties>
</file>