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306050" cy="7105650"/>
  <p:notesSz cx="9752013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348-C269-43DB-85F6-789B7B1E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880" y="410904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660-2A1F-432B-8298-3F0863C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6824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2AE-4349-4AB8-A649-3CD75B18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184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8780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88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5184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8780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372-873A-459D-AB3A-3221711F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3EA-3372-4997-8E3E-3B902672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7283-CFF5-4A39-BBAE-580E009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9323-CC3A-4CDE-844C-752F831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3F74-9812-4FF1-97AA-298F90B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705-3772-462F-BB00-71FE9FCF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15880" y="286920"/>
            <a:ext cx="927432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2B24-C71E-4038-96D1-83516F8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820-19CC-4117-8514-83CC1DE3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5F3-E9BB-45C3-9D87-242EC9BF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26824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AE9-C231-4993-AF18-DE3260C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8083-F834-478F-A4B0-C546B4D6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880" y="410904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BD1-C1F4-4F38-B494-FA4684C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26824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00F3-4BB1-47EB-8213-5747EE39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5184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87800" y="165708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88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5184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787800" y="4109040"/>
            <a:ext cx="298620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6197-0790-42F4-AD14-429F053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B30-DD6E-46FE-87A4-64D46AE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21C-B210-475E-BAEE-4EB67D8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5A1-7905-4CF9-8540-5C815F6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15880" y="286920"/>
            <a:ext cx="927432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21B-CE4A-498D-9EFE-13CEEA7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DFC-59E4-47EB-B1C3-F27C71A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68240" y="410904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CF0-33C1-4F13-BE85-D9CD3C9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8240" y="1657080"/>
            <a:ext cx="452556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880" y="4109040"/>
            <a:ext cx="9274320" cy="223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ED0-9989-4526-9C4A-0219D2D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10312200" cy="7098840"/>
            <a:chOff x="1440" y="0"/>
            <a:chExt cx="10312200" cy="7098840"/>
          </a:xfrm>
        </p:grpSpPr>
        <p:sp>
          <p:nvSpPr>
            <p:cNvPr id="1" name=""/>
            <p:cNvSpPr/>
            <p:nvPr/>
          </p:nvSpPr>
          <p:spPr>
            <a:xfrm>
              <a:off x="9027000" y="4319280"/>
              <a:ext cx="1286640" cy="277956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637200" y="6240240"/>
              <a:ext cx="676080" cy="85860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163160" y="6931440"/>
              <a:ext cx="150480" cy="1674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514800" y="0"/>
              <a:ext cx="9121680" cy="7098480"/>
              <a:chOff x="514800" y="0"/>
              <a:chExt cx="9121680" cy="7098480"/>
            </a:xfrm>
          </p:grpSpPr>
          <p:sp>
            <p:nvSpPr>
              <p:cNvPr id="5" name=""/>
              <p:cNvSpPr/>
              <p:nvPr/>
            </p:nvSpPr>
            <p:spPr>
              <a:xfrm>
                <a:off x="4989960" y="0"/>
                <a:ext cx="128520" cy="70984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526720" y="0"/>
                <a:ext cx="311040" cy="70984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08040" y="0"/>
                <a:ext cx="602640" cy="70984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6840" y="0"/>
                <a:ext cx="763920" cy="70984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9960" y="0"/>
                <a:ext cx="997920" cy="70984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96720" y="0"/>
                <a:ext cx="1234080" cy="70984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090640" y="0"/>
                <a:ext cx="1545840" cy="70984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1920" y="0"/>
                <a:ext cx="268200" cy="70984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519000" y="0"/>
                <a:ext cx="536760" cy="70984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01520" y="0"/>
                <a:ext cx="760320" cy="70984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017440" y="0"/>
                <a:ext cx="1028880" cy="70984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55680" y="0"/>
                <a:ext cx="1318680" cy="70984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14800" y="0"/>
                <a:ext cx="1502640" cy="70984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10080" y="4771800"/>
              <a:ext cx="1084320" cy="2327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" y="6398640"/>
              <a:ext cx="407880" cy="700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545680" y="0"/>
              <a:ext cx="1760400" cy="293760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19800" y="0"/>
              <a:ext cx="1286640" cy="13896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76360" y="0"/>
              <a:ext cx="729720" cy="681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080" y="0"/>
              <a:ext cx="1535400" cy="231732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0080" y="0"/>
              <a:ext cx="1051920" cy="9849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080" y="0"/>
              <a:ext cx="483120" cy="4143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521600"/>
              <a:ext cx="103035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875040"/>
              <a:ext cx="103035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5167800"/>
              <a:ext cx="103035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44760"/>
              <a:ext cx="10303200" cy="2583360"/>
              <a:chOff x="1440" y="644760"/>
              <a:chExt cx="10303200" cy="258336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89160"/>
                <a:ext cx="103032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228120"/>
                <a:ext cx="103032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581920"/>
                <a:ext cx="103032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935360"/>
                <a:ext cx="103032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44760"/>
                <a:ext cx="103032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460920"/>
              <a:ext cx="103035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814360"/>
              <a:ext cx="103035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15880" y="6469200"/>
            <a:ext cx="2403360" cy="47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521160" y="6473880"/>
            <a:ext cx="3263760" cy="474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386120" y="6469200"/>
            <a:ext cx="2403720" cy="47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6D8C9C87-E115-4572-B3CB-2CF51A7F7F1F}" type="slidenum">
              <a:rPr b="0" lang="pl-PL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8200" indent="-31140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4308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41320" indent="-24912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38480" indent="-2494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38480" indent="-2494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38480" indent="-2494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10310400" cy="7098840"/>
            <a:chOff x="0" y="0"/>
            <a:chExt cx="10310400" cy="7098840"/>
          </a:xfrm>
        </p:grpSpPr>
        <p:sp>
          <p:nvSpPr>
            <p:cNvPr id="79" name=""/>
            <p:cNvSpPr/>
            <p:nvPr/>
          </p:nvSpPr>
          <p:spPr>
            <a:xfrm>
              <a:off x="9024120" y="4319280"/>
              <a:ext cx="1286280" cy="277956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634320" y="6240240"/>
              <a:ext cx="676080" cy="85860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159920" y="6931440"/>
              <a:ext cx="150480" cy="1674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13360" y="0"/>
              <a:ext cx="9120240" cy="7098480"/>
              <a:chOff x="513360" y="0"/>
              <a:chExt cx="9120240" cy="7098480"/>
            </a:xfrm>
          </p:grpSpPr>
          <p:sp>
            <p:nvSpPr>
              <p:cNvPr id="83" name=""/>
              <p:cNvSpPr/>
              <p:nvPr/>
            </p:nvSpPr>
            <p:spPr>
              <a:xfrm>
                <a:off x="4987800" y="0"/>
                <a:ext cx="128520" cy="70984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24560" y="0"/>
                <a:ext cx="311040" cy="70984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05520" y="0"/>
                <a:ext cx="602640" cy="70984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74320" y="0"/>
                <a:ext cx="763920" cy="70984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57440" y="0"/>
                <a:ext cx="997920" cy="70984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94200" y="0"/>
                <a:ext cx="1234080" cy="70984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88120" y="0"/>
                <a:ext cx="1545480" cy="70984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89760" y="0"/>
                <a:ext cx="267840" cy="70984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16840" y="0"/>
                <a:ext cx="536400" cy="70984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99720" y="0"/>
                <a:ext cx="759960" cy="70984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16000" y="0"/>
                <a:ext cx="1028520" cy="70984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53880" y="0"/>
                <a:ext cx="1318320" cy="70984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3360" y="0"/>
                <a:ext cx="1502640" cy="70984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640" y="4771800"/>
              <a:ext cx="1084320" cy="2327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40" y="6398640"/>
              <a:ext cx="407880" cy="700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42800" y="0"/>
              <a:ext cx="1760040" cy="293760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16560" y="0"/>
              <a:ext cx="1286280" cy="13896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573480" y="0"/>
              <a:ext cx="729720" cy="681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40" y="0"/>
              <a:ext cx="1535040" cy="231732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40" y="0"/>
              <a:ext cx="1051920" cy="9849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40" y="0"/>
              <a:ext cx="483120" cy="4143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521600"/>
              <a:ext cx="10301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875040"/>
              <a:ext cx="10301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5167800"/>
              <a:ext cx="10301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44760"/>
              <a:ext cx="10301400" cy="2583360"/>
              <a:chOff x="0" y="644760"/>
              <a:chExt cx="10301400" cy="258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89160"/>
                <a:ext cx="103014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228120"/>
                <a:ext cx="103014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581920"/>
                <a:ext cx="103014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935360"/>
                <a:ext cx="103014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44760"/>
                <a:ext cx="103014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460920"/>
              <a:ext cx="10301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814360"/>
              <a:ext cx="10301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3280" y="1752120"/>
            <a:ext cx="8759520" cy="180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 anchorCtr="1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5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515880" y="6469200"/>
            <a:ext cx="2403360" cy="47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521160" y="6473880"/>
            <a:ext cx="3263760" cy="474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386120" y="6469200"/>
            <a:ext cx="2403720" cy="47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pl-PL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0A3E1B34-0D72-4DC5-85B9-F1FA2DA0CB22}" type="slidenum">
              <a:rPr b="0" lang="pl-PL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515160" y="1662840"/>
            <a:ext cx="927576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496800" indent="0"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algn="ctr">
              <a:spcBef>
                <a:spcPts val="6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492200" algn="ctr">
              <a:spcBef>
                <a:spcPts val="550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4" marL="1989000" algn="ctr">
              <a:spcBef>
                <a:spcPts val="55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5" marL="19890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6" marL="19890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6640" y="960480"/>
            <a:ext cx="8764560" cy="5364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Verdana"/>
              </a:rPr>
              <a:t>Главные вопросы инновационной деятельности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9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рым - Сентябрь</a:t>
            </a:r>
            <a:r>
              <a:rPr b="1" lang="pl-PL" sz="2900" spc="-1" strike="noStrike">
                <a:solidFill>
                  <a:srgbClr val="ffffff"/>
                </a:solidFill>
                <a:latin typeface="Verdana"/>
              </a:rPr>
              <a:t> - 2005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927396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  <a:ea typeface="Times New Roman"/>
              </a:rPr>
              <a:t>Региональные Стратегии Инновации (1/2)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5880" y="2112480"/>
            <a:ext cx="9274320" cy="4992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Цель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Региональные Стратегии Инновац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мочь локальным властям во внедрению эффективной системы поддержки инновационных  инициатив в регион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Создание долгосрочного партнерства между научными учреждениями и промышленностью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вышение конкурентоспособности малых и средних фирм путем внедрение новых технологи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вышение квалификации персонала в области исследований и инновац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Региональная Стратегия Инноваций создана на основ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762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анализа технологических нужд, возможностей и потенциала сектора исследований в областях: технологии, организации, управления, финансов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|бюджета|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и обуч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437-4B69-481E-86D0-430072D7D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87280"/>
            <a:ext cx="9761400" cy="168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  <a:ea typeface="Times New Roman"/>
              </a:rPr>
              <a:t>Региональные Стратегии Инновации </a:t>
            </a:r>
            <a:r>
              <a:rPr b="1" lang="pl-PL" sz="48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4320" y="2411280"/>
            <a:ext cx="9273960" cy="4694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льза от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RI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инергетический результат в области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B+R,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аркетинга и информации,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меньшение и распределение риска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витие долгосрочных партнёрских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меньшение торговых расходов путем приготовления сотрудничеств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RSI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существуют в около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100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вропейских регионах. Они составляют фундамент употребления средств структурных фондов и Фонда Связ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E00-F422-4AC5-A3E4-4A80EA663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ера </a:t>
            </a:r>
            <a:r>
              <a:rPr b="1" lang="ru-RU" sz="4400" spc="-1" strike="noStrike">
                <a:solidFill>
                  <a:srgbClr val="cc3300"/>
                </a:solidFill>
                <a:latin typeface="Verdana"/>
              </a:rPr>
              <a:t>\Область\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 B+R 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1640" y="1728360"/>
            <a:ext cx="8712360" cy="461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еятельность исследовательская и деятельность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ль которой - развитие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тически веденные работ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едпринято для увеличения знаний о человеке, его культуре и общества также для того, чтобы найти новые виды использования этих зна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ласть 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B+R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хватывает 3 виды исследовани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еоретические и экспериментальные работы, не направленные на конкретные практические употреб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сследования цель которых-накопление нового опыта нужного при разработке новых технологий, проду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ты цель которых – поширить опыт уже существующ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05F-599F-41BC-93EE-2198827913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фера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 B+R 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3280" y="1216080"/>
            <a:ext cx="8759520" cy="4976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фера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B+R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 Польше обхватывает следующие виды институций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учные институты Польской Академии Наук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учные единицы (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JBR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научные институты, центральные лаборатории, другие типы научных центров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сшие учебные заведения – публичные и частные, которые ведут деятельность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B+R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диницы обслуживания научных работников: научные библиотек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фонд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диницы развития – преимущественно предприятия у которых свои научно-технические базы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-354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ругие институции – на пример больницы, которые ведут исследования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F8E-203A-4C50-AECC-2B0BB34ED0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Инститции среды бизне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248840"/>
            <a:ext cx="9274320" cy="5102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 группе инститций среды бизнеса принадлежат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хнологические пар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кубаторы предприимчивост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хнологические инкубато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ентры трансфера технологи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нсультационные центры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инансовые институци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тельственные агентства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BFA-8203-45AC-A5DD-BB2C0FAA0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Технологический парк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608120"/>
            <a:ext cx="8759880" cy="491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Verdana"/>
              </a:rPr>
              <a:t>Технологический парк – учрежденная при участии самоуправленческих органов власти научно-промышленная группа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, предлагающая свои услуги «новоиспеченным» предпринимателям (хотящим внедрить новые технологии в своих фирмах), консультации в области создания и развития фирмы, трансфера технологии и коммерциализации результатов научных исследований, а также доступ к  недвижимостям вместе с инфраструктур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41F-6DA3-4F4F-B0BE-F7294DD68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нкубатор предприимчивости и инкубатор технологичес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Инкубатор предприимчивости – несет помочь новым фирмам ( </a:t>
            </a:r>
            <a:r>
              <a:rPr b="1" i="1" lang="ru-RU" sz="2600" spc="-1" strike="noStrike">
                <a:solidFill>
                  <a:srgbClr val="ffffff"/>
                </a:solidFill>
                <a:latin typeface="Verdana"/>
              </a:rPr>
              <a:t>администрационная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помощь, обеспечение офисной площади, правовые и технические консультации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Инкубатор технологический – помогает ново созданным фирмам опирающим свою деятельность на новых технологиях. К технологическим инкубаторам  принадлежат главным образом инкубаторы академической деятельности и инкубаторы при технологических парках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4F9-A06C-496C-9697-81C7C17C0F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ентры трансфера технологии и иннов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759880" cy="484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Центры трансфера технологии и инновации – популяризуют  и облегчают передвижение технологии в сферу промысла, главным образом в сектор мелких и средних предприятий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 настоящее время в Польше существует около 20 центров трансфера технологии – они действуют при высших учебных заведениях, научных института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Институции полнящие роль центров трансфера технологии чаще всего принадлежат к следующим категориям институций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рганизации научной среды (научно-</a:t>
            </a: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исследовательные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институты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Organizacje pomostow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696-ABFC-40A5-8BD2-58A01AAFCD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Klastery (</a:t>
            </a:r>
            <a:r>
              <a:rPr b="1" i="1" lang="ru-RU" sz="4400" spc="-1" strike="noStrike">
                <a:solidFill>
                  <a:srgbClr val="ffffff"/>
                </a:solidFill>
                <a:latin typeface="Verdana"/>
              </a:rPr>
              <a:t>скупления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, кисти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5880" y="1824120"/>
            <a:ext cx="9274320" cy="4527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Klastery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ети взаимосвязанных фирм, их поставщиков и клиентов, финансовых и страховых компаний, научных и эдукационных организаций, управленческих агентств которые оказывают технологические и консультационные услу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иссия кисти – создавать сети фирм-сотрудников, которые заинтересованы внедрением новых технологий (вместе легче это делать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BDD-4961-4057-893C-20DAA1EDC4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ажнейшие факторы </a:t>
            </a: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экономического развит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759880" cy="5011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666720" indent="-6667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дприимчив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  отвага выступить с инициатив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дения собственной хозяй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-6667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нновационн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 готовность к неустанным поискам новых концепций, изобретений, результатов научной работы использование которых причинится к совершенствованию фир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-6667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нкурентоспособност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умение выдержать международную конкуренцию ( на отечественном рынке, на рынках ЕС, а также на рынках «третьих стран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BC4-1B8B-43B8-A6F4-8C32734746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59880" cy="1263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лавные виды инновационной деятельности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сточники инноваций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4320" y="2760480"/>
            <a:ext cx="9273960" cy="4344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еятельность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B+R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купка «готовых» знаний в форме патентов, лицензий, технических услуг (т.н.  нематериальная технология -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Verdana"/>
              </a:rPr>
              <a:t>disembodied technology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купк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.н. материальной технологии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pl-PL" sz="2400" spc="-1" strike="noStrike">
                <a:solidFill>
                  <a:srgbClr val="ffffff"/>
                </a:solidFill>
                <a:latin typeface="Verdana"/>
              </a:rPr>
              <a:t>embodied technology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.е.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новационного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борудования о высоких технических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араметрах, необходимого при внедрении новых процессов и производстве новых продук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432-9392-4A6A-9754-23F6402B4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ели введения иннов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759880" cy="4616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едприятия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аствуют в инновационных инициативах по следующим экономическим причинам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мена снимаемых с продажи продуктов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лучшение качества производимых продуктов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сширение ассортимент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крытие новых рынков или увеличение участия на     рынке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полнение европейских норм качества или стандарт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совершенствование производственных процессов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нижение производственных издержек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нижение материалоёмкости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нижение энергоёмкости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меньшение вредности для природной сре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EA9-7499-4E71-A322-707A59153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10306080" cy="1981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родная ИнновационнаяСистема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400"/>
            </a:br>
            <a:r>
              <a:rPr b="1" i="1" lang="pl-PL" sz="4400" spc="-1" strike="noStrike">
                <a:solidFill>
                  <a:srgbClr val="ffffff"/>
                </a:solidFill>
                <a:latin typeface="Verdana"/>
              </a:rPr>
              <a:t>(National Innovation Syste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4320" y="2280960"/>
            <a:ext cx="9273960" cy="4824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деленная группа институций, которые вместе и индивидуально причиняются к развитию и популяризации новой технологии и которые составляют основу в рамках которой правительство формулирует и реализует про-инновационную политик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акую группу можно назвать системой взимосвязанных институций цель которых создавать, накоплять и передавать опыт связанный с употреблением новой технологии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EFD-C346-4A58-8869-0276B691A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родная Инновацион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5880" y="1657080"/>
            <a:ext cx="9274320" cy="4694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spcBef>
                <a:spcPts val="7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лавные составные части НИС</a:t>
            </a: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Инновационная политика – правовые и финансовые реш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гиональные инновационные стратегии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ИС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Предприятия –главные элементы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ИС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бласть исследований и развития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(B+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нституции среды бизне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spcBef>
                <a:spcPts val="7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14D-39DD-4982-BBCE-5D9ADC7CB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н</a:t>
            </a:r>
            <a:r>
              <a:rPr b="1" lang="pl-PL" sz="4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ационная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лити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274320" cy="5102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Согласно концепции „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NSI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” деятельность государства </a:t>
            </a:r>
            <a:r>
              <a:rPr b="1" lang="ru-RU" sz="2800" spc="-1" strike="noStrike">
                <a:solidFill>
                  <a:srgbClr val="ff0000"/>
                </a:solidFill>
                <a:latin typeface="comic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регулятор в системе управление знаниями и инновация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Цель </a:t>
            </a:r>
            <a:r>
              <a:rPr b="1" lang="pl-PL" sz="2800" spc="-1" strike="noStrike">
                <a:solidFill>
                  <a:srgbClr val="ff0000"/>
                </a:solidFill>
                <a:latin typeface="comic"/>
                <a:ea typeface="Times New Roman"/>
              </a:rPr>
              <a:t>(внутренней)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государстве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й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п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оли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т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ики </a:t>
            </a:r>
            <a:r>
              <a:rPr b="1" lang="pl-PL" sz="2800" spc="-1" strike="noStrike">
                <a:solidFill>
                  <a:srgbClr val="ff0000"/>
                </a:solidFill>
                <a:latin typeface="comic"/>
                <a:ea typeface="Times New Roman"/>
              </a:rPr>
              <a:t>-&gt; 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приспособ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ть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экономи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государства к международн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ым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 условиям конкурентоспособности путем эффективной организационной работы а также  с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озд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ь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инструме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стимулирующ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е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предприя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к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инновацио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й</a:t>
            </a:r>
            <a:r>
              <a:rPr b="1" lang="pl-PL" sz="2800" spc="-1" strike="noStrike">
                <a:solidFill>
                  <a:srgbClr val="ffffff"/>
                </a:solidFill>
                <a:latin typeface="comic"/>
                <a:ea typeface="Times New Roman"/>
              </a:rPr>
              <a:t> деятельнос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139-FD58-4277-AAB9-F5B3C745BD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струменты инновационной  политики (1/2)</a:t>
            </a: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982520"/>
            <a:ext cx="8759880" cy="4614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2000"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струменты инновационной  политики (1/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Финансовые: </a:t>
            </a:r>
            <a:r>
              <a:rPr b="1" lang="pl-PL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granty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гранты, дотации, преференциальные кредиты льготы и ссуды, стимулирование </a:t>
            </a:r>
            <a:r>
              <a:rPr b="1" i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enture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apital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обеспечение помещений, бесплатные услуг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логи: льготы и амортизационные отчисление (фирмы и физические лица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авовые и регуляционные: патенты, правила охраны природы, правила касающееся здравоохранения, правила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ас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 монополистической практи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Система образования: высшее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учебное)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обучение, стипендиальные фонды и программы повышение квалификац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707-8149-4951-9609-9FA73E696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5880" y="28692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струменты инновационной  политики</a:t>
            </a: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80840"/>
            <a:ext cx="8759880" cy="5221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Государств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 заказы: закупки на цели защиты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|обороны|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страны,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государств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 закупки и контракты, закупки местных органов власт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0280" indent="-350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формационные: информационные сети и центры, услуги консультационные, статистические, государств публикации, выставки, базы данных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0280" indent="-350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граммы трансфера инноваций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|нововведений|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: правительство финансирует определенные программы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+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и популяризует результаты в частном сектор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0280" indent="-350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учные и технические: технические стандарты, государств исследовательские центры, помощь для исследовательских обществ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0280" indent="-3502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ммерческие: торговые соглашения,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или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D9-151C-459D-82B0-AB105718C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0:31:48Z</dcterms:created>
  <dc:creator>Przemysław Zamujski</dc:creator>
  <dc:description/>
  <cp:keywords>innowacyjność</cp:keywords>
  <dc:language>en-US</dc:language>
  <cp:lastModifiedBy>Cris</cp:lastModifiedBy>
  <cp:lastPrinted>2003-09-02T07:41:59Z</cp:lastPrinted>
  <dcterms:modified xsi:type="dcterms:W3CDTF">2005-10-03T14:29:28Z</dcterms:modified>
  <cp:revision>1286</cp:revision>
  <dc:subject>Prezentacja programu"Zwiększanie innowacyjności gospodarki w Polsce do 2006"</dc:subject>
  <dc:title>Ogólnopolskie forum Innowacyjności</dc:title>
</cp:coreProperties>
</file>