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19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907588" cy="6858000"/>
  <p:notesSz cx="9144000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5181120" y="-360"/>
            <a:ext cx="39625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5181120" y="6515280"/>
            <a:ext cx="3962520" cy="34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1D531-A1EA-487B-9286-701C6ABC3F8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5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коллег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ешите представить сообщение, посвящённое обоснованию перспектив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-технической и инновационной политики в контексте стратегии пере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экоустойчивому развитию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Актуальность темы определяется необходимостью преодо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глобального 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ологического кризиса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, а также его проявлений на территориях стран, регионов и городов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Решение этой задачи немыслимо без науки и инноватики, обновляющих средства производства и организации жизнедеятельности общества в широком смысле, управления всеми сферами социальной прак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Понятно, что и политику по отношению к науке, и развит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нужно представить как системы со своей спецификой, со своими движущи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силами и прочими атрибутам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Прежде всего необходим с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н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оцессов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, результатом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торого являетс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основание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ческих ориентиров для развит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ки и иннова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амое общее представление о 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диной социо-природной систем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емли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 и её функциональных сферах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00000"/>
                </a:solidFill>
                <a:latin typeface="Times New Roman"/>
              </a:rPr>
              <a:t>Обобщённое представление об экономике как открытой системе, зависящей от экосистемы Земл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Внесение некоторых подробностей, экономика растёт за счет капитал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7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щё одна характеристика того, что происходит в единой природно-социальной системе.  В таблице обобщённо представлены ситуации, последовательное ухудшение которых неизбежно, если сохраняются прежние тенденции развития общества.  Вопросы для науки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к быстро происходит переход от одной стадии к последующе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и 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возможностей стабилизации ситуаций (правый столбец) по ресурсам, трудозатратам и времен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Какие средства необходимы для исправления ситуаци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7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показать на кодоскоп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На слайде представлено резюме, характеризующее проводимое исследование и содержание докла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7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показан диграф, на котором показаны макроскопические переменные системы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обощенные понятием "действующие силы социального развития"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7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от же диграф, к которому добавлены характеристики вершин и пронумерованы стрелки, символизирующие влияние одной вешины на другую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7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Матричная запись диграфа с указанием знаков воздействия одних вершин на другие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ажно заметить, что влияние одних сил на другие  не всегда однозначно. Это показано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в четырёх ячейках матрицы, где проставлены как знаки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, так и знаки 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 Это будет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пояснено позже при обсуждении смысла и содержания влияний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8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ценки действующих трендов развития и выражение надежды на их изменения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ество, основанное на знаниях и, главное, ориентированное на достижение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экоустойчивост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8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а же матрица взаимных влияний с добавленным внешним управлением, осуществляемым по принципу обратной связи. Эта предельно обобщённая схема отражает необходимость стратегического управления развитием общества, имеющим целью установление режима экологической устойчивости, то есть глобального гомеостаза единой природно-социальной системы. Такое управление должно осуществляться на основе выработке и долгосрочной политики, позволяющей изменить собственные свойства функциональных компонентов системы, то есть характер действующих в обществе сил и  взаимодействий между ни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нципиально важно заметить, что такие преобразования должны осуществляться на основе научных знаний о тенденциях развития СП, ТВ, ЭЦ, ЭИ. Таким образом их системное моделирование и изучение задаёт основные направления фронта НИОКР, необходимых для обоснования п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тик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ний</a:t>
            </a:r>
            <a:r>
              <a:rPr b="1" lang="ru-RU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400" spc="-1" strike="noStrike">
                <a:solidFill>
                  <a:srgbClr val="000000"/>
                </a:solidFill>
                <a:latin typeface="Times New Roman"/>
              </a:rPr>
              <a:t>единой природно-социальной системы. Анализ желаемого фронта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сследований и разработок в дальнейшем поможет сформулировать требования по согласованию требуемых знаний по содержанию, объёму, степени общности/конкретности, и главное по синхронизации их получения и подготовки к принятию решений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 то же время хорошо известна разительная неравномерность продвижения фронта НИОКР и отрывочность, фрагментарность знаний, которые так или иначе применяются при принятии решений. Реальная практика принятия решений всегда указывает, с одной стороны,  на дефицит, с другой – избыточность знаний, а также неподготовленность знаний к пр 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мысл дальнейших рассуждений – раскрыть  содержание преобразований действующих в обществе сил и взаимодействий между ними, 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ля этого необходимо раскрыть их содержание, содержание блоков </a:t>
            </a:r>
            <a:r>
              <a:rPr b="0" lang="ru-RU" sz="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⑰</a:t>
            </a:r>
            <a:r>
              <a:rPr b="0" lang="ru-RU" sz="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–</a:t>
            </a:r>
            <a:r>
              <a:rPr b="0" lang="ru-RU" sz="4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lang="ru-RU" sz="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⑳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реобразований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олжна осуществляться рефлексия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Все показанное серым – это методологическая и научная работа в русле обоснования 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п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литик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</a:rPr>
              <a:t>и</a:t>
            </a:r>
            <a:r>
              <a:rPr b="0" lang="ru-RU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реобразований</a:t>
            </a:r>
            <a:r>
              <a:rPr b="1" lang="ru-RU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1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8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8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атрица , в ячейках которой записано каким образом одна сфера влияет на другую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8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7-я ячейка в матрице взаимных влия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ставлены ключевые слова, характеризующие рассматриваемое предметное поле и предметные области исследов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8-я ячейка в матрице взаимных влия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9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19-я ячейка в матрице взаимных влия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95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20-я ячейка в матрице взаимных влияни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97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Ур основывается на четырёх принципах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Предполагает согласование целей четырёх сфер социальной прак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9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бщая схем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Задачи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учно-технической политики и инноватик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по определять содержание и приоритеты </a:t>
            </a:r>
            <a:r>
              <a:rPr b="0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научно-технической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деятельност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няти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и и разные его интерпрет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айд «по»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 зависит от того, каков её субъект, какие объекты воздействия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о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 выбирает, какие использует методы и средства , какие соц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иальные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цели преследует. Миссия политики задаётся более общими ориентирами, нежели сиюминутная выг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Уважаемые коллеги!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Разрешите представить сообщение, посвящённое обоснованию перспективной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учно-технической и инновационной политики в контексте стратегии переход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 экоустойчивому развитию. 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Актуальность темы определяется необходимостью преодолен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глобального 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ологического кризиса. 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Решение этой задачи немыслимо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без науки и инноватики, обновляющих средства производства и организ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жизнедеятельности общества в широком смысле, управления всеми сфера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социальной практик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онятно, что и политику по отношению к науке, и развитие обществ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нужно представить как системы со своей спецификой, со своими движущим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силами и прочими атрибутами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</a:rPr>
              <a:t>Прежде всего необходим с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емн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анализ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процессов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еход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оторый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выявит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ческие ориентиры дл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развития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ауки и инноватики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59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едставленная цель затрагивает несколько предметных областей и задач их изучения. Для расктытия темы ограничимся пока самыми общими задачами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1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Начать следует с рассмотрения науки как важнейшей интеллектуальной силы, направляющей общественное развитие, и находящейся под воздействием множества общественных сил и обстоятельств. Здесь показана наука, которая продуцирует знания, используемые как для получения пользы, комфорта или выгоды, так и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ди сохранения базисных условий жизн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. Наука как саморазвивающаяся система, с одной стороны, следует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бственной логике развития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, с другой, -- постоянно испытывает внешние влияния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многих социальных сил. Наука как социальный институт вынуждена </a:t>
            </a:r>
            <a:r>
              <a:rPr b="0" lang="ru-RU" sz="1500" spc="-1" strike="noStrike">
                <a:solidFill>
                  <a:srgbClr val="000000"/>
                </a:solidFill>
                <a:latin typeface="Times New Roman"/>
              </a:rPr>
              <a:t>реагировать на внешние запросы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бизнеса, политиков, государства, общественности, от которых она так или иначе зависит. От них исходят разные, часто противоречивые требования к науке и задания на получение знаний о природе, обществе, человеке, его мышлении и поведении. От этих агентов зависит обеспеченность науки ресурсами и условия осуществления научно-технической деятельности, а также оценки её результатов.  Действия этих социальных агентов складывается (или должно складываться) в определённую политику, которую проводит государство, региональные и местные власти по отношению к научно-технической и инновационной деятельности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В демократическом обществе научно-техническая политика должна быть понятной и прозрачной, социально и экологически ориентированной.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sldImg"/>
          </p:nvPr>
        </p:nvSpPr>
        <p:spPr>
          <a:xfrm>
            <a:off x="2714760" y="514440"/>
            <a:ext cx="3714480" cy="2571840"/>
          </a:xfrm>
          <a:prstGeom prst="rect">
            <a:avLst/>
          </a:prstGeom>
          <a:ln w="0">
            <a:noFill/>
          </a:ln>
        </p:spPr>
      </p:sp>
      <p:sp>
        <p:nvSpPr>
          <p:cNvPr id="663" name="PlaceHolder 2"/>
          <p:cNvSpPr>
            <a:spLocks noGrp="1"/>
          </p:cNvSpPr>
          <p:nvPr>
            <p:ph type="body"/>
          </p:nvPr>
        </p:nvSpPr>
        <p:spPr>
          <a:xfrm>
            <a:off x="1219320" y="3257640"/>
            <a:ext cx="6705360" cy="308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 П. Друкера </a:t>
            </a:r>
            <a:r>
              <a:rPr b="0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—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девиз системных аналитиков.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лова Капицы  и соавторов содержат в себе скрытый критерий развития современной науки, а именно её результаты должны помогать  делать выбор, то есть реализовывать классическую схему системного анализа </a:t>
            </a:r>
            <a:r>
              <a:rPr b="0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—</a:t>
            </a:r>
            <a:r>
              <a:rPr b="0" lang="ru-RU" sz="1300" spc="-1" strike="noStrike">
                <a:solidFill>
                  <a:srgbClr val="3333cc"/>
                </a:solidFill>
                <a:latin typeface="Times New Roman"/>
              </a:rPr>
              <a:t> формулировать, оценивать, сравнивать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и отбирать альтернативы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CE640-D58D-464B-BCC2-149E024B9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1C5D3-365B-4957-AEB2-4C9C77441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C3F27-A518-4AD7-B0C7-8C5ECAA9A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8992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436800" y="198108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4268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8992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436800" y="4130640"/>
            <a:ext cx="27111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938A0-32DC-40A3-8215-CF510BA4C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94BDC1-9BB2-4CEB-97DC-11486A46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CBF76-09A1-4F6C-801E-B91DEBA0B6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634CC-33B4-4008-BD05-9674592E8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A2D0C-8A6F-4EA8-8880-AB3B0805C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42680" y="609120"/>
            <a:ext cx="8420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178BB-12D1-46EB-9530-D8FD33C9B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8E829-5F2E-436A-BA59-0E3D52CD5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057280" y="413064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8AFD0-9BFC-4226-950C-420A9790B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426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057280" y="1981080"/>
            <a:ext cx="410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42680" y="4130640"/>
            <a:ext cx="84200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F1C52-8D1F-4546-A367-19E42E2AF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42680" y="609120"/>
            <a:ext cx="8420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42680" y="1981080"/>
            <a:ext cx="84200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43040" y="6248520"/>
            <a:ext cx="20635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384360" y="6248520"/>
            <a:ext cx="31366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098840" y="6248520"/>
            <a:ext cx="206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ED8F2-9344-4960-B508-EAE59E8A1A5F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0" y="0"/>
            <a:ext cx="9906120" cy="70426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стемная интерпретация перехо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 экоустойчивому развитию как предпосылка обоснования стратегий науки и инноватики</a:t>
            </a:r>
            <a:r>
              <a:rPr b="1" lang="ru-RU" sz="3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ЕЦ </a:t>
            </a:r>
            <a:r>
              <a:rPr b="1" i="1" lang="ru-RU" sz="22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200" spc="-1" strike="noStrike">
                <a:solidFill>
                  <a:srgbClr val="800000"/>
                </a:solidFill>
                <a:latin typeface="Times New Roman"/>
              </a:rPr>
              <a:t>оман  Васильевич</a:t>
            </a:r>
            <a:r>
              <a:rPr b="1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800000"/>
                </a:solidFill>
                <a:latin typeface="Times New Roman"/>
              </a:rPr>
              <a:t>кандидат экономических на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с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арший</a:t>
            </a:r>
            <a:r>
              <a:rPr b="0" i="1" lang="ru-RU" sz="2000" spc="-1" strike="noStrike">
                <a:solidFill>
                  <a:srgbClr val="800000"/>
                </a:solidFill>
                <a:latin typeface="Times New Roman"/>
              </a:rPr>
              <a:t> научный сотрудник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ел системных исследований научно-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исследований научно-технического потенц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тории науки им. Г.М. Доброва НАН Укра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, бу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ченка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тел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4)  482-14-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32, Ки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а         тел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 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4)  486-95-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eps@carrier.kiev.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Р.В.Заец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64160" y="193680"/>
            <a:ext cx="957924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Основные 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</a:rPr>
              <a:t>и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деи 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</a:rPr>
              <a:t>к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онцепции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экоустойчивого 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</a:rPr>
              <a:t>р</a:t>
            </a:r>
            <a:r>
              <a:rPr b="1" lang="ru-RU" sz="2600" spc="-1" strike="noStrike">
                <a:solidFill>
                  <a:srgbClr val="800000"/>
                </a:solidFill>
                <a:latin typeface="Arial Unicode MS"/>
                <a:ea typeface="Arial Unicode MS"/>
              </a:rPr>
              <a:t>азвит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8" name=""/>
          <p:cNvGraphicFramePr/>
          <p:nvPr/>
        </p:nvGraphicFramePr>
        <p:xfrm>
          <a:off x="108000" y="723960"/>
          <a:ext cx="9671040" cy="6089760"/>
        </p:xfrm>
        <a:graphic>
          <a:graphicData uri="http://schemas.openxmlformats.org/drawingml/2006/table">
            <a:tbl>
              <a:tblPr/>
              <a:tblGrid>
                <a:gridCol w="4667040"/>
                <a:gridCol w="376560"/>
                <a:gridCol w="4627440"/>
              </a:tblGrid>
              <a:tr h="6304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ольшинство планетарных ресурсов, используемых человечеством, конечно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развитие человечества реализуется как процесс поглощения (точнее, переработки разной глубины и эффективности) природных ресурсов, что неизбежно ведет к исчерпанию невозобновимых ресурсов и истощению естественной базы существования общества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жизнедеятельность человечества сопровож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дается образованием отходов, загрязняющих биосферу и разрушающих природные ландшафты, что ведет к необратимым изменениям среды обитания, неблагоприятным для человека, флоры и фауны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каждое национальное, региональное и городское сообщество несет свою долю ответственности за расходование ресурсов и детериорацию (нанесение ущерба природе), создание неблагоприятных условий для собственного существования и жизни потомко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ционализация и согласование процессов жизнедеятельности и развития всех сообществ, введение их в рамки ресурсных и экологических ограничений необходимы и возможны;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Arial Unicode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 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чем раньше общество перейдет к ограничению потребления невозобновимых ресурсов и детери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рации природной среды, тем менее жестким и болезненным оно окажется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buClr>
                          <a:srgbClr val="000000"/>
                        </a:buClr>
                        <a:buFont typeface="Times New Roman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воевременный переход к режиму экоустойчивого развития является непременным условием справе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лвого распределения ресурсов между поколени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ями, создания и сохранения высокого качества жизни для последующих поколений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для достижения экоустойчивого развития имеются предпосылки в виде научных знаний и новых технологических возможностей, которые необходимо пополнять путём целенаправленных исследований и разработок, избирательной инновационной политики;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переход к экоустойчивости невозможен без разработки и последовательной реализации ресусо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-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сберегающих и экологически безопасных стратегий хозяйствования, чему должно быть подчинено технологическое и социально-экономическое развитие больших и малых человеческих сообществ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just">
                        <a:lnSpc>
                          <a:spcPct val="100000"/>
                        </a:lnSpc>
                        <a:buClr>
                          <a:srgbClr val="000000"/>
                        </a:buClr>
                        <a:buFont typeface="Arial Unicode MS"/>
                        <a:buChar char="•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задачи построения экоустойчивого общества не могут быть решены без целенаправленного создания и эффективного использования «потенциала для экоустойчивого развития», главными компонентами которого являются национальные системы образования, науки, инноватики, а также политических институций, менеджмента (государственного, муниципального, промышленного, аграрного, экологического и прочего)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71360" y="304920"/>
            <a:ext cx="95443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зменение соотношения между конечной экосистемой Земли и растущей экономикой, перерабатывающей природный капитал</a:t>
            </a:r>
            <a:r>
              <a:rPr b="1" i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523880" y="3390840"/>
            <a:ext cx="2286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                                               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089000" y="2362320"/>
            <a:ext cx="3086280" cy="2971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723960" y="2590920"/>
            <a:ext cx="14857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5040" y="2436840"/>
            <a:ext cx="3430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117880" y="3390840"/>
            <a:ext cx="1028520" cy="10288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120760" y="3733920"/>
            <a:ext cx="1022400" cy="342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62080" y="4648320"/>
            <a:ext cx="1143000" cy="342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009960" y="5105520"/>
            <a:ext cx="1485720" cy="14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4573440" y="4937040"/>
            <a:ext cx="37944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1820880" y="3556080"/>
            <a:ext cx="571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878200" y="3565440"/>
            <a:ext cx="57132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1460520" y="3384720"/>
            <a:ext cx="342720" cy="3427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3454560" y="3390840"/>
            <a:ext cx="496800" cy="34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832040" y="4284720"/>
            <a:ext cx="571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2859120" y="4280040"/>
            <a:ext cx="5713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481560" y="4132440"/>
            <a:ext cx="457200" cy="2984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465200" y="4108320"/>
            <a:ext cx="343080" cy="34308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073320" y="3159000"/>
            <a:ext cx="230400" cy="358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H="1">
            <a:off x="1917720" y="3164040"/>
            <a:ext cx="201600" cy="35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947960" y="2887560"/>
            <a:ext cx="1371600" cy="23976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ереработка отходов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117880" y="3162240"/>
            <a:ext cx="941400" cy="18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7848720" y="1676520"/>
            <a:ext cx="1600200" cy="384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Заполненный мир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389560" y="4037040"/>
            <a:ext cx="343080" cy="3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351400" y="3395520"/>
            <a:ext cx="343080" cy="308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8717040" y="3389400"/>
            <a:ext cx="463320" cy="34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М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8736120" y="4027320"/>
            <a:ext cx="37764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Е</a:t>
            </a:r>
            <a:r>
              <a:rPr b="1" lang="en-US" sz="1400" spc="-1" strike="noStrike" baseline="30000">
                <a:solidFill>
                  <a:srgbClr val="000000"/>
                </a:solidFill>
                <a:latin typeface="Times New Roman"/>
              </a:rPr>
              <a:t>$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111720" y="3390840"/>
            <a:ext cx="228600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М                                               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5638680" y="2362320"/>
            <a:ext cx="3084480" cy="29718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311800" y="2590920"/>
            <a:ext cx="1485720" cy="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952880" y="2438280"/>
            <a:ext cx="3430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72120" y="2819520"/>
            <a:ext cx="2208240" cy="2060280"/>
          </a:xfrm>
          <a:prstGeom prst="rect">
            <a:avLst/>
          </a:prstGeom>
          <a:solidFill>
            <a:srgbClr val="66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6664320" y="3733920"/>
            <a:ext cx="1022400" cy="34272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688080" y="4921200"/>
            <a:ext cx="1141560" cy="26532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экосистем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 flipV="1">
            <a:off x="7661160" y="5168520"/>
            <a:ext cx="1514520" cy="3240"/>
          </a:xfrm>
          <a:prstGeom prst="line">
            <a:avLst/>
          </a:prstGeom>
          <a:ln w="190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9259920" y="4997520"/>
            <a:ext cx="379440" cy="349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775480" y="3556080"/>
            <a:ext cx="1149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5803920" y="4208400"/>
            <a:ext cx="107964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201160" y="3157560"/>
            <a:ext cx="255600" cy="3556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>
            <a:off x="6878520" y="3165480"/>
            <a:ext cx="268560" cy="334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848640" y="2911320"/>
            <a:ext cx="1406520" cy="239760"/>
          </a:xfrm>
          <a:prstGeom prst="rect">
            <a:avLst/>
          </a:prstGeom>
          <a:solidFill>
            <a:srgbClr val="66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переработка отходов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7159680" y="3165480"/>
            <a:ext cx="104616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466040" y="3565440"/>
            <a:ext cx="115560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7486560" y="4208400"/>
            <a:ext cx="1135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752480" y="1295280"/>
            <a:ext cx="22100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67040" y="1565280"/>
            <a:ext cx="1811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заполненный мир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09480" y="5486400"/>
            <a:ext cx="868680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413160" y="5756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9480" y="5486400"/>
            <a:ext cx="86868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С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солнечная энергия;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Т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тепло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; 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М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 материал;      </a:t>
            </a:r>
            <a:r>
              <a:rPr b="1" lang="ru-RU" sz="1300" spc="-1" strike="noStrike">
                <a:solidFill>
                  <a:srgbClr val="000000"/>
                </a:solidFill>
                <a:latin typeface="Times New Roman"/>
              </a:rPr>
              <a:t>Е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 энергия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                                 —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природный капитал                                     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— 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капитал, созданный человечество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000000"/>
                </a:solidFill>
                <a:latin typeface="Times New Roman"/>
              </a:rPr>
              <a:t>Источник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: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Daly H.E.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 Beyond Growth: The Economics of Sustainable Development. — Boston: Beacon Press, 1996.  P. 57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409760" y="5981760"/>
            <a:ext cx="419040" cy="266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210200" y="5981760"/>
            <a:ext cx="438120" cy="26676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333440" y="5981760"/>
            <a:ext cx="495360" cy="266760"/>
          </a:xfrm>
          <a:prstGeom prst="rec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fill="hold">
                      <p:stCondLst>
                        <p:cond delay="0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500"/>
                            </p:stCondLst>
                            <p:childTnLst>
                              <p:par>
                                <p:cTn id="21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1500"/>
                            </p:stCondLst>
                            <p:childTnLst>
                              <p:par>
                                <p:cTn id="21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1" fill="hold">
                            <p:stCondLst>
                              <p:cond delay="2000"/>
                            </p:stCondLst>
                            <p:childTnLst>
                              <p:par>
                                <p:cTn id="2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609480" y="304920"/>
            <a:ext cx="876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е сферы и взаимодействия, определяющие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единой социо-природной системы Земли</a:t>
            </a:r>
            <a:r>
              <a:rPr b="0" i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2133720" y="3371760"/>
            <a:ext cx="5790960" cy="2971800"/>
          </a:xfrm>
          <a:prstGeom prst="ellipse">
            <a:avLst/>
          </a:prstGeom>
          <a:solidFill>
            <a:srgbClr val="00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Природная сред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Земл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066680" y="2743200"/>
            <a:ext cx="3575160" cy="2247840"/>
          </a:xfrm>
          <a:prstGeom prst="ellipse">
            <a:avLst/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Техно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301920" y="1542960"/>
            <a:ext cx="3505320" cy="2362320"/>
          </a:xfrm>
          <a:prstGeom prst="ellipse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Социальная сфер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rot="2002200">
            <a:off x="3688920" y="467964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rot="19456800">
            <a:off x="3247560" y="309204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765680" y="3736800"/>
            <a:ext cx="600120" cy="552600"/>
          </a:xfrm>
          <a:custGeom>
            <a:avLst/>
            <a:gdLst>
              <a:gd name="textAreaLeft" fmla="*/ 0 w 600120"/>
              <a:gd name="textAreaRight" fmla="*/ 600480 w 600120"/>
              <a:gd name="textAreaTop" fmla="*/ 0 h 552600"/>
              <a:gd name="textAreaBottom" fmla="*/ 552960 h 5526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4300" y="6500"/>
                </a:lnTo>
                <a:lnTo>
                  <a:pt x="4300" y="8600"/>
                </a:lnTo>
                <a:lnTo>
                  <a:pt x="8600" y="8600"/>
                </a:lnTo>
                <a:lnTo>
                  <a:pt x="8600" y="4300"/>
                </a:lnTo>
                <a:lnTo>
                  <a:pt x="6500" y="4300"/>
                </a:lnTo>
                <a:lnTo>
                  <a:pt x="10800" y="0"/>
                </a:lnTo>
                <a:lnTo>
                  <a:pt x="15100" y="4300"/>
                </a:lnTo>
                <a:lnTo>
                  <a:pt x="13000" y="4300"/>
                </a:lnTo>
                <a:lnTo>
                  <a:pt x="13000" y="8600"/>
                </a:lnTo>
                <a:lnTo>
                  <a:pt x="17300" y="8600"/>
                </a:lnTo>
                <a:lnTo>
                  <a:pt x="17300" y="6500"/>
                </a:lnTo>
                <a:lnTo>
                  <a:pt x="21600" y="10800"/>
                </a:lnTo>
                <a:lnTo>
                  <a:pt x="17300" y="15100"/>
                </a:lnTo>
                <a:lnTo>
                  <a:pt x="17300" y="13000"/>
                </a:lnTo>
                <a:lnTo>
                  <a:pt x="13000" y="13000"/>
                </a:lnTo>
                <a:lnTo>
                  <a:pt x="13000" y="17300"/>
                </a:lnTo>
                <a:lnTo>
                  <a:pt x="15100" y="17300"/>
                </a:lnTo>
                <a:lnTo>
                  <a:pt x="10800" y="21600"/>
                </a:lnTo>
                <a:lnTo>
                  <a:pt x="6500" y="17300"/>
                </a:lnTo>
                <a:lnTo>
                  <a:pt x="8600" y="17300"/>
                </a:lnTo>
                <a:lnTo>
                  <a:pt x="8600" y="13000"/>
                </a:lnTo>
                <a:lnTo>
                  <a:pt x="4300" y="13000"/>
                </a:lnTo>
                <a:lnTo>
                  <a:pt x="4300" y="15100"/>
                </a:lnTo>
                <a:close/>
              </a:path>
            </a:pathLst>
          </a:cu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04920" y="5791320"/>
            <a:ext cx="23619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Энергия Солнц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8653320" y="5800680"/>
            <a:ext cx="1024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imes New Roman"/>
              </a:rPr>
              <a:t>Космос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62120" y="5334120"/>
            <a:ext cx="2895480" cy="304560"/>
          </a:xfrm>
          <a:prstGeom prst="rightArrow">
            <a:avLst>
              <a:gd name="adj1" fmla="val 50000"/>
              <a:gd name="adj2" fmla="val 237677"/>
            </a:avLst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438960" y="5321160"/>
            <a:ext cx="2679480" cy="304920"/>
          </a:xfrm>
          <a:prstGeom prst="rightArrow">
            <a:avLst>
              <a:gd name="adj1" fmla="val 50000"/>
              <a:gd name="adj2" fmla="val 219687"/>
            </a:avLst>
          </a:prstGeom>
          <a:solidFill>
            <a:srgbClr val="ffff00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5511960" y="2806560"/>
            <a:ext cx="3429000" cy="2171880"/>
          </a:xfrm>
          <a:prstGeom prst="ellipse">
            <a:avLst/>
          </a:prstGeom>
          <a:solidFill>
            <a:srgbClr val="ffcc66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 rot="2002200">
            <a:off x="5898960" y="296496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rot="19456800">
            <a:off x="6038640" y="4686120"/>
            <a:ext cx="457200" cy="22860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fill="hold">
                      <p:stCondLst>
                        <p:cond delay="0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0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500"/>
                            </p:stCondLst>
                            <p:childTnLst>
                              <p:par>
                                <p:cTn id="23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1000"/>
                            </p:stCondLst>
                            <p:childTnLst>
                              <p:par>
                                <p:cTn id="23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1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500"/>
                            </p:stCondLst>
                            <p:childTnLst>
                              <p:par>
                                <p:cTn id="243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2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5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3000"/>
                            </p:stCondLst>
                            <p:childTnLst>
                              <p:par>
                                <p:cTn id="258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2" fill="hold">
                            <p:stCondLst>
                              <p:cond delay="3500"/>
                            </p:stCondLst>
                            <p:childTnLst>
                              <p:par>
                                <p:cTn id="2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5" fill="hold">
                            <p:stCondLst>
                              <p:cond delay="4000"/>
                            </p:stCondLst>
                            <p:childTnLst>
                              <p:par>
                                <p:cTn id="2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4500"/>
                            </p:stCondLst>
                            <p:childTnLst>
                              <p:par>
                                <p:cTn id="2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1" fill="hold">
                            <p:stCondLst>
                              <p:cond delay="5000"/>
                            </p:stCondLst>
                            <p:childTnLst>
                              <p:par>
                                <p:cTn id="27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5500"/>
                            </p:stCondLst>
                            <p:childTnLst>
                              <p:par>
                                <p:cTn id="27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6500"/>
                            </p:stCondLst>
                            <p:childTnLst>
                              <p:par>
                                <p:cTn id="2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269040" y="4537080"/>
            <a:ext cx="11253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913440" y="3718080"/>
            <a:ext cx="428760" cy="377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Ｄ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7932600" y="1793880"/>
            <a:ext cx="430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Ｃ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2144880" y="3965400"/>
            <a:ext cx="228420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, благоприятствующие жизнедеятельности общ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6342120" y="3352680"/>
            <a:ext cx="66024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7351560" y="1422360"/>
            <a:ext cx="658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↻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10000" y="2895480"/>
            <a:ext cx="2872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3598920" y="3124080"/>
            <a:ext cx="546120" cy="606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↻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035600" y="3297240"/>
            <a:ext cx="4014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Ｂ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5835600" y="1798560"/>
            <a:ext cx="430200" cy="37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808080"/>
                </a:solidFill>
                <a:latin typeface="Times New Roman"/>
                <a:ea typeface="Arial Unicode MS"/>
              </a:rPr>
              <a:t>Ａ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 flipV="1">
            <a:off x="4969800" y="1409760"/>
            <a:ext cx="6858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c0c0c0"/>
                </a:solidFill>
                <a:latin typeface="Times New Roman"/>
                <a:ea typeface="Arial Unicode MS"/>
              </a:rPr>
              <a:t>↺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224160" y="4502160"/>
            <a:ext cx="3319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384720" y="3284640"/>
            <a:ext cx="2775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5910120" y="2527200"/>
            <a:ext cx="1257480" cy="24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 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2060640" y="29098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6597720" y="1066680"/>
            <a:ext cx="1612800" cy="233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581880" y="1506600"/>
            <a:ext cx="301680" cy="24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759200" y="1359000"/>
            <a:ext cx="285840" cy="215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935680" y="3003480"/>
            <a:ext cx="1538280" cy="24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7440480" y="3005280"/>
            <a:ext cx="279360" cy="236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576440" y="2095560"/>
            <a:ext cx="182700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Поток энергии/вещ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8666280" y="199692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3860640" y="2552760"/>
            <a:ext cx="1714680" cy="68580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174840" y="2552760"/>
            <a:ext cx="457200" cy="685800"/>
          </a:xfrm>
          <a:prstGeom prst="flowChartCollate">
            <a:avLst/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1825560" y="2895480"/>
            <a:ext cx="203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575320" y="3009960"/>
            <a:ext cx="2367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V="1">
            <a:off x="3403440" y="3238560"/>
            <a:ext cx="0" cy="596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3406680" y="3828600"/>
            <a:ext cx="101448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V="1">
            <a:off x="4422600" y="3238200"/>
            <a:ext cx="0" cy="595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32320" y="16383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3402720" y="1066680"/>
            <a:ext cx="1257480" cy="59544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>
            <a:off x="5231520" y="1066680"/>
            <a:ext cx="1257480" cy="60012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>
            <a:off x="4657680" y="136692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75320" y="2781360"/>
            <a:ext cx="167004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7237440" y="1518840"/>
            <a:ext cx="1440" cy="1265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 flipV="1">
            <a:off x="6489720" y="1523520"/>
            <a:ext cx="75888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65120" y="5051520"/>
            <a:ext cx="22496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100" spc="-1" strike="noStrike">
                <a:solidFill>
                  <a:srgbClr val="000000"/>
                </a:solidFill>
                <a:latin typeface="Times New Roman"/>
              </a:rPr>
              <a:t>Источник ресурсов и базис условий существования общ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7612200" y="5037120"/>
            <a:ext cx="1828800" cy="405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отитель отходов и антропного прессинг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433600" y="2370240"/>
            <a:ext cx="341280" cy="4762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411360" y="4897440"/>
            <a:ext cx="3086280" cy="550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кадная система превращения ресурсо-потока в средства, обеспечивающие жизнедеятельность общ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46440" y="22096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6491160" y="1292400"/>
            <a:ext cx="21798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8661240" y="1292400"/>
            <a:ext cx="0" cy="1027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563840" y="5616720"/>
            <a:ext cx="6750000" cy="1096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й рост определяется действием контура положительной обратной связи (А), что увеличивает ресурсопоток (контур В) и приближает исчерпание невозобновимых ресурсов, одновременно наращивает объёмы отходов и детериорации Экосистемы Земли (контуры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и подрывает её устойчивость! Продление этих тенденций (конту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D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 приведёт к существенному ухудшению условий жизнедеятельности и деградации общества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681200" y="4211640"/>
            <a:ext cx="4114800" cy="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 flipH="1" flipV="1">
            <a:off x="5786280" y="1655640"/>
            <a:ext cx="5040" cy="25624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H="1" flipV="1">
            <a:off x="4992840" y="3241440"/>
            <a:ext cx="1440" cy="919080"/>
          </a:xfrm>
          <a:prstGeom prst="line">
            <a:avLst/>
          </a:prstGeom>
          <a:ln cap="rnd" w="2844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rot="20705400">
            <a:off x="569520" y="2317320"/>
            <a:ext cx="1500120" cy="2183040"/>
          </a:xfrm>
          <a:prstGeom prst="cloudCallout">
            <a:avLst>
              <a:gd name="adj1" fmla="val -40643"/>
              <a:gd name="adj2" fmla="val -37921"/>
            </a:avLst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З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3230640" y="4433400"/>
            <a:ext cx="0" cy="343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228840" y="4803840"/>
            <a:ext cx="5526360" cy="61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8748720" y="4410000"/>
            <a:ext cx="1440" cy="385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 flipH="1">
            <a:off x="4267080" y="3124080"/>
            <a:ext cx="457200" cy="1849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H="1" rot="894600">
            <a:off x="7826760" y="2323800"/>
            <a:ext cx="1498680" cy="2182680"/>
          </a:xfrm>
          <a:prstGeom prst="cloudCallout">
            <a:avLst>
              <a:gd name="adj1" fmla="val -40643"/>
              <a:gd name="adj2" fmla="val -37921"/>
            </a:avLst>
          </a:prstGeom>
          <a:solidFill>
            <a:srgbClr val="00ff00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З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0" y="0"/>
            <a:ext cx="9906120" cy="64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0" y="11592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19040" y="152280"/>
            <a:ext cx="906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общённое представление об экономике как открытой системе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зависящей от экосистемы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5107320" y="3290760"/>
            <a:ext cx="266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5154480" y="3699000"/>
            <a:ext cx="809640" cy="255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3478320" y="3718080"/>
            <a:ext cx="102852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урсах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52280" y="5295960"/>
            <a:ext cx="287208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 истощения природного капитала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: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●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исчерпания невозобновимых георесурсов;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    ●  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утраты воспроизводимости биоресурсов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405240" y="5295960"/>
            <a:ext cx="3085920" cy="102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евышения рационального масштаба экономики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после которого её рост и поддержание становятся антиэконо-мичным,  последствия антисоциальными, а деградация природы неизбежн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6900840" y="5330880"/>
            <a:ext cx="2889360" cy="1012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Опасности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отери биоразнообразия и деградации биосферы</a:t>
            </a:r>
            <a:r>
              <a:rPr b="0" lang="ru-RU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,  ведущей к утрате её устойчивости,  ухудшению природно-климатических условий жизни человека и хозяйствования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7221600" y="175572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6402240" y="3433680"/>
            <a:ext cx="31284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7601040" y="1295280"/>
            <a:ext cx="102708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199120" y="24382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6645240" y="177012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8399520" y="209556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53080" y="2698920"/>
            <a:ext cx="125748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 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484440" y="25527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562200" y="2039760"/>
            <a:ext cx="8352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484440" y="346716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2112840" y="31240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1177920" y="1341360"/>
            <a:ext cx="24004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ив сохранения ойкумен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938840" y="3568680"/>
            <a:ext cx="34272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12640" y="2324160"/>
            <a:ext cx="1600200" cy="1950840"/>
          </a:xfrm>
          <a:prstGeom prst="cloudCallout">
            <a:avLst>
              <a:gd name="adj1" fmla="val -18611"/>
              <a:gd name="adj2" fmla="val 8865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4056120" y="2781360"/>
            <a:ext cx="1600200" cy="799920"/>
          </a:xfrm>
          <a:prstGeom prst="rect">
            <a:avLst/>
          </a:prstGeom>
          <a:solidFill>
            <a:srgbClr val="3366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255840" y="2781360"/>
            <a:ext cx="457200" cy="68580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2021040" y="3123720"/>
            <a:ext cx="203184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827840" y="2324160"/>
            <a:ext cx="1486080" cy="1913040"/>
          </a:xfrm>
          <a:prstGeom prst="cloudCallout">
            <a:avLst>
              <a:gd name="adj1" fmla="val -15388"/>
              <a:gd name="adj2" fmla="val 11166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3484440" y="346716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484440" y="392436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flipH="1" flipV="1">
            <a:off x="4508280" y="3576600"/>
            <a:ext cx="4680" cy="347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4513320" y="186696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H="1">
            <a:off x="3483720" y="1295280"/>
            <a:ext cx="1257480" cy="59544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H="1">
            <a:off x="5312520" y="1295280"/>
            <a:ext cx="1257480" cy="60012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 flipH="1">
            <a:off x="4736880" y="1595520"/>
            <a:ext cx="5713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41920" y="2948040"/>
            <a:ext cx="128916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H="1" flipV="1">
            <a:off x="6919920" y="1754280"/>
            <a:ext cx="1440" cy="1208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 flipH="1">
            <a:off x="6570720" y="1749600"/>
            <a:ext cx="342720" cy="2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848640" y="3230640"/>
            <a:ext cx="1001520" cy="392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  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55720" y="4610160"/>
            <a:ext cx="12571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ток ресурсов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7445520" y="4610160"/>
            <a:ext cx="1982520" cy="515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глотитель отходов и антропного прессинг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2451240" y="2478240"/>
            <a:ext cx="368280" cy="571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370320" y="4610160"/>
            <a:ext cx="29718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скадная система превращения ресурсо-потока в средства, обеспечивающие жизнедеятельность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4627440" y="24382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70720" y="1523880"/>
            <a:ext cx="20574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 flipH="1">
            <a:off x="8629560" y="1519200"/>
            <a:ext cx="6480" cy="889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1482840" y="1589040"/>
            <a:ext cx="2001600" cy="468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1487520" y="1603440"/>
            <a:ext cx="4680" cy="71604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856040" y="12952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55640" y="2209680"/>
            <a:ext cx="1828800" cy="312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энергии/веще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199120" y="20955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5313240" y="1981080"/>
            <a:ext cx="571680" cy="34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 flipV="1">
            <a:off x="5199120" y="1792440"/>
            <a:ext cx="30636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645160" y="33894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862600" y="3390840"/>
            <a:ext cx="0" cy="5558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 flipH="1">
            <a:off x="5198760" y="3924360"/>
            <a:ext cx="6858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 flipV="1">
            <a:off x="5199120" y="3580920"/>
            <a:ext cx="0" cy="343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5664240" y="3198960"/>
            <a:ext cx="2171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3484440" y="232416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H="1">
            <a:off x="3561840" y="2255760"/>
            <a:ext cx="336600" cy="2923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281640" y="3006720"/>
            <a:ext cx="284400" cy="372960"/>
          </a:xfrm>
          <a:prstGeom prst="flowChartCollat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 rot="10800000">
            <a:off x="7129080" y="1341000"/>
            <a:ext cx="284040" cy="343080"/>
          </a:xfrm>
          <a:prstGeom prst="flowChartCollat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7359480" y="2104920"/>
            <a:ext cx="8352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 flipV="1">
            <a:off x="7269120" y="166212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 flipV="1">
            <a:off x="6427800" y="3373560"/>
            <a:ext cx="0" cy="45720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6603840" y="3952800"/>
            <a:ext cx="841680" cy="265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541920" y="3629160"/>
            <a:ext cx="343080" cy="34272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7342200" y="1914480"/>
            <a:ext cx="360360" cy="247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855800" y="1800360"/>
            <a:ext cx="914400" cy="293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</a:t>
            </a:r>
            <a:r>
              <a:rPr b="1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!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78040" y="1609560"/>
            <a:ext cx="399960" cy="2667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1440" y="-61596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0" y="228600"/>
            <a:ext cx="9906120" cy="6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ённая модель экономики как открытой системы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ребующей регулирования взаимодействий с экосистемой Земл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/>
          <p:nvPr/>
        </p:nvSpPr>
        <p:spPr>
          <a:xfrm>
            <a:off x="457200" y="190440"/>
            <a:ext cx="8991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ённая модель экологической экономики, направляемо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аукой и инноватикой к экоустойчивому развитию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24300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99080" y="5067360"/>
            <a:ext cx="32724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Ｋ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3632040" y="391464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1668600" y="2720880"/>
            <a:ext cx="1260360" cy="474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ок энергии/вещества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4683240" y="1355760"/>
            <a:ext cx="3016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6435720" y="1355760"/>
            <a:ext cx="301680" cy="183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5923080" y="1808280"/>
            <a:ext cx="3031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4105440" y="180180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707000" y="237168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5910120" y="5040360"/>
            <a:ext cx="327240" cy="225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3398760" y="4527720"/>
            <a:ext cx="1028880" cy="399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ресурсах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6392880" y="4336920"/>
            <a:ext cx="289080" cy="16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19840" y="3790800"/>
            <a:ext cx="1041480" cy="409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7381800" y="2695680"/>
            <a:ext cx="297000" cy="199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7581960" y="2182680"/>
            <a:ext cx="1025640" cy="398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ходы,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териорац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6070680" y="4672080"/>
            <a:ext cx="1792080" cy="42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, необходимые для экоустойчивого развит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5127480" y="33004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4441680" y="33004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+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5140440" y="4402080"/>
            <a:ext cx="345960" cy="22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5099040" y="4562640"/>
            <a:ext cx="69840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апитал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6308640" y="3286080"/>
            <a:ext cx="800280" cy="447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вары 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уг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3720960" y="5591160"/>
            <a:ext cx="151920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, инноваци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823080" y="5481720"/>
            <a:ext cx="2060640" cy="460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остояни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ы и её компонентов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 flipV="1">
            <a:off x="6122880" y="2704680"/>
            <a:ext cx="1800" cy="23050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5302080" y="5019840"/>
            <a:ext cx="3207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3413160" y="506736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994040" y="1955880"/>
            <a:ext cx="171432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мператив сохранения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йкумены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96880" y="5580000"/>
            <a:ext cx="1109520" cy="600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йствия по снижению детериораци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6610320" y="25606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8442360" y="2957400"/>
            <a:ext cx="34272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409920" y="336060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409920" y="427500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038320" y="3932280"/>
            <a:ext cx="34308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38120" y="3132000"/>
            <a:ext cx="1600200" cy="2171880"/>
          </a:xfrm>
          <a:prstGeom prst="cloudCallout">
            <a:avLst>
              <a:gd name="adj1" fmla="val -18611"/>
              <a:gd name="adj2" fmla="val 2893"/>
            </a:avLst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З</a:t>
            </a:r>
            <a:r>
              <a:rPr b="0" lang="ru-RU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1</a:t>
            </a: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981600" y="3589200"/>
            <a:ext cx="1600200" cy="847800"/>
          </a:xfrm>
          <a:prstGeom prst="rect">
            <a:avLst/>
          </a:prstGeom>
          <a:solidFill>
            <a:srgbClr val="3366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ка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3181320" y="3589200"/>
            <a:ext cx="457200" cy="68580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 flipV="1">
            <a:off x="1965240" y="3931920"/>
            <a:ext cx="2014560" cy="3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 flipH="1">
            <a:off x="7981920" y="3186000"/>
            <a:ext cx="1486080" cy="2171880"/>
          </a:xfrm>
          <a:prstGeom prst="cloudCallout">
            <a:avLst>
              <a:gd name="adj1" fmla="val -30726"/>
              <a:gd name="adj2" fmla="val 1402"/>
            </a:avLst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а Земл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ЭЗ</a:t>
            </a:r>
            <a:r>
              <a:rPr b="0" lang="en-US" sz="13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2</a:t>
            </a: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 flipV="1">
            <a:off x="3409920" y="4275000"/>
            <a:ext cx="0" cy="4572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3409920" y="4732200"/>
            <a:ext cx="10288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 flipV="1">
            <a:off x="4432320" y="4384440"/>
            <a:ext cx="1440" cy="3603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4438800" y="2674800"/>
            <a:ext cx="0" cy="914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 flipH="1">
            <a:off x="3409200" y="2103480"/>
            <a:ext cx="1257480" cy="59544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595440"/>
              <a:gd name="textAreaBottom" fmla="*/ 595800 h 5954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 flipH="1">
            <a:off x="5238000" y="2103480"/>
            <a:ext cx="1257480" cy="600120"/>
          </a:xfrm>
          <a:custGeom>
            <a:avLst/>
            <a:gdLst>
              <a:gd name="textAreaLeft" fmla="*/ -360 w 1257480"/>
              <a:gd name="textAreaRight" fmla="*/ 1257480 w 1257480"/>
              <a:gd name="textAreaTop" fmla="*/ 0 h 600120"/>
              <a:gd name="textAreaBottom" fmla="*/ 600480 h 6001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c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селе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 flipH="1">
            <a:off x="4662360" y="2403360"/>
            <a:ext cx="57168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5584680" y="3726000"/>
            <a:ext cx="14734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"/>
          <p:cNvSpPr/>
          <p:nvPr/>
        </p:nvSpPr>
        <p:spPr>
          <a:xfrm flipV="1">
            <a:off x="7056360" y="2553840"/>
            <a:ext cx="0" cy="1181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6495840" y="2560680"/>
            <a:ext cx="5713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147760" y="3149640"/>
            <a:ext cx="373320" cy="72216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 flipV="1">
            <a:off x="6512040" y="2397240"/>
            <a:ext cx="219060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8693280" y="2400480"/>
            <a:ext cx="0" cy="928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 flipH="1" flipV="1">
            <a:off x="2955600" y="2385720"/>
            <a:ext cx="453960" cy="111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 flipH="1">
            <a:off x="2949480" y="2400480"/>
            <a:ext cx="6480" cy="29365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5124600" y="290340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38720" y="2789280"/>
            <a:ext cx="504720" cy="239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руд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5124600" y="2600280"/>
            <a:ext cx="306360" cy="303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flipV="1">
            <a:off x="5584680" y="4219200"/>
            <a:ext cx="184320" cy="32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 flipH="1" flipV="1">
            <a:off x="5101920" y="4788000"/>
            <a:ext cx="66996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5591160" y="4006800"/>
            <a:ext cx="2422440" cy="32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3405240" y="3200400"/>
            <a:ext cx="4680" cy="388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5326200" y="5342040"/>
            <a:ext cx="1160280" cy="51732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нноватика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4280040" y="3962520"/>
            <a:ext cx="1028520" cy="269640"/>
          </a:xfrm>
          <a:prstGeom prst="rect">
            <a:avLst/>
          </a:prstGeom>
          <a:solidFill>
            <a:srgbClr val="c0c0c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 flipV="1">
            <a:off x="1228680" y="5272200"/>
            <a:ext cx="0" cy="3268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 flipV="1">
            <a:off x="4775040" y="4222440"/>
            <a:ext cx="1800" cy="13381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3429000" y="3201840"/>
            <a:ext cx="54612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3971880" y="3205080"/>
            <a:ext cx="380880" cy="7524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1879560" y="5334120"/>
            <a:ext cx="1758960" cy="54288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циональное природопользование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 flipH="1">
            <a:off x="1220400" y="5591160"/>
            <a:ext cx="662040" cy="14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 flipH="1" flipV="1">
            <a:off x="3638520" y="5586120"/>
            <a:ext cx="168912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8721720" y="5362560"/>
            <a:ext cx="3240" cy="3589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 flipH="1" flipV="1">
            <a:off x="6496200" y="5700240"/>
            <a:ext cx="220320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5587920" y="4791240"/>
            <a:ext cx="1800" cy="549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 flipH="1">
            <a:off x="5919480" y="5054760"/>
            <a:ext cx="101124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923080" y="5057640"/>
            <a:ext cx="1440" cy="2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5764320" y="4219560"/>
            <a:ext cx="0" cy="566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"/>
          <p:cNvSpPr/>
          <p:nvPr/>
        </p:nvSpPr>
        <p:spPr>
          <a:xfrm>
            <a:off x="6486480" y="5472000"/>
            <a:ext cx="439920" cy="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6927840" y="5054760"/>
            <a:ext cx="0" cy="423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 flipV="1">
            <a:off x="5111640" y="4446360"/>
            <a:ext cx="0" cy="3474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7413480" y="2587320"/>
            <a:ext cx="0" cy="5302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127480" y="398628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5205240" y="3106440"/>
            <a:ext cx="441360" cy="8557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5673600" y="3106800"/>
            <a:ext cx="173052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 flipH="1" flipV="1">
            <a:off x="6407280" y="4188960"/>
            <a:ext cx="1440" cy="42876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5162400" y="4238640"/>
            <a:ext cx="1222560" cy="37152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5245200" y="4788000"/>
            <a:ext cx="0" cy="2840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405240" y="5060880"/>
            <a:ext cx="1440" cy="2682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3403440" y="5070600"/>
            <a:ext cx="1847880" cy="14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 flipV="1">
            <a:off x="4673520" y="2255400"/>
            <a:ext cx="328680" cy="18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 flipV="1">
            <a:off x="4994280" y="1789200"/>
            <a:ext cx="0" cy="444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 flipH="1">
            <a:off x="4119480" y="1800360"/>
            <a:ext cx="851040" cy="46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4121280" y="1811160"/>
            <a:ext cx="0" cy="2876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 flipV="1">
            <a:off x="6499080" y="2206800"/>
            <a:ext cx="308160" cy="288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"/>
          <p:cNvSpPr/>
          <p:nvPr/>
        </p:nvSpPr>
        <p:spPr>
          <a:xfrm flipV="1">
            <a:off x="6805440" y="1815840"/>
            <a:ext cx="0" cy="39060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 flipH="1" flipV="1">
            <a:off x="5935680" y="1809360"/>
            <a:ext cx="876240" cy="32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5942160" y="1817640"/>
            <a:ext cx="0" cy="285840"/>
          </a:xfrm>
          <a:prstGeom prst="line">
            <a:avLst/>
          </a:prstGeom>
          <a:ln w="1260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6326280" y="1635120"/>
            <a:ext cx="264960" cy="35388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4576680" y="1628640"/>
            <a:ext cx="265320" cy="35568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4692600" y="1162080"/>
            <a:ext cx="6480" cy="46656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"/>
          <p:cNvSpPr/>
          <p:nvPr/>
        </p:nvSpPr>
        <p:spPr>
          <a:xfrm>
            <a:off x="6445080" y="1163520"/>
            <a:ext cx="6480" cy="466920"/>
          </a:xfrm>
          <a:prstGeom prst="line">
            <a:avLst/>
          </a:prstGeom>
          <a:ln w="12600">
            <a:solidFill>
              <a:srgbClr val="ff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"/>
          <p:cNvSpPr/>
          <p:nvPr/>
        </p:nvSpPr>
        <p:spPr>
          <a:xfrm>
            <a:off x="7280280" y="2225520"/>
            <a:ext cx="264960" cy="35424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6273720" y="3833640"/>
            <a:ext cx="266760" cy="355680"/>
          </a:xfrm>
          <a:prstGeom prst="flowChartCollate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647040" y="1252440"/>
            <a:ext cx="85392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3751200" y="1246320"/>
            <a:ext cx="854280" cy="269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1986120" y="5018040"/>
            <a:ext cx="853920" cy="270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Проблема!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2546280" y="6095880"/>
            <a:ext cx="4392720" cy="57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здание и поддержание контура К — стратегическая задача новой научно-технической политик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6683400" y="5405400"/>
            <a:ext cx="357120" cy="1147680"/>
          </a:xfrm>
          <a:prstGeom prst="line">
            <a:avLst/>
          </a:prstGeom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 flipH="1">
            <a:off x="2832120" y="6553080"/>
            <a:ext cx="4178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0" y="22860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99960" y="380880"/>
            <a:ext cx="91440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Эколого-экономические ситуации (стадии деградации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399" name=""/>
          <p:cNvGraphicFramePr/>
          <p:nvPr/>
        </p:nvGraphicFramePr>
        <p:xfrm>
          <a:off x="209520" y="1104840"/>
          <a:ext cx="9487080" cy="5400720"/>
        </p:xfrm>
        <a:graphic>
          <a:graphicData uri="http://schemas.openxmlformats.org/drawingml/2006/table">
            <a:tbl>
              <a:tblPr/>
              <a:tblGrid>
                <a:gridCol w="1790640"/>
                <a:gridCol w="1886040"/>
                <a:gridCol w="2081160"/>
                <a:gridCol w="1863720"/>
                <a:gridCol w="1865520"/>
              </a:tblGrid>
              <a:tr h="5846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бщая  оценка ситуации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Здоровье 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аселения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остоя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хозяйства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остояние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рироды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26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Возможность стабилизации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Благоприят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ор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ормальное функционирование хозяйственной сис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ормальная,  хотя и изменённая хозяйственной деятельность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птимизация природопользова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91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Удовлетворитель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явление признаков ухудш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Усложнение хозяйствен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деятельност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ризнаки деградации отдельных компон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табилизация ситуации довольно легко достижим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апряжён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Ухудшение здоровья групп  насе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Снижение эффективности хозяйств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Обострение состояния отдельных компонентов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еобходимы срочные методы нормализ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814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ризисн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всеместное ухудшение здоровья  насел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одрыв сложившейся хозяйственной систем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ризис ландшафтной системы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ребуются крупные затраты для нормализац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Катастрофическа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енденция к вымиранию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Прогрессирующие хозяйственные потер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Необратимые процессы деградации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3333cc"/>
                          </a:solidFill>
                          <a:latin typeface="Times New Roman"/>
                        </a:rPr>
                        <a:t>Требуются громадные затраты для спасения населения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eaeaea"/>
                    </a:solidFill>
                  </a:tcPr>
                </a:tc>
              </a:tr>
              <a:tr h="583920">
                <a:tc gridSpan="5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Источник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:  </a:t>
                      </a:r>
                      <a:r>
                        <a:rPr b="0" i="1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Котляков В.М.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Избранные сочинения в шести книгах. Кн. 3. География в меняющемся мире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М.: Наука, 2001.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—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 С. 282.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5" dur="indefinite" restart="never" nodeType="tmRoot">
          <p:childTnLst>
            <p:seq>
              <p:cTn id="286" dur="indefinite" nodeType="mainSeq">
                <p:childTnLst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1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2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97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"/>
          <p:cNvSpPr/>
          <p:nvPr/>
        </p:nvSpPr>
        <p:spPr>
          <a:xfrm>
            <a:off x="152280" y="133200"/>
            <a:ext cx="9639360" cy="65397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Главные идеи концепции </a:t>
            </a:r>
            <a:r>
              <a:rPr b="0" lang="uk-UA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—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выживание человечества и всех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его сообществ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в перспективе, соизмеримой с жизнеспособностью экосистемы Земли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.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авны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тратегические задачи достижения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ой экоустойчивости формулируются как необходимость обеспечить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механизмов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инамического равновесия между природой и социумом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воляющего в полной мере удовлетворять потребности последующих поколений землян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ешение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(или ослабление остроты)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лобальных проблем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создание и поддержание адекватного научно-технического и инновационного потенциала экоустойчивого развития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лидарность национальных и региональных сообществ в деле сохранения среды обитания человека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"/>
          <p:cNvSpPr/>
          <p:nvPr/>
        </p:nvSpPr>
        <p:spPr>
          <a:xfrm>
            <a:off x="457200" y="114480"/>
            <a:ext cx="9144000" cy="64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Главны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актор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егативного техногенного давления 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на природную среду</a:t>
            </a:r>
            <a:r>
              <a:rPr b="1" lang="ru-RU" sz="26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Symbol"/>
                <a:ea typeface="Symbol"/>
              </a:rPr>
              <a:t></a:t>
            </a: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 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дефицит знаний и мотивации инноватики для создания новых экофильных технологий и методов хозяйствования;  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 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м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дленное внедрение новых технологий и оборудования, их высокая энергоёмкость и материаёмкость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 (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евыша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ющая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 два - три раза соответствующие показатели технологий развитых стран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)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Symbol"/>
                <a:ea typeface="Symbol"/>
              </a:rPr>
              <a:t>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ысок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нцентраци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омышленных объектов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 в крупных городах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Symbol"/>
                <a:ea typeface="Symbol"/>
              </a:rPr>
              <a:t>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застарел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я структура промышленного производства с высокой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долей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экологически опасных производств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Symbol"/>
                <a:ea typeface="Symbol"/>
              </a:rPr>
              <a:t>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сутствие надлежащих природоохранных систем (очистных сооружений, оборотных систем водообеспечения и т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. п.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), низк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ая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эфф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е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ктивность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эксплуатации существующих природоохранн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 объектов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Symbol"/>
                <a:ea typeface="Symbol"/>
              </a:rPr>
              <a:t>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сутствие надлежащего правового и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организационно-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ономическ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их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еханизмов, стимулир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ующих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экологически безопасных технологий и природоохранн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</a:rPr>
              <a:t>ы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 систем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800000"/>
                </a:solidFill>
                <a:latin typeface="Symbol"/>
                <a:ea typeface="Symbol"/>
              </a:rPr>
              <a:t>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       </a:t>
            </a:r>
            <a:r>
              <a:rPr b="1" lang="ru-RU" sz="21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тсутствие надлежащего контроля за охраной окружающей среды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"/>
          <p:cNvSpPr/>
          <p:nvPr/>
        </p:nvSpPr>
        <p:spPr>
          <a:xfrm>
            <a:off x="914400" y="1327320"/>
            <a:ext cx="8077320" cy="211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равнение двух ценностных парадигм, определяющих концепции общественного развити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(показать на кодоскопе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9080" y="57240"/>
            <a:ext cx="9925200" cy="67968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Аннотация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суждаются методологические предпосылки и основные этапы концептуального системного анализа процессов развития общества в условиях перманентного экологического кризис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меняемая методология отражает содержательный (когнитивный, логико-семантический) уровень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системного анализа, который</a:t>
            </a:r>
            <a:r>
              <a:rPr b="1" lang="en-US" sz="19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предшествует этапу назначения параметров рассматриваемых систем и более формального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моделирования эколого-экономического развития современного общества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е рассматривается как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непрерывная смена состояний мира (природы и общества) под воздействием м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о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же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ва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араллельно протекающих процессов разной природы, интенсивности, длительности и результативности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, которые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заимодействую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т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(непосредственно или опосредованно) и являются причиной новообразований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ое внимание уделяется описанию и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содержательному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нализу перекрёстных влияний процессов технологического, экономического, социального и экологического развития, которые направляются относительно автономными сферами общественного сознания и деятельности.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    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Н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ук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а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 инноватик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а изучаю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ся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 как творческие виды деятельности, формирующие потенциал экоустойчивого развития, ответственные за получение достоверных и практически полезных знаний о мире, за создание адекватных технических средств, определяющих выбор направлений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построения</a:t>
            </a:r>
            <a:r>
              <a:rPr b="1" lang="ru-RU" sz="19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900" spc="-1" strike="noStrike">
                <a:solidFill>
                  <a:srgbClr val="800000"/>
                </a:solidFill>
                <a:latin typeface="Times New Roman"/>
              </a:rPr>
              <a:t>экоустойчивого общества.</a:t>
            </a:r>
            <a:r>
              <a:rPr b="1" lang="en-US" sz="19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5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4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200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2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4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3000"/>
                            </p:stCondLst>
                            <p:childTnLst>
                              <p:par>
                                <p:cTn id="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4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500"/>
                            </p:stCondLst>
                            <p:childTnLst>
                              <p:par>
                                <p:cTn id="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4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"/>
          <p:cNvSpPr/>
          <p:nvPr/>
        </p:nvSpPr>
        <p:spPr>
          <a:xfrm>
            <a:off x="247680" y="209520"/>
            <a:ext cx="9410760" cy="6431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Миссия науки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—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троить и уточнять н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аучн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ю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картин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перехода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к экологически безопасному устойчивому развитию, обеспечивать ЛПР достоверными знаниями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Фронт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х исследований и разработок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 должен обеспечить получени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стоверных знаний о движущих силах и факторах общественного развития,  необходимости и возможностях их преобразования и рационального использования как главного условия перехода к экоустойчивому развитию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Проводимые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и разрабо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ки должны соответствовать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м потребностям,  расшир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технологические возможности,  определя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т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границы экономической целесообразности производства и потребления с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у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чётом стратегических ориентиров,  раскрыват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ь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экологические императивы жизнедеятельности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общества, конкретизировать их содержание для 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циональных, региональных и городских сообществ</a:t>
            </a:r>
            <a:r>
              <a:rPr b="1" lang="ru-RU" sz="2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266760" y="380880"/>
            <a:ext cx="9410760" cy="28962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Миссия инноватики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—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создавать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экофильн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ую технику и технологии 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для удовлетворения всего спектра потребностей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производства и потребления товаров и услуг и природных благ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.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ff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"/>
          <p:cNvSpPr/>
          <p:nvPr/>
        </p:nvSpPr>
        <p:spPr>
          <a:xfrm>
            <a:off x="495360" y="338040"/>
            <a:ext cx="8832960" cy="8305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е силы и взаимодействия, которые необходимо учитывать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 разработке стратегий перехода к экоустойчивого развития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643280" y="3191040"/>
            <a:ext cx="0" cy="1485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 flipV="1">
            <a:off x="5138640" y="3191040"/>
            <a:ext cx="0" cy="1371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3652920" y="3770280"/>
            <a:ext cx="26416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H="1">
            <a:off x="3652560" y="4245120"/>
            <a:ext cx="2600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flipH="1">
            <a:off x="2661840" y="2716200"/>
            <a:ext cx="79236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flipV="1">
            <a:off x="3281400" y="3069720"/>
            <a:ext cx="639720" cy="357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38360" y="4713120"/>
            <a:ext cx="708120" cy="382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3281400" y="4478400"/>
            <a:ext cx="598320" cy="33984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 flipH="1">
            <a:off x="6252840" y="4599000"/>
            <a:ext cx="515880" cy="27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"/>
          <p:cNvSpPr/>
          <p:nvPr/>
        </p:nvSpPr>
        <p:spPr>
          <a:xfrm flipV="1">
            <a:off x="6748560" y="4832280"/>
            <a:ext cx="693720" cy="393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861160" y="3019320"/>
            <a:ext cx="693720" cy="365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6294600" y="2720880"/>
            <a:ext cx="1096920" cy="5716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343320" y="4800600"/>
            <a:ext cx="311616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импера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149880" y="3321000"/>
            <a:ext cx="3137040" cy="131436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536400" y="3301920"/>
            <a:ext cx="29718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3405240" y="1676520"/>
            <a:ext cx="2971800" cy="13716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0" y="704880"/>
            <a:ext cx="9906120" cy="526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0" y="1530360"/>
            <a:ext cx="9906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fill="hold">
                      <p:stCondLst>
                        <p:cond delay="0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0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fill="hold">
                            <p:stCondLst>
                              <p:cond delay="500"/>
                            </p:stCondLst>
                            <p:childTnLst>
                              <p:par>
                                <p:cTn id="3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8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4000"/>
                            </p:stCondLst>
                            <p:childTnLst>
                              <p:par>
                                <p:cTn id="31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6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4500"/>
                            </p:stCondLst>
                            <p:childTnLst>
                              <p:par>
                                <p:cTn id="3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0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6000"/>
                            </p:stCondLst>
                            <p:childTnLst>
                              <p:par>
                                <p:cTn id="32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6" fill="hold">
                            <p:stCondLst>
                              <p:cond delay="6500"/>
                            </p:stCondLst>
                            <p:childTnLst>
                              <p:par>
                                <p:cTn id="32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1" fill="hold">
                            <p:stCondLst>
                              <p:cond delay="7000"/>
                            </p:stCondLst>
                            <p:childTnLst>
                              <p:par>
                                <p:cTn id="332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7500"/>
                            </p:stCondLst>
                            <p:childTnLst>
                              <p:par>
                                <p:cTn id="337" nodeType="after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9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1" fill="hold">
                            <p:stCondLst>
                              <p:cond delay="8000"/>
                            </p:stCondLst>
                            <p:childTnLst>
                              <p:par>
                                <p:cTn id="342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5" dur="5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6" fill="hold">
                            <p:stCondLst>
                              <p:cond delay="8500"/>
                            </p:stCondLst>
                            <p:childTnLst>
                              <p:par>
                                <p:cTn id="34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4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9000"/>
                            </p:stCondLst>
                            <p:childTnLst>
                              <p:par>
                                <p:cTn id="3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9500"/>
                            </p:stCondLst>
                            <p:childTnLst>
                              <p:par>
                                <p:cTn id="35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0"/>
                            </p:stCondLst>
                            <p:childTnLst>
                              <p:par>
                                <p:cTn id="362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0500"/>
                            </p:stCondLst>
                            <p:childTnLst>
                              <p:par>
                                <p:cTn id="367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9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0" dur="5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11000"/>
                            </p:stCondLst>
                            <p:childTnLst>
                              <p:par>
                                <p:cTn id="372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5" dur="5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11500"/>
                            </p:stCondLst>
                            <p:childTnLst>
                              <p:par>
                                <p:cTn id="377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"/>
          <p:cNvSpPr/>
          <p:nvPr/>
        </p:nvSpPr>
        <p:spPr>
          <a:xfrm>
            <a:off x="4510080" y="1092240"/>
            <a:ext cx="8240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Pragmatica"/>
              </a:rPr>
              <a:t>+</a:t>
            </a:r>
            <a:r>
              <a:rPr b="0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-2022480" y="27936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ис. 2. </a:t>
            </a:r>
            <a:r>
              <a:rPr b="1" i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новные силы и взаимодействия, которые необходимо учитывать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-2743200" y="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838080" y="0"/>
            <a:ext cx="83822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1219320" y="228600"/>
            <a:ext cx="7410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е силы и взаимодействия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определяющие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тенденции р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азвити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я общества в экосистеме Земл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1247760" y="2703600"/>
            <a:ext cx="990720" cy="9144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Pragmatica"/>
              </a:rPr>
              <a:t>+</a:t>
            </a:r>
            <a:r>
              <a:rPr b="0" lang="ru-RU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267160" y="1343160"/>
            <a:ext cx="371520" cy="34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6477120" y="4495680"/>
            <a:ext cx="25704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⑮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3247920" y="4495680"/>
            <a:ext cx="37152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⑧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7134120" y="4838760"/>
            <a:ext cx="32400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⑫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4457880" y="3219480"/>
            <a:ext cx="304560" cy="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⑬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645160" y="3722760"/>
            <a:ext cx="33336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⑩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4000680" y="4194000"/>
            <a:ext cx="37116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⑦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5915160" y="3203640"/>
            <a:ext cx="371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⑨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6708600" y="2703600"/>
            <a:ext cx="371520" cy="322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③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5270400" y="4280040"/>
            <a:ext cx="37152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④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3635280" y="3178080"/>
            <a:ext cx="320760" cy="279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②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2844720" y="2590920"/>
            <a:ext cx="371520" cy="266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⑤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734000" y="5905440"/>
            <a:ext cx="581040" cy="5256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☮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7477200" y="2838600"/>
            <a:ext cx="942840" cy="57132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3300"/>
                </a:solidFill>
                <a:latin typeface="Pragmatica"/>
              </a:rPr>
              <a:t>+</a:t>
            </a:r>
            <a:r>
              <a:rPr b="1" lang="ru-RU" sz="14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ff3300"/>
                </a:solidFill>
                <a:latin typeface="Wingdings 3"/>
                <a:ea typeface="Wingdings 3"/>
              </a:rPr>
              <a:t>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4768920" y="3044880"/>
            <a:ext cx="6120" cy="1644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 flipV="1">
            <a:off x="5246640" y="3006360"/>
            <a:ext cx="3240" cy="16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352680" y="3724200"/>
            <a:ext cx="3086280" cy="4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 flipH="1">
            <a:off x="3352320" y="4164120"/>
            <a:ext cx="3038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 flipH="1">
            <a:off x="2514600" y="2743200"/>
            <a:ext cx="906480" cy="469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 flipV="1">
            <a:off x="3143160" y="3038400"/>
            <a:ext cx="80496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76440" y="4618080"/>
            <a:ext cx="890640" cy="446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3219480" y="4390920"/>
            <a:ext cx="703080" cy="3682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>
            <a:off x="6140160" y="4408560"/>
            <a:ext cx="601560" cy="320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 flipV="1">
            <a:off x="6686640" y="4654080"/>
            <a:ext cx="836640" cy="436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5816520" y="3075120"/>
            <a:ext cx="820800" cy="4363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6438960" y="2835360"/>
            <a:ext cx="853920" cy="420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"/>
          <p:cNvSpPr/>
          <p:nvPr/>
        </p:nvSpPr>
        <p:spPr>
          <a:xfrm>
            <a:off x="3405240" y="4730760"/>
            <a:ext cx="3219480" cy="1257120"/>
          </a:xfrm>
          <a:prstGeom prst="ellipse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императивы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"/>
          <p:cNvSpPr/>
          <p:nvPr/>
        </p:nvSpPr>
        <p:spPr>
          <a:xfrm>
            <a:off x="6562800" y="3371760"/>
            <a:ext cx="2971800" cy="1152720"/>
          </a:xfrm>
          <a:prstGeom prst="ellipse">
            <a:avLst/>
          </a:prstGeom>
          <a:solidFill>
            <a:srgbClr val="ffcc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ая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есообразность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"/>
          <p:cNvSpPr/>
          <p:nvPr/>
        </p:nvSpPr>
        <p:spPr>
          <a:xfrm>
            <a:off x="247680" y="3287880"/>
            <a:ext cx="2971800" cy="1257120"/>
          </a:xfrm>
          <a:prstGeom prst="ellipse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хнологически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мож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"/>
          <p:cNvSpPr/>
          <p:nvPr/>
        </p:nvSpPr>
        <p:spPr>
          <a:xfrm>
            <a:off x="8207280" y="3030480"/>
            <a:ext cx="371520" cy="285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⑪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"/>
          <p:cNvSpPr/>
          <p:nvPr/>
        </p:nvSpPr>
        <p:spPr>
          <a:xfrm>
            <a:off x="1940040" y="2922480"/>
            <a:ext cx="371520" cy="257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⑥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"/>
          <p:cNvSpPr/>
          <p:nvPr/>
        </p:nvSpPr>
        <p:spPr>
          <a:xfrm>
            <a:off x="5267160" y="6124680"/>
            <a:ext cx="314640" cy="304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⑯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"/>
          <p:cNvSpPr/>
          <p:nvPr/>
        </p:nvSpPr>
        <p:spPr>
          <a:xfrm>
            <a:off x="2733840" y="4943520"/>
            <a:ext cx="304560" cy="237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⑭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"/>
          <p:cNvSpPr/>
          <p:nvPr/>
        </p:nvSpPr>
        <p:spPr>
          <a:xfrm>
            <a:off x="3422520" y="1704960"/>
            <a:ext cx="3186360" cy="12574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0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9" fill="hold">
                            <p:stCondLst>
                              <p:cond delay="500"/>
                            </p:stCondLst>
                            <p:childTnLst>
                              <p:par>
                                <p:cTn id="39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1000"/>
                            </p:stCondLst>
                            <p:childTnLst>
                              <p:par>
                                <p:cTn id="3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7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8" dur="5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9" fill="hold">
                            <p:stCondLst>
                              <p:cond delay="1500"/>
                            </p:stCondLst>
                            <p:childTnLst>
                              <p:par>
                                <p:cTn id="40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4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2000"/>
                            </p:stCondLst>
                            <p:childTnLst>
                              <p:par>
                                <p:cTn id="40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9" fill="hold">
                            <p:stCondLst>
                              <p:cond delay="2500"/>
                            </p:stCondLst>
                            <p:childTnLst>
                              <p:par>
                                <p:cTn id="4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3000"/>
                            </p:stCondLst>
                            <p:childTnLst>
                              <p:par>
                                <p:cTn id="4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9" fill="hold">
                            <p:stCondLst>
                              <p:cond delay="3500"/>
                            </p:stCondLst>
                            <p:childTnLst>
                              <p:par>
                                <p:cTn id="4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4" fill="hold">
                            <p:stCondLst>
                              <p:cond delay="4000"/>
                            </p:stCondLst>
                            <p:childTnLst>
                              <p:par>
                                <p:cTn id="4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4500"/>
                            </p:stCondLst>
                            <p:childTnLst>
                              <p:par>
                                <p:cTn id="4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2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3" dur="5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4" fill="hold">
                            <p:stCondLst>
                              <p:cond delay="5000"/>
                            </p:stCondLst>
                            <p:childTnLst>
                              <p:par>
                                <p:cTn id="4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7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8" dur="50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9" fill="hold">
                            <p:stCondLst>
                              <p:cond delay="5500"/>
                            </p:stCondLst>
                            <p:childTnLst>
                              <p:par>
                                <p:cTn id="4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3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6000"/>
                            </p:stCondLst>
                            <p:childTnLst>
                              <p:par>
                                <p:cTn id="44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6500"/>
                            </p:stCondLst>
                            <p:childTnLst>
                              <p:par>
                                <p:cTn id="45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2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7000"/>
                            </p:stCondLst>
                            <p:childTnLst>
                              <p:par>
                                <p:cTn id="45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7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8" dur="5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7500"/>
                            </p:stCondLst>
                            <p:childTnLst>
                              <p:par>
                                <p:cTn id="46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8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85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9000"/>
                            </p:stCondLst>
                            <p:childTnLst>
                              <p:par>
                                <p:cTn id="4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9500"/>
                            </p:stCondLst>
                            <p:childTnLst>
                              <p:par>
                                <p:cTn id="4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2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4" fill="hold">
                            <p:stCondLst>
                              <p:cond delay="10000"/>
                            </p:stCondLst>
                            <p:childTnLst>
                              <p:par>
                                <p:cTn id="4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7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8" dur="5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"/>
          <p:cNvSpPr/>
          <p:nvPr/>
        </p:nvSpPr>
        <p:spPr>
          <a:xfrm>
            <a:off x="304920" y="380880"/>
            <a:ext cx="933444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Взаимные влияния основных движущих сил общественного развития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65" name=""/>
          <p:cNvGraphicFramePr/>
          <p:nvPr/>
        </p:nvGraphicFramePr>
        <p:xfrm>
          <a:off x="660240" y="990720"/>
          <a:ext cx="8668080" cy="5421240"/>
        </p:xfrm>
        <a:graphic>
          <a:graphicData uri="http://schemas.openxmlformats.org/drawingml/2006/table">
            <a:tbl>
              <a:tblPr/>
              <a:tblGrid>
                <a:gridCol w="1775160"/>
                <a:gridCol w="1774800"/>
                <a:gridCol w="1733400"/>
                <a:gridCol w="1795320"/>
                <a:gridCol w="158940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арактер влияний одних действующих сил на друг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вижущие сил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dddd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СП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ие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 (Т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 (ЭЦ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еративы (ЭИ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Arial Unicode MS"/>
                          <a:ea typeface="Arial Unicode MS"/>
                        </a:rPr>
                        <a:t>↓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</a:tr>
              <a:tr h="1077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циальные </a:t>
                      </a:r>
                      <a:br>
                        <a:rPr sz="1400"/>
                      </a:b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треб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99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+</a:t>
                      </a:r>
                      <a:r>
                        <a:rPr b="1" lang="ru-RU" sz="2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26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ехн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озможност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99ff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954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+</a:t>
                      </a:r>
                      <a:r>
                        <a:rPr b="1" lang="ru-RU" sz="2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77480"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номическа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елесообразность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cc66"/>
                    </a:solidFill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 anchorCtr="1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+</a:t>
                      </a:r>
                      <a:r>
                        <a:rPr b="1" lang="ru-RU" sz="2200" spc="-1" strike="noStrike">
                          <a:solidFill>
                            <a:srgbClr val="ff3300"/>
                          </a:solidFill>
                          <a:latin typeface="Arial Unicode MS"/>
                          <a:ea typeface="Arial Unicode MS"/>
                        </a:rPr>
                        <a:t>↺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 anchorCtr="1">
                      <a:noAutofit/>
                    </a:bodyPr>
                    <a:p>
                      <a:pPr algn="ctr"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46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кологические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ператив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ff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+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(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–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2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200" spc="-1" strike="noStrike">
                          <a:solidFill>
                            <a:srgbClr val="00cc99"/>
                          </a:solidFill>
                          <a:latin typeface="Times New Roman"/>
                          <a:ea typeface="Arial Unicode MS"/>
                        </a:rPr>
                        <a:t>☮</a:t>
                      </a:r>
                      <a:endParaRPr b="0" lang="en-US" sz="3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9" dur="indefinite" restart="never" nodeType="tmRoot">
          <p:childTnLst>
            <p:seq>
              <p:cTn id="490" dur="indefinite" nodeType="mainSeq">
                <p:childTnLst>
                  <p:par>
                    <p:cTn id="491" fill="hold">
                      <p:stCondLst>
                        <p:cond delay="0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after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0"/>
                            </p:stCondLst>
                            <p:childTnLst>
                              <p:par>
                                <p:cTn id="49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0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1" dur="500" fill="hold"/>
                                        <p:tgtEl>
                                          <p:spTgt spid="4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"/>
          <p:cNvSpPr/>
          <p:nvPr/>
        </p:nvSpPr>
        <p:spPr>
          <a:xfrm>
            <a:off x="495360" y="171360"/>
            <a:ext cx="8915400" cy="641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Оценки действующих трендов разви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и выражение надежды на их измен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Взаимные влияния движущих сил развития человечества характеризуют его как систему экспансивного типа, которая развивается за счёт постоянно растущего поглощения ресурсов природной среды, детериорации биосферы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, вызывающей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нарушения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вековечных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механизмов природного равновесия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стощение невозобновимых ресурсов и существенные ухудшения условий жизнедеятельности национальных и локальных человеческих сообществ в следствие деградации биосферы способно выступить естественн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ой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п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р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ичиной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уменьшения их численности,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а в перспективе</a:t>
            </a:r>
            <a:r>
              <a:rPr b="1" lang="en-US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прекратить их существование и человечества в целом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!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Искусственные регуляторы сохранения и экоустойчивого развития общества могут быть созданы на базе глубокого осознания опасности тенденций текущего развития, путём существенной коррекции мотивации поведения человеческих сообществ, проведения селективной научно-технической политики и инноватики, создания экофильных технологий производства и потребления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</a:rPr>
              <a:t> </a:t>
            </a:r>
            <a:r>
              <a:rPr b="1" lang="ru-RU" sz="1800" spc="-1" strike="noStrike">
                <a:solidFill>
                  <a:srgbClr val="cc3300"/>
                </a:solidFill>
                <a:latin typeface="Times New Roman"/>
                <a:ea typeface="Times New Roman"/>
              </a:rPr>
              <a:t>товаров, услуг и природных благ.</a:t>
            </a: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2" dur="indefinite" restart="never" nodeType="tmRoot">
          <p:childTnLst>
            <p:seq>
              <p:cTn id="503" dur="indefinite" nodeType="mainSeq">
                <p:childTnLst>
                  <p:par>
                    <p:cTn id="504" fill="hold">
                      <p:stCondLst>
                        <p:cond delay="0"/>
                      </p:stCondLst>
                      <p:childTnLst>
                        <p:par>
                          <p:cTn id="505" fill="hold">
                            <p:stCondLst>
                              <p:cond delay="0"/>
                            </p:stCondLst>
                            <p:childTnLst>
                              <p:par>
                                <p:cTn id="5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8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9" dur="500" fill="hold"/>
                                        <p:tgtEl>
                                          <p:spTgt spid="4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0" fill="hold">
                            <p:stCondLst>
                              <p:cond delay="500"/>
                            </p:stCondLst>
                            <p:childTnLst>
                              <p:par>
                                <p:cTn id="51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4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1000"/>
                            </p:stCondLst>
                            <p:childTnLst>
                              <p:par>
                                <p:cTn id="51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8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9" dur="500" fill="hold"/>
                                        <p:tgtEl>
                                          <p:spTgt spid="4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0" fill="hold">
                            <p:stCondLst>
                              <p:cond delay="1500"/>
                            </p:stCondLst>
                            <p:childTnLst>
                              <p:par>
                                <p:cTn id="52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3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4" dur="500" fill="hold"/>
                                        <p:tgtEl>
                                          <p:spTgt spid="4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2000"/>
                            </p:stCondLst>
                            <p:childTnLst>
                              <p:par>
                                <p:cTn id="52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8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9" dur="500" fill="hold"/>
                                        <p:tgtEl>
                                          <p:spTgt spid="4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0" fill="hold">
                            <p:stCondLst>
                              <p:cond delay="2500"/>
                            </p:stCondLst>
                            <p:childTnLst>
                              <p:par>
                                <p:cTn id="53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3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4" dur="500" fill="hold"/>
                                        <p:tgtEl>
                                          <p:spTgt spid="4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"/>
          <p:cNvSpPr/>
          <p:nvPr/>
        </p:nvSpPr>
        <p:spPr>
          <a:xfrm>
            <a:off x="590400" y="133200"/>
            <a:ext cx="8801280" cy="8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нципиальная схема преобразований основных движущих сил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я общества на базе научных исследований и инноватик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"/>
          <p:cNvSpPr/>
          <p:nvPr/>
        </p:nvSpPr>
        <p:spPr>
          <a:xfrm>
            <a:off x="5365800" y="5715000"/>
            <a:ext cx="3149640" cy="455760"/>
          </a:xfrm>
          <a:prstGeom prst="rect">
            <a:avLst/>
          </a:prstGeom>
          <a:solidFill>
            <a:srgbClr val="ddddd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методическое обеспечение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и преобразован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"/>
          <p:cNvSpPr/>
          <p:nvPr/>
        </p:nvSpPr>
        <p:spPr>
          <a:xfrm>
            <a:off x="5005440" y="5697360"/>
            <a:ext cx="379440" cy="455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"/>
          <p:cNvSpPr/>
          <p:nvPr/>
        </p:nvSpPr>
        <p:spPr>
          <a:xfrm>
            <a:off x="2001960" y="5705640"/>
            <a:ext cx="2992320" cy="455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"/>
          <p:cNvSpPr/>
          <p:nvPr/>
        </p:nvSpPr>
        <p:spPr>
          <a:xfrm>
            <a:off x="4952880" y="5334120"/>
            <a:ext cx="379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"/>
          <p:cNvSpPr/>
          <p:nvPr/>
        </p:nvSpPr>
        <p:spPr>
          <a:xfrm>
            <a:off x="4114800" y="5222880"/>
            <a:ext cx="8175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"/>
          <p:cNvSpPr/>
          <p:nvPr/>
        </p:nvSpPr>
        <p:spPr>
          <a:xfrm>
            <a:off x="3421080" y="5222880"/>
            <a:ext cx="725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"/>
          <p:cNvSpPr/>
          <p:nvPr/>
        </p:nvSpPr>
        <p:spPr>
          <a:xfrm>
            <a:off x="2739960" y="5213520"/>
            <a:ext cx="722520" cy="60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"/>
          <p:cNvSpPr/>
          <p:nvPr/>
        </p:nvSpPr>
        <p:spPr>
          <a:xfrm>
            <a:off x="1981080" y="5219640"/>
            <a:ext cx="7272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"/>
          <p:cNvSpPr/>
          <p:nvPr/>
        </p:nvSpPr>
        <p:spPr>
          <a:xfrm>
            <a:off x="7346880" y="5105520"/>
            <a:ext cx="116676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861160" y="5105520"/>
            <a:ext cx="1216080" cy="47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ingdings"/>
                <a:ea typeface="Wingdings"/>
              </a:rPr>
              <a:t>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4994280" y="4987800"/>
            <a:ext cx="379440" cy="32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"/>
          <p:cNvSpPr/>
          <p:nvPr/>
        </p:nvSpPr>
        <p:spPr>
          <a:xfrm>
            <a:off x="2001960" y="4987800"/>
            <a:ext cx="2992320" cy="320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текущем состояни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"/>
          <p:cNvSpPr/>
          <p:nvPr/>
        </p:nvSpPr>
        <p:spPr>
          <a:xfrm>
            <a:off x="1279440" y="4987800"/>
            <a:ext cx="722520" cy="138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"/>
          <p:cNvSpPr/>
          <p:nvPr/>
        </p:nvSpPr>
        <p:spPr>
          <a:xfrm>
            <a:off x="5373720" y="4379760"/>
            <a:ext cx="447480" cy="608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⑳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"/>
          <p:cNvSpPr/>
          <p:nvPr/>
        </p:nvSpPr>
        <p:spPr>
          <a:xfrm>
            <a:off x="4994280" y="4379760"/>
            <a:ext cx="379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4176720" y="4379760"/>
            <a:ext cx="81756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⑯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400" spc="-1" strike="noStrike">
                <a:solidFill>
                  <a:srgbClr val="00cc99"/>
                </a:solidFill>
                <a:latin typeface="Times New Roman"/>
                <a:ea typeface="Arial Unicode MS"/>
              </a:rPr>
              <a:t>☮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"/>
          <p:cNvSpPr/>
          <p:nvPr/>
        </p:nvSpPr>
        <p:spPr>
          <a:xfrm>
            <a:off x="3451320" y="4379760"/>
            <a:ext cx="72540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⑮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"/>
          <p:cNvSpPr/>
          <p:nvPr/>
        </p:nvSpPr>
        <p:spPr>
          <a:xfrm>
            <a:off x="2728800" y="4379760"/>
            <a:ext cx="72252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⑭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"/>
          <p:cNvSpPr/>
          <p:nvPr/>
        </p:nvSpPr>
        <p:spPr>
          <a:xfrm>
            <a:off x="2001960" y="4379760"/>
            <a:ext cx="7268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⑬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"/>
          <p:cNvSpPr/>
          <p:nvPr/>
        </p:nvSpPr>
        <p:spPr>
          <a:xfrm>
            <a:off x="1279440" y="4379760"/>
            <a:ext cx="722520" cy="608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И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"/>
          <p:cNvSpPr/>
          <p:nvPr/>
        </p:nvSpPr>
        <p:spPr>
          <a:xfrm>
            <a:off x="5373720" y="3735360"/>
            <a:ext cx="447480" cy="64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⑲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4994280" y="3735360"/>
            <a:ext cx="379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176720" y="3735360"/>
            <a:ext cx="817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⑫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451320" y="3735360"/>
            <a:ext cx="725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⑪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ru-RU" sz="12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2" name=""/>
          <p:cNvSpPr/>
          <p:nvPr/>
        </p:nvSpPr>
        <p:spPr>
          <a:xfrm>
            <a:off x="2728800" y="3735360"/>
            <a:ext cx="7225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⑩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"/>
          <p:cNvSpPr/>
          <p:nvPr/>
        </p:nvSpPr>
        <p:spPr>
          <a:xfrm>
            <a:off x="2001960" y="3735360"/>
            <a:ext cx="726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⑨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"/>
          <p:cNvSpPr/>
          <p:nvPr/>
        </p:nvSpPr>
        <p:spPr>
          <a:xfrm>
            <a:off x="1279440" y="3735360"/>
            <a:ext cx="722520" cy="64440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Ц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"/>
          <p:cNvSpPr/>
          <p:nvPr/>
        </p:nvSpPr>
        <p:spPr>
          <a:xfrm>
            <a:off x="5373720" y="3090960"/>
            <a:ext cx="447480" cy="644400"/>
          </a:xfrm>
          <a:prstGeom prst="rect">
            <a:avLst/>
          </a:prstGeom>
          <a:solidFill>
            <a:srgbClr val="00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⑱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"/>
          <p:cNvSpPr/>
          <p:nvPr/>
        </p:nvSpPr>
        <p:spPr>
          <a:xfrm>
            <a:off x="4994280" y="3090960"/>
            <a:ext cx="3794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176720" y="3090960"/>
            <a:ext cx="8175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⑧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ru-RU" sz="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"/>
          <p:cNvSpPr/>
          <p:nvPr/>
        </p:nvSpPr>
        <p:spPr>
          <a:xfrm>
            <a:off x="3451320" y="3090960"/>
            <a:ext cx="72540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⑦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"/>
          <p:cNvSpPr/>
          <p:nvPr/>
        </p:nvSpPr>
        <p:spPr>
          <a:xfrm>
            <a:off x="2728800" y="3090960"/>
            <a:ext cx="72252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⑥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ru-RU" sz="12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"/>
          <p:cNvSpPr/>
          <p:nvPr/>
        </p:nvSpPr>
        <p:spPr>
          <a:xfrm>
            <a:off x="2001960" y="3090960"/>
            <a:ext cx="72684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⑤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"/>
          <p:cNvSpPr/>
          <p:nvPr/>
        </p:nvSpPr>
        <p:spPr>
          <a:xfrm>
            <a:off x="1279440" y="3090960"/>
            <a:ext cx="722520" cy="64440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 rot="10800000">
            <a:off x="7367760" y="2446200"/>
            <a:ext cx="1155600" cy="254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риентиры и требования перехода к экоустойчивому развитию — основания для перспективной научно-технической политики и инноватики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>
            <a:off x="7037280" y="2446200"/>
            <a:ext cx="330480" cy="254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Webdings"/>
                <a:ea typeface="Webdings"/>
              </a:rPr>
              <a:t>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 rot="10800000">
            <a:off x="5821200" y="2446200"/>
            <a:ext cx="1216080" cy="2541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работка и реализация корректирующих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й на движущие силы общественного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, ориентированного на экоустойчивость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5373720" y="2438280"/>
            <a:ext cx="447480" cy="644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⑰</a:t>
            </a:r>
            <a:r>
              <a:rPr b="0" lang="en-US" sz="10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4994280" y="2446200"/>
            <a:ext cx="3794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Webdings"/>
                <a:ea typeface="Webdings"/>
              </a:rPr>
              <a:t>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4176720" y="2446200"/>
            <a:ext cx="81756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④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3451320" y="2446200"/>
            <a:ext cx="72540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③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2728800" y="2446200"/>
            <a:ext cx="72252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②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+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2001960" y="2446200"/>
            <a:ext cx="726840" cy="6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+</a:t>
            </a:r>
            <a:r>
              <a:rPr b="1" lang="ru-RU" sz="1200" spc="-1" strike="noStrike">
                <a:solidFill>
                  <a:srgbClr val="ff3300"/>
                </a:solidFill>
                <a:latin typeface="Arial Unicode MS"/>
                <a:ea typeface="Arial Unicode MS"/>
              </a:rPr>
              <a:t>↺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1279440" y="2446200"/>
            <a:ext cx="722520" cy="64476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"/>
          <p:cNvSpPr/>
          <p:nvPr/>
        </p:nvSpPr>
        <p:spPr>
          <a:xfrm>
            <a:off x="5410080" y="1828800"/>
            <a:ext cx="3149640" cy="6080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 преобразований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"/>
          <p:cNvSpPr/>
          <p:nvPr/>
        </p:nvSpPr>
        <p:spPr>
          <a:xfrm>
            <a:off x="4994280" y="1838160"/>
            <a:ext cx="379440" cy="608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"/>
          <p:cNvSpPr/>
          <p:nvPr/>
        </p:nvSpPr>
        <p:spPr>
          <a:xfrm>
            <a:off x="4176720" y="1838160"/>
            <a:ext cx="817560" cy="6080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"/>
          <p:cNvSpPr/>
          <p:nvPr/>
        </p:nvSpPr>
        <p:spPr>
          <a:xfrm>
            <a:off x="3451320" y="1838160"/>
            <a:ext cx="725400" cy="608040"/>
          </a:xfrm>
          <a:prstGeom prst="rect">
            <a:avLst/>
          </a:prstGeom>
          <a:solidFill>
            <a:srgbClr val="ff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Ц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6" name=""/>
          <p:cNvSpPr/>
          <p:nvPr/>
        </p:nvSpPr>
        <p:spPr>
          <a:xfrm>
            <a:off x="2728800" y="1838160"/>
            <a:ext cx="722520" cy="608040"/>
          </a:xfrm>
          <a:prstGeom prst="rect">
            <a:avLst/>
          </a:prstGeom>
          <a:solidFill>
            <a:srgbClr val="33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↓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"/>
          <p:cNvSpPr/>
          <p:nvPr/>
        </p:nvSpPr>
        <p:spPr>
          <a:xfrm>
            <a:off x="2001960" y="1838160"/>
            <a:ext cx="726840" cy="60804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 fontScale="99000"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П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↓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2001960" y="1200240"/>
            <a:ext cx="2992320" cy="6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Характер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лияний одних действующих сил на друг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 rot="10800000">
            <a:off x="1279080" y="1199880"/>
            <a:ext cx="722520" cy="12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 vert="eaVert">
            <a:normAutofit/>
          </a:bodyPr>
          <a:p>
            <a:pPr algn="ct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вижущие сил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279440" y="2446200"/>
            <a:ext cx="371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1279440" y="3090960"/>
            <a:ext cx="371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1279440" y="3735360"/>
            <a:ext cx="371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1279440" y="4379760"/>
            <a:ext cx="371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1279440" y="4987800"/>
            <a:ext cx="37148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1279440" y="6372360"/>
            <a:ext cx="7225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2001960" y="1200240"/>
            <a:ext cx="0" cy="41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4994280" y="1200240"/>
            <a:ext cx="0" cy="4108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8523360" y="1200240"/>
            <a:ext cx="0" cy="6379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1279440" y="1200240"/>
            <a:ext cx="3714840" cy="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4994280" y="120024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2001960" y="1838160"/>
            <a:ext cx="29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2728800" y="1838160"/>
            <a:ext cx="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3451320" y="1838160"/>
            <a:ext cx="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4176720" y="1838160"/>
            <a:ext cx="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2001960" y="5308560"/>
            <a:ext cx="2992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21200" y="2446200"/>
            <a:ext cx="0" cy="2541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5373720" y="1838160"/>
            <a:ext cx="0" cy="3149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373720" y="183816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373720" y="244620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373720" y="309096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373720" y="373536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373720" y="4379760"/>
            <a:ext cx="4474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373720" y="4987800"/>
            <a:ext cx="314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4994280" y="6372360"/>
            <a:ext cx="37944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8523360" y="4987800"/>
            <a:ext cx="0" cy="9288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8523360" y="1838160"/>
            <a:ext cx="0" cy="3149640"/>
          </a:xfrm>
          <a:prstGeom prst="line">
            <a:avLst/>
          </a:prstGeom>
          <a:ln cap="sq"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1279440" y="4987800"/>
            <a:ext cx="0" cy="13845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1279440" y="1200240"/>
            <a:ext cx="0" cy="3787560"/>
          </a:xfrm>
          <a:prstGeom prst="line">
            <a:avLst/>
          </a:prstGeom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 flipH="1">
            <a:off x="1661760" y="5905440"/>
            <a:ext cx="330120" cy="972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 flipV="1">
            <a:off x="1650960" y="5162040"/>
            <a:ext cx="0" cy="7527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1671480" y="5133960"/>
            <a:ext cx="330480" cy="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2022480" y="5695920"/>
            <a:ext cx="2978280" cy="428760"/>
          </a:xfrm>
          <a:prstGeom prst="rect">
            <a:avLst/>
          </a:prstGeom>
          <a:solidFill>
            <a:srgbClr val="dddddd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ая рефлексия, аналитика,</a:t>
            </a:r>
            <a:r>
              <a:rPr b="0" lang="en-US" sz="11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нозы, предплановые проектировк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4210200" y="5334120"/>
            <a:ext cx="99036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1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2" dur="500" fill="hold"/>
                                        <p:tgtEl>
                                          <p:spTgt spid="4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3" fill="hold">
                            <p:stCondLst>
                              <p:cond delay="500"/>
                            </p:stCondLst>
                            <p:childTnLst>
                              <p:par>
                                <p:cTn id="5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6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7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1000"/>
                            </p:stCondLst>
                            <p:childTnLst>
                              <p:par>
                                <p:cTn id="5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1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2" dur="500" fill="hold"/>
                                        <p:tgtEl>
                                          <p:spTgt spid="4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1500"/>
                            </p:stCondLst>
                            <p:childTnLst>
                              <p:par>
                                <p:cTn id="5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6" fill="hold">
                            <p:stCondLst>
                              <p:cond delay="2000"/>
                            </p:stCondLst>
                            <p:childTnLst>
                              <p:par>
                                <p:cTn id="5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9" fill="hold">
                            <p:stCondLst>
                              <p:cond delay="2500"/>
                            </p:stCondLst>
                            <p:childTnLst>
                              <p:par>
                                <p:cTn id="5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2" fill="hold">
                            <p:stCondLst>
                              <p:cond delay="3000"/>
                            </p:stCondLst>
                            <p:childTnLst>
                              <p:par>
                                <p:cTn id="5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3500"/>
                            </p:stCondLst>
                            <p:childTnLst>
                              <p:par>
                                <p:cTn id="5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8" fill="hold">
                            <p:stCondLst>
                              <p:cond delay="4000"/>
                            </p:stCondLst>
                            <p:childTnLst>
                              <p:par>
                                <p:cTn id="56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1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2" dur="50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4500"/>
                            </p:stCondLst>
                            <p:childTnLst>
                              <p:par>
                                <p:cTn id="5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6" fill="hold">
                            <p:stCondLst>
                              <p:cond delay="5000"/>
                            </p:stCondLst>
                            <p:childTnLst>
                              <p:par>
                                <p:cTn id="57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5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6000"/>
                            </p:stCondLst>
                            <p:childTnLst>
                              <p:par>
                                <p:cTn id="58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500" fill="hold"/>
                                        <p:tgtEl>
                                          <p:spTgt spid="5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6500"/>
                            </p:stCondLst>
                            <p:childTnLst>
                              <p:par>
                                <p:cTn id="59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2" fill="hold">
                            <p:stCondLst>
                              <p:cond delay="7000"/>
                            </p:stCondLst>
                            <p:childTnLst>
                              <p:par>
                                <p:cTn id="59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5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6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7" fill="hold">
                            <p:stCondLst>
                              <p:cond delay="7500"/>
                            </p:stCondLst>
                            <p:childTnLst>
                              <p:par>
                                <p:cTn id="5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8000"/>
                            </p:stCondLst>
                            <p:childTnLst>
                              <p:par>
                                <p:cTn id="60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8500"/>
                            </p:stCondLst>
                            <p:childTnLst>
                              <p:par>
                                <p:cTn id="60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6" fill="hold">
                            <p:stCondLst>
                              <p:cond delay="9000"/>
                            </p:stCondLst>
                            <p:childTnLst>
                              <p:par>
                                <p:cTn id="6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9" fill="hold">
                            <p:stCondLst>
                              <p:cond delay="9500"/>
                            </p:stCondLst>
                            <p:childTnLst>
                              <p:par>
                                <p:cTn id="6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2" fill="hold">
                            <p:stCondLst>
                              <p:cond delay="10000"/>
                            </p:stCondLst>
                            <p:childTnLst>
                              <p:par>
                                <p:cTn id="61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10500"/>
                            </p:stCondLst>
                            <p:childTnLst>
                              <p:par>
                                <p:cTn id="6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8" fill="hold">
                            <p:stCondLst>
                              <p:cond delay="11000"/>
                            </p:stCondLst>
                            <p:childTnLst>
                              <p:par>
                                <p:cTn id="61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1" fill="hold">
                            <p:stCondLst>
                              <p:cond delay="11500"/>
                            </p:stCondLst>
                            <p:childTnLst>
                              <p:par>
                                <p:cTn id="62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"/>
          <p:cNvSpPr/>
          <p:nvPr/>
        </p:nvSpPr>
        <p:spPr>
          <a:xfrm>
            <a:off x="237960" y="247680"/>
            <a:ext cx="9429840" cy="661824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Приведенная с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хема отражает необходимость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ознания и глубокого изучения глобального экологического кризиса человечества, существенных преобразований основных движущих сил общественного развития и механизмов их взаимодействий с целью достижения эколого-экономической устойчивости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ля этого необходимо проводить:</a:t>
            </a:r>
            <a:r>
              <a:rPr b="1" lang="en-US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непрерывн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ый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ониторинг развития глобальной природно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-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ци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альной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истемы, её континентальных, национальных, региональных и городских подсистем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стемны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сследовани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тенденций развития движущих сил общества и их взаимодействий, упорядоч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ения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овы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фундаментальны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 прикладны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х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знани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й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созда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ния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 их основе научно-методическо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го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обеспечени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оцессов перехода к экоустойчивому развитию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больших и малых сообществ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●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азработки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олгосрочн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ых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стратегий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реобразования общественных сил по критериям экоустойчивости,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реализуемых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через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збирательн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ю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учно-техническ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ю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 инновационн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ю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политик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у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оздания экофильных технологий массового производства и потребления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5146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4" dur="indefinite" restart="never" nodeType="tmRoot">
          <p:childTnLst>
            <p:seq>
              <p:cTn id="625" dur="indefinite" nodeType="mainSeq">
                <p:childTnLst>
                  <p:par>
                    <p:cTn id="626" fill="hold">
                      <p:stCondLst>
                        <p:cond delay="0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0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1" dur="500" fill="hold"/>
                                        <p:tgtEl>
                                          <p:spTgt spid="5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2" fill="hold">
                            <p:stCondLst>
                              <p:cond delay="500"/>
                            </p:stCondLst>
                            <p:childTnLst>
                              <p:par>
                                <p:cTn id="63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5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6" dur="500" fill="hold"/>
                                        <p:tgtEl>
                                          <p:spTgt spid="5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1000"/>
                            </p:stCondLst>
                            <p:childTnLst>
                              <p:par>
                                <p:cTn id="6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0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1" dur="500" fill="hold"/>
                                        <p:tgtEl>
                                          <p:spTgt spid="5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2" fill="hold">
                            <p:stCondLst>
                              <p:cond delay="1500"/>
                            </p:stCondLst>
                            <p:childTnLst>
                              <p:par>
                                <p:cTn id="64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55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7" fill="hold">
                            <p:stCondLst>
                              <p:cond delay="2000"/>
                            </p:stCondLst>
                            <p:childTnLst>
                              <p:par>
                                <p:cTn id="64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0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1" dur="500" fill="hold"/>
                                        <p:tgtEl>
                                          <p:spTgt spid="55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"/>
          <p:cNvSpPr/>
          <p:nvPr/>
        </p:nvSpPr>
        <p:spPr>
          <a:xfrm>
            <a:off x="289080" y="1049400"/>
            <a:ext cx="9327960" cy="23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цептуальная модель взаимодействи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ных движущих сил общественного развит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 требований их преобразовани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ри переходе к экоустойчивому развитию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800000"/>
                </a:solidFill>
                <a:latin typeface="Times New Roman"/>
              </a:rPr>
              <a:t>(показать на кодоскопе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"/>
          <p:cNvSpPr/>
          <p:nvPr/>
        </p:nvSpPr>
        <p:spPr>
          <a:xfrm>
            <a:off x="609480" y="666720"/>
            <a:ext cx="8724960" cy="51832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ые требования перехода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В социальной сфере: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ционализировать индивидуальные и социальные потребност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низить сверхпотребление богатых и недопотребление бедных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илить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ндивидуальные и социальные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требност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 в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хранен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среды обитания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здать экоэтику и новую культуру потребления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9080" y="0"/>
            <a:ext cx="9887040" cy="677700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лючевые слова:</a:t>
            </a:r>
            <a:r>
              <a:rPr b="0" lang="ru-RU" sz="12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азвити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е, экосистема Земли, общество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ще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е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благ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о,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выживание, георесурсы, биоресурсы, интеллектуальные ресурсы, социальные потребности, экономика, экономическая целесообразность, ресурсопоток, истощение ресурсов, замена ресурсов, технологические возможности, детериорация природной среды, опасность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риск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экологические императивы, экологическая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безопасность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средства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еспечения безопасности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парадигма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экоустойчиво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го развития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ереход к экоустойчивому развити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ю, 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атеги</a:t>
            </a:r>
            <a:r>
              <a:rPr b="1" lang="ru-RU" sz="2200" spc="-1" strike="noStrike">
                <a:solidFill>
                  <a:srgbClr val="800000"/>
                </a:solidFill>
                <a:latin typeface="Times New Roman"/>
              </a:rPr>
              <a:t>ческие ориентиры, выбор стратегий, содержание деятельности, ответственность 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методология, с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темн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ое видение,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основани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е,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темн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ое описание,</a:t>
            </a:r>
            <a:r>
              <a:rPr b="0" lang="ru-RU" sz="22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с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стемн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ый анализ,  оценки ситуаций, проблема, стратегическое управление, политика преобразований, альтернативы, критерии, выбо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аук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а,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знание, п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именения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 знаний,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неполнота знани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й,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незнание,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новатик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а,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иннова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ции, оценки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ннова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ций, ориентация исследований,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новые области исследований, междисциплинарное исследование, техника, экофобные технологии, 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дернизация</a:t>
            </a:r>
            <a:r>
              <a:rPr b="1" lang="ru-RU" sz="2200" spc="-1" strike="noStrike">
                <a:solidFill>
                  <a:srgbClr val="3333cc"/>
                </a:solidFill>
                <a:latin typeface="Times New Roman"/>
              </a:rPr>
              <a:t>, экофильные технологии, новое технологическое развитие, научно-техническая политика</a:t>
            </a:r>
            <a:r>
              <a:rPr b="0" lang="ru-RU" sz="1200" spc="-1" strike="noStrike">
                <a:solidFill>
                  <a:srgbClr val="3333cc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fill="hold">
                      <p:stCondLst>
                        <p:cond delay="0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50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1000"/>
                            </p:stCondLst>
                            <p:childTnLst>
                              <p:par>
                                <p:cTn id="5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1500"/>
                            </p:stCondLst>
                            <p:childTnLst>
                              <p:par>
                                <p:cTn id="6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5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000"/>
                            </p:stCondLst>
                            <p:childTnLst>
                              <p:par>
                                <p:cTn id="6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5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"/>
          <p:cNvSpPr/>
          <p:nvPr/>
        </p:nvSpPr>
        <p:spPr>
          <a:xfrm>
            <a:off x="380880" y="380880"/>
            <a:ext cx="9220320" cy="59756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ые требования перехода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⑱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В технологической сфере: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ширить технологические возможности использования возобновимых природных ресурсов, глубокой переработки и рециклинга, снижения загрязнений и нарушений природной сред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оздавать эффективные методы и средства контроля и предотвращения техногенных и экологических катастроф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асширить практику ренатурализации экосистем и биосферы в цело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"/>
          <p:cNvSpPr/>
          <p:nvPr/>
        </p:nvSpPr>
        <p:spPr>
          <a:xfrm>
            <a:off x="123840" y="652320"/>
            <a:ext cx="9658440" cy="5549040"/>
          </a:xfrm>
          <a:prstGeom prst="rect">
            <a:avLst/>
          </a:prstGeom>
          <a:solidFill>
            <a:srgbClr val="00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ые требования перехода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⑲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В сфере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экономического поведения: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модернизировать критерии и методики оценк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номической целесообразност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с системных позиций с учётом сохранения общего природного достояния современного и будущих поколений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 расчетах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номической целесообразност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хозяйственных проектов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читывать оценки запасов и стоимости исчерпаемых ресурсов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обосновывать размеры рентной платы стран и регионов за пользование природными ресурсам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"/>
          <p:cNvSpPr/>
          <p:nvPr/>
        </p:nvSpPr>
        <p:spPr>
          <a:xfrm>
            <a:off x="171360" y="358920"/>
            <a:ext cx="9601200" cy="60973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Основные требования перехода</a:t>
            </a:r>
            <a:r>
              <a:rPr b="1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к экоустойчивому развитию</a:t>
            </a:r>
            <a:r>
              <a:rPr b="0" lang="ru-RU" sz="2800" spc="-1" strike="noStrike">
                <a:solidFill>
                  <a:srgbClr val="9933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⑳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В сфере</a:t>
            </a:r>
            <a:r>
              <a:rPr b="0" lang="ru-RU" sz="2400" spc="-1" strike="noStrike">
                <a:solidFill>
                  <a:srgbClr val="993300"/>
                </a:solidFill>
                <a:latin typeface="Times New Roman"/>
              </a:rPr>
              <a:t> </a:t>
            </a:r>
            <a:r>
              <a:rPr b="1" lang="ru-RU" sz="2600" spc="-1" strike="noStrike">
                <a:solidFill>
                  <a:srgbClr val="993300"/>
                </a:solidFill>
                <a:latin typeface="Times New Roman"/>
              </a:rPr>
              <a:t>природопользования и охраны природы: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точнять и систематизировать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экологические императивы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на базе новых научных знаний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устанавливать квоты потребления ресурсов, пределы возможных нарушений и самовосстановления экосистем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реализовывать программы экопозит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вных преобразований хозяйственных систем, прекращать использование экофобных технологий, внедрять экофильные технологи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оводить экореконструкцию поселений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;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Symbol"/>
                <a:ea typeface="Symbol"/>
              </a:rPr>
              <a:t>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 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рививать новую культуру природопользования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и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потребления 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пр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и</a:t>
            </a: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родных ресурс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"/>
          <p:cNvSpPr/>
          <p:nvPr/>
        </p:nvSpPr>
        <p:spPr>
          <a:xfrm>
            <a:off x="57240" y="228600"/>
            <a:ext cx="9771120" cy="419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общённое представление концепции экоустойчивого развити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06280" y="5238720"/>
            <a:ext cx="2906640" cy="660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дания экофильных технологий и замещения ими экофобных технологий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-1650960" y="5816520"/>
            <a:ext cx="9906120" cy="6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2425680" y="2082960"/>
            <a:ext cx="5222880" cy="3314520"/>
          </a:xfrm>
          <a:prstGeom prst="ellipse">
            <a:avLst/>
          </a:prstGeom>
          <a:solidFill>
            <a:srgbClr val="ddddd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3436920" y="4724280"/>
            <a:ext cx="3235320" cy="1627200"/>
          </a:xfrm>
          <a:prstGeom prst="ellipse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логические цели 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1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умное</a:t>
            </a:r>
            <a:r>
              <a:rPr b="0" lang="uk-UA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родопьзова-ние, обеспечивающее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биоразнообраз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восстановления экосистем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аморазвития биосферы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3354480" y="1295280"/>
            <a:ext cx="3255840" cy="15796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циальные це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ддержание высокого качества жизни, искоренение бедност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участия граждан в управлении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хранение культуры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4145040" y="3343320"/>
            <a:ext cx="1638360" cy="7239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устойчивое развитие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базе знаний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871560" y="2882880"/>
            <a:ext cx="3095640" cy="1600200"/>
          </a:xfrm>
          <a:prstGeom prst="ellipse">
            <a:avLst/>
          </a:prstGeom>
          <a:solidFill>
            <a:srgbClr val="3366ff"/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ли технологического развития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научного базис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я ресурсов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ижение детериорации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системы Земли </a:t>
            </a: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943600" y="2886120"/>
            <a:ext cx="3201840" cy="16002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кономические цел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новление и повышение эффективности хозяйствования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т, не превышающий прирост природного капитала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Symbol"/>
                <a:ea typeface="Symbol"/>
              </a:rPr>
              <a:t>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</a:rPr>
              <a:t>д</a:t>
            </a:r>
            <a:r>
              <a:rPr b="0" lang="en-US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стижение стабильности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6999120" y="1746360"/>
            <a:ext cx="2907000" cy="63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более равномерного распределения доходов и благ между поколениями и внутри покол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 flipH="1">
            <a:off x="6456240" y="2333520"/>
            <a:ext cx="897120" cy="476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7008840" y="5222880"/>
            <a:ext cx="2895480" cy="517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подчинения экономических целей экологическим императивам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0" y="1708200"/>
            <a:ext cx="2847960" cy="628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 создания человекоразмерной техники и социально ориентированных технолог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2689200" y="2284560"/>
            <a:ext cx="892080" cy="57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 flipV="1">
            <a:off x="2519280" y="4622400"/>
            <a:ext cx="857160" cy="528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 flipH="1" flipV="1">
            <a:off x="6555960" y="4670280"/>
            <a:ext cx="934920" cy="540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2" dur="indefinite" restart="never" nodeType="tmRoot">
          <p:childTnLst>
            <p:seq>
              <p:cTn id="653" dur="indefinite" nodeType="mainSeq">
                <p:childTnLst>
                  <p:par>
                    <p:cTn id="654" fill="hold">
                      <p:stCondLst>
                        <p:cond delay="0"/>
                      </p:stCondLst>
                      <p:childTnLst>
                        <p:par>
                          <p:cTn id="655" fill="hold">
                            <p:stCondLst>
                              <p:cond delay="0"/>
                            </p:stCondLst>
                            <p:childTnLst>
                              <p:par>
                                <p:cTn id="65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8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9" dur="500" fill="hold"/>
                                        <p:tgtEl>
                                          <p:spTgt spid="5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500"/>
                            </p:stCondLst>
                            <p:childTnLst>
                              <p:par>
                                <p:cTn id="6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3" fill="hold">
                            <p:stCondLst>
                              <p:cond delay="1000"/>
                            </p:stCondLst>
                            <p:childTnLst>
                              <p:par>
                                <p:cTn id="66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6" fill="hold">
                            <p:stCondLst>
                              <p:cond delay="1500"/>
                            </p:stCondLst>
                            <p:childTnLst>
                              <p:par>
                                <p:cTn id="66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9" fill="hold">
                            <p:stCondLst>
                              <p:cond delay="2000"/>
                            </p:stCondLst>
                            <p:childTnLst>
                              <p:par>
                                <p:cTn id="67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2500"/>
                            </p:stCondLst>
                            <p:childTnLst>
                              <p:par>
                                <p:cTn id="67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3000"/>
                            </p:stCondLst>
                            <p:childTnLst>
                              <p:par>
                                <p:cTn id="6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8" fill="hold">
                            <p:stCondLst>
                              <p:cond delay="3500"/>
                            </p:stCondLst>
                            <p:childTnLst>
                              <p:par>
                                <p:cTn id="6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1" fill="hold">
                            <p:stCondLst>
                              <p:cond delay="4000"/>
                            </p:stCondLst>
                            <p:childTnLst>
                              <p:par>
                                <p:cTn id="68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4" fill="hold">
                            <p:stCondLst>
                              <p:cond delay="4500"/>
                            </p:stCondLst>
                            <p:childTnLst>
                              <p:par>
                                <p:cTn id="68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0"/>
                            </p:stCondLst>
                            <p:childTnLst>
                              <p:par>
                                <p:cTn id="68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5500"/>
                            </p:stCondLst>
                            <p:childTnLst>
                              <p:par>
                                <p:cTn id="6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3" fill="hold">
                            <p:stCondLst>
                              <p:cond delay="6000"/>
                            </p:stCondLst>
                            <p:childTnLst>
                              <p:par>
                                <p:cTn id="6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6" fill="hold">
                            <p:stCondLst>
                              <p:cond delay="6500"/>
                            </p:stCondLst>
                            <p:childTnLst>
                              <p:par>
                                <p:cTn id="69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9" fill="hold">
                            <p:stCondLst>
                              <p:cond delay="7000"/>
                            </p:stCondLst>
                            <p:childTnLst>
                              <p:par>
                                <p:cTn id="7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2" fill="hold">
                            <p:stCondLst>
                              <p:cond delay="7500"/>
                            </p:stCondLst>
                            <p:childTnLst>
                              <p:par>
                                <p:cTn id="7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8000"/>
                            </p:stCondLst>
                            <p:childTnLst>
                              <p:par>
                                <p:cTn id="70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8500"/>
                            </p:stCondLst>
                            <p:childTnLst>
                              <p:par>
                                <p:cTn id="70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9000"/>
                            </p:stCondLst>
                            <p:childTnLst>
                              <p:par>
                                <p:cTn id="7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4" fill="hold">
                            <p:stCondLst>
                              <p:cond delay="9500"/>
                            </p:stCondLst>
                            <p:childTnLst>
                              <p:par>
                                <p:cTn id="7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7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1000"/>
                            </p:stCondLst>
                            <p:childTnLst>
                              <p:par>
                                <p:cTn id="7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26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7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8" fill="hold">
                            <p:stCondLst>
                              <p:cond delay="11500"/>
                            </p:stCondLst>
                            <p:childTnLst>
                              <p:par>
                                <p:cTn id="7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1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2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3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1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2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3" fill="hold">
                            <p:stCondLst>
                              <p:cond delay="13000"/>
                            </p:stCondLst>
                            <p:childTnLst>
                              <p:par>
                                <p:cTn id="74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6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7" dur="500" fill="hold"/>
                                        <p:tgtEl>
                                          <p:spTgt spid="5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3500"/>
                            </p:stCondLst>
                            <p:childTnLst>
                              <p:par>
                                <p:cTn id="7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1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2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3" fill="hold">
                            <p:stCondLst>
                              <p:cond delay="14000"/>
                            </p:stCondLst>
                            <p:childTnLst>
                              <p:par>
                                <p:cTn id="75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8" fill="hold">
                            <p:stCondLst>
                              <p:cond delay="14500"/>
                            </p:stCondLst>
                            <p:childTnLst>
                              <p:par>
                                <p:cTn id="75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1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2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"/>
          <p:cNvSpPr/>
          <p:nvPr/>
        </p:nvSpPr>
        <p:spPr>
          <a:xfrm>
            <a:off x="533520" y="533520"/>
            <a:ext cx="883908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Исходное структурное представление 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</a:rPr>
              <a:t>о политик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2025720" y="2727360"/>
            <a:ext cx="919080" cy="1306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4224240" y="2727360"/>
            <a:ext cx="1549440" cy="12794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полити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его возможности (интеллектуальные, организационные, адаптивные и проч.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500800" y="1787400"/>
            <a:ext cx="2377800" cy="457200"/>
          </a:xfrm>
          <a:prstGeom prst="rect">
            <a:avLst/>
          </a:prstGeom>
          <a:solidFill>
            <a:srgbClr val="cc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и социальная миссия полити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во имя чего осуществляется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4768920" y="4613400"/>
            <a:ext cx="3108240" cy="457200"/>
          </a:xfrm>
          <a:prstGeom prst="rect">
            <a:avLst/>
          </a:prstGeom>
          <a:solidFill>
            <a:srgbClr val="ffcccc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, в которых формируется и осуществляется политика и  действует её субъек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6780240" y="2252520"/>
            <a:ext cx="0" cy="457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 flipV="1">
            <a:off x="6780240" y="4047840"/>
            <a:ext cx="0" cy="547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6964200" y="3195720"/>
            <a:ext cx="0" cy="3664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 flipV="1">
            <a:off x="6597720" y="3195720"/>
            <a:ext cx="0" cy="36648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3036960" y="2844720"/>
            <a:ext cx="1096920" cy="486000"/>
          </a:xfrm>
          <a:prstGeom prst="leftArrow">
            <a:avLst>
              <a:gd name="adj1" fmla="val 50000"/>
              <a:gd name="adj2" fmla="val 56426"/>
            </a:avLst>
          </a:prstGeom>
          <a:solidFill>
            <a:srgbClr val="99cc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3036960" y="3508200"/>
            <a:ext cx="1096920" cy="486000"/>
          </a:xfrm>
          <a:prstGeom prst="rightArrow">
            <a:avLst>
              <a:gd name="adj1" fmla="val 50000"/>
              <a:gd name="adj2" fmla="val 56426"/>
            </a:avLst>
          </a:prstGeom>
          <a:solidFill>
            <a:srgbClr val="cc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5043600" y="4047840"/>
            <a:ext cx="0" cy="547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00800" y="4048200"/>
            <a:ext cx="0" cy="54756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V="1">
            <a:off x="7694640" y="2252520"/>
            <a:ext cx="0" cy="22860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2208240" y="4705200"/>
            <a:ext cx="1554120" cy="365400"/>
          </a:xfrm>
          <a:prstGeom prst="rect">
            <a:avLst/>
          </a:prstGeom>
          <a:solidFill>
            <a:srgbClr val="00ff99"/>
          </a:solidFill>
          <a:ln w="32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я внешней сред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2940120" y="4048200"/>
            <a:ext cx="1828800" cy="639720"/>
          </a:xfrm>
          <a:prstGeom prst="line">
            <a:avLst/>
          </a:prstGeom>
          <a:ln w="3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3763800" y="4898880"/>
            <a:ext cx="10051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 flipV="1">
            <a:off x="3763800" y="4047840"/>
            <a:ext cx="457200" cy="639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 flipV="1">
            <a:off x="2482920" y="4138560"/>
            <a:ext cx="0" cy="549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683320" y="2727360"/>
            <a:ext cx="1736640" cy="457200"/>
          </a:xfrm>
          <a:prstGeom prst="leftArrowCallout">
            <a:avLst>
              <a:gd name="adj1" fmla="val 25002"/>
              <a:gd name="adj2" fmla="val 25000"/>
              <a:gd name="adj3" fmla="val 63307"/>
              <a:gd name="adj4" fmla="val 73252"/>
            </a:avLst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е ориентиры и ц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5683320" y="3573360"/>
            <a:ext cx="1736640" cy="457200"/>
          </a:xfrm>
          <a:prstGeom prst="leftArrowCallout">
            <a:avLst>
              <a:gd name="adj1" fmla="val 25002"/>
              <a:gd name="adj2" fmla="val 25000"/>
              <a:gd name="adj3" fmla="val 63307"/>
              <a:gd name="adj4" fmla="val 71058"/>
            </a:avLst>
          </a:prstGeom>
          <a:solidFill>
            <a:srgbClr val="33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23760" y="1192320"/>
            <a:ext cx="9906120" cy="429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23760" y="1192320"/>
            <a:ext cx="990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23760" y="1496880"/>
            <a:ext cx="990612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"/>
          <p:cNvSpPr/>
          <p:nvPr/>
        </p:nvSpPr>
        <p:spPr>
          <a:xfrm>
            <a:off x="1085760" y="133200"/>
            <a:ext cx="7772400" cy="381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Концептуальное представление политики,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снованной на научном подходе и инноватике</a:t>
            </a:r>
            <a:r>
              <a:rPr b="1" i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08680" y="4427640"/>
            <a:ext cx="6858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4537080" y="4395960"/>
            <a:ext cx="914400" cy="263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треб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3965400" y="3938760"/>
            <a:ext cx="640080" cy="2444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ценк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6099120" y="952560"/>
            <a:ext cx="3475080" cy="63972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мысл и социальная миссия политики —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переход к экоустойчивому развитию</a:t>
            </a:r>
            <a:r>
              <a:rPr b="0" lang="ru-RU" sz="1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22360" y="1501920"/>
            <a:ext cx="2286000" cy="402264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ЪЕКТЫ ПОЛИТИКИ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, которая продуцирует и упорядочивает новые знания, подготавливает их к практическому применению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ОННАЯ ДЕЯТЕЛЬНОСТЬ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торая на базе научных знаний и инженерного опыта создаёт и внедряет нововведения в производство, управление, обслуживание населения, природоохранную и другие виды 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цесс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укту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полнит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8019720" y="1508040"/>
            <a:ext cx="274680" cy="457200"/>
          </a:xfrm>
          <a:prstGeom prst="line">
            <a:avLst/>
          </a:prstGeom>
          <a:ln w="64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"/>
          <p:cNvSpPr/>
          <p:nvPr/>
        </p:nvSpPr>
        <p:spPr>
          <a:xfrm flipV="1">
            <a:off x="1711440" y="5524560"/>
            <a:ext cx="0" cy="3664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"/>
          <p:cNvSpPr/>
          <p:nvPr/>
        </p:nvSpPr>
        <p:spPr>
          <a:xfrm>
            <a:off x="2808360" y="6073920"/>
            <a:ext cx="182880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"/>
          <p:cNvSpPr/>
          <p:nvPr/>
        </p:nvSpPr>
        <p:spPr>
          <a:xfrm>
            <a:off x="2898720" y="1692360"/>
            <a:ext cx="1646280" cy="1004760"/>
          </a:xfrm>
          <a:prstGeom prst="leftArrow">
            <a:avLst>
              <a:gd name="adj1" fmla="val 51731"/>
              <a:gd name="adj2" fmla="val 40962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ХОД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"/>
          <p:cNvSpPr/>
          <p:nvPr/>
        </p:nvSpPr>
        <p:spPr>
          <a:xfrm>
            <a:off x="4637160" y="2239920"/>
            <a:ext cx="1371600" cy="274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здействия на входы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"/>
          <p:cNvSpPr/>
          <p:nvPr/>
        </p:nvSpPr>
        <p:spPr>
          <a:xfrm>
            <a:off x="4637160" y="1317600"/>
            <a:ext cx="2743200" cy="914400"/>
          </a:xfrm>
          <a:custGeom>
            <a:avLst/>
            <a:gdLst>
              <a:gd name="textAreaLeft" fmla="*/ 237960 w 2743200"/>
              <a:gd name="textAreaRight" fmla="*/ 2981520 w 2743200"/>
              <a:gd name="textAreaTop" fmla="*/ 118440 h 914400"/>
              <a:gd name="textAreaBottom" fmla="*/ 795960 h 914400"/>
            </a:gdLst>
            <a:ahLst/>
            <a:rect l="textAreaLeft" t="textAreaTop" r="textAreaRight" b="textAreaBottom"/>
            <a:pathLst>
              <a:path w="21600" h="21600">
                <a:moveTo>
                  <a:pt x="1874" y="1400"/>
                </a:moveTo>
                <a:cubicBezTo>
                  <a:pt x="8137" y="-3560"/>
                  <a:pt x="15337" y="6360"/>
                  <a:pt x="21600" y="1400"/>
                </a:cubicBezTo>
                <a:lnTo>
                  <a:pt x="19726" y="20200"/>
                </a:lnTo>
                <a:cubicBezTo>
                  <a:pt x="13463" y="25160"/>
                  <a:pt x="6263" y="15240"/>
                  <a:pt x="0" y="20200"/>
                </a:cubicBezTo>
                <a:close/>
              </a:path>
            </a:pathLst>
          </a:cu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ЛИЗАЦИЯ ПОЛИТИ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"/>
          <p:cNvSpPr/>
          <p:nvPr/>
        </p:nvSpPr>
        <p:spPr>
          <a:xfrm>
            <a:off x="6923160" y="1409760"/>
            <a:ext cx="2468520" cy="2790720"/>
          </a:xfrm>
          <a:prstGeom prst="flowChartMultidocument">
            <a:avLst/>
          </a:prstGeom>
          <a:solidFill>
            <a:srgbClr val="cc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А — систем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ципов, методов и средств воздействия на объек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3" name=""/>
          <p:cNvSpPr/>
          <p:nvPr/>
        </p:nvSpPr>
        <p:spPr>
          <a:xfrm>
            <a:off x="4637160" y="5111640"/>
            <a:ext cx="4662360" cy="1419480"/>
          </a:xfrm>
          <a:prstGeom prst="rect">
            <a:avLst/>
          </a:prstGeom>
          <a:solidFill>
            <a:srgbClr val="ffcc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   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СЛОВИЯ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которых формируется и осуществляется политика и действует её субъект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"/>
          <p:cNvSpPr/>
          <p:nvPr/>
        </p:nvSpPr>
        <p:spPr>
          <a:xfrm>
            <a:off x="4454640" y="4610160"/>
            <a:ext cx="1279440" cy="1280880"/>
          </a:xfrm>
          <a:prstGeom prst="rect">
            <a:avLst/>
          </a:prstGeom>
          <a:solidFill>
            <a:srgbClr val="cc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ФЕР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х знаний 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"/>
          <p:cNvSpPr/>
          <p:nvPr/>
        </p:nvSpPr>
        <p:spPr>
          <a:xfrm>
            <a:off x="6923160" y="4519440"/>
            <a:ext cx="2651040" cy="1005120"/>
          </a:xfrm>
          <a:custGeom>
            <a:avLst/>
            <a:gdLst>
              <a:gd name="textAreaLeft" fmla="*/ 200520 w 2651040"/>
              <a:gd name="textAreaRight" fmla="*/ 2851920 w 2651040"/>
              <a:gd name="textAreaTop" fmla="*/ 302760 h 1005120"/>
              <a:gd name="textAreaBottom" fmla="*/ 702360 h 1005120"/>
            </a:gdLst>
            <a:ahLst/>
            <a:rect l="textAreaLeft" t="textAreaTop" r="textAreaRight" b="textAreaBottom"/>
            <a:pathLst>
              <a:path w="21600" h="21600">
                <a:moveTo>
                  <a:pt x="1636" y="3255"/>
                </a:moveTo>
                <a:cubicBezTo>
                  <a:pt x="8018" y="-8276"/>
                  <a:pt x="15218" y="14786"/>
                  <a:pt x="21600" y="3255"/>
                </a:cubicBezTo>
                <a:lnTo>
                  <a:pt x="19964" y="18345"/>
                </a:lnTo>
                <a:cubicBezTo>
                  <a:pt x="13582" y="29876"/>
                  <a:pt x="6382" y="6814"/>
                  <a:pt x="0" y="18345"/>
                </a:cubicBezTo>
                <a:close/>
              </a:path>
            </a:pathLst>
          </a:cu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Я 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</a:t>
            </a: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РЕКЦИИ ПОЛИТИК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"/>
          <p:cNvSpPr/>
          <p:nvPr/>
        </p:nvSpPr>
        <p:spPr>
          <a:xfrm rot="21543000">
            <a:off x="6648120" y="5616360"/>
            <a:ext cx="274680" cy="549000"/>
          </a:xfrm>
          <a:prstGeom prst="downArrow">
            <a:avLst>
              <a:gd name="adj1" fmla="val 50000"/>
              <a:gd name="adj2" fmla="val 499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"/>
          <p:cNvSpPr/>
          <p:nvPr/>
        </p:nvSpPr>
        <p:spPr>
          <a:xfrm>
            <a:off x="5002200" y="2643120"/>
            <a:ext cx="2103480" cy="1371600"/>
          </a:xfrm>
          <a:prstGeom prst="rect">
            <a:avLst/>
          </a:prstGeom>
          <a:solidFill>
            <a:srgbClr val="eaeaea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УБЪЕКТ ПОЛИТИКИ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вокупность органов и лиц, принимающих решения и воздействующих на объекты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"/>
          <p:cNvSpPr/>
          <p:nvPr/>
        </p:nvSpPr>
        <p:spPr>
          <a:xfrm rot="14285400">
            <a:off x="5515920" y="1932120"/>
            <a:ext cx="1096920" cy="631800"/>
          </a:xfrm>
          <a:custGeom>
            <a:avLst/>
            <a:gdLst>
              <a:gd name="textAreaLeft" fmla="*/ 195120 w 1096920"/>
              <a:gd name="textAreaRight" fmla="*/ 792000 w 1096920"/>
              <a:gd name="textAreaTop" fmla="*/ 84600 h 631800"/>
              <a:gd name="textAreaBottom" fmla="*/ 547200 h 631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696" hR="21600" stAng="10800000" swAng="-5400000"/>
                <a:lnTo>
                  <a:pt x="11744" y="21600"/>
                </a:lnTo>
                <a:arcTo wR="7696" hR="21600" stAng="5400000" swAng="-2713284"/>
                <a:lnTo>
                  <a:pt x="21160" y="7200"/>
                </a:lnTo>
                <a:lnTo>
                  <a:pt x="17416" y="0"/>
                </a:lnTo>
                <a:lnTo>
                  <a:pt x="12792" y="7200"/>
                </a:lnTo>
                <a:lnTo>
                  <a:pt x="14952" y="7200"/>
                </a:lnTo>
                <a:arcTo wR="7696" hR="21600" stAng="2686716" swAng="2380444"/>
                <a:lnTo>
                  <a:pt x="9720" y="20840"/>
                </a:lnTo>
                <a:arcTo wR="7696" hR="21600" stAng="5732839" swAng="5067161"/>
                <a:close/>
              </a:path>
              <a:path fill="darkenLess" w="21600" h="21600">
                <a:moveTo>
                  <a:pt x="0" y="0"/>
                </a:moveTo>
                <a:arcTo wR="7696" hR="21600" stAng="10800000" swAng="-5400000"/>
                <a:lnTo>
                  <a:pt x="11744" y="21600"/>
                </a:lnTo>
                <a:arcTo wR="7696" hR="21600" stAng="5400000" swAng="332839"/>
                <a:lnTo>
                  <a:pt x="9720" y="20840"/>
                </a:lnTo>
                <a:arcTo wR="7696" hR="21600" stAng="5732839" swAng="5067161"/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"/>
          <p:cNvSpPr/>
          <p:nvPr/>
        </p:nvSpPr>
        <p:spPr>
          <a:xfrm>
            <a:off x="8751960" y="3878280"/>
            <a:ext cx="365040" cy="779400"/>
          </a:xfrm>
          <a:prstGeom prst="upArrow">
            <a:avLst>
              <a:gd name="adj1" fmla="val 50000"/>
              <a:gd name="adj2" fmla="val 53378"/>
            </a:avLst>
          </a:prstGeom>
          <a:solidFill>
            <a:srgbClr val="dddddd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0" name=""/>
          <p:cNvSpPr/>
          <p:nvPr/>
        </p:nvSpPr>
        <p:spPr>
          <a:xfrm>
            <a:off x="7013520" y="2735280"/>
            <a:ext cx="1646280" cy="457200"/>
          </a:xfrm>
          <a:prstGeom prst="leftArrowCallout">
            <a:avLst>
              <a:gd name="adj1" fmla="val 25002"/>
              <a:gd name="adj2" fmla="val 25000"/>
              <a:gd name="adj3" fmla="val 44226"/>
              <a:gd name="adj4" fmla="val 79466"/>
            </a:avLst>
          </a:prstGeom>
          <a:solidFill>
            <a:srgbClr val="00ff99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тратегические ориентиры и цел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"/>
          <p:cNvSpPr/>
          <p:nvPr/>
        </p:nvSpPr>
        <p:spPr>
          <a:xfrm>
            <a:off x="7013520" y="3421080"/>
            <a:ext cx="1646280" cy="457200"/>
          </a:xfrm>
          <a:prstGeom prst="leftArrowCallout">
            <a:avLst>
              <a:gd name="adj1" fmla="val 29169"/>
              <a:gd name="adj2" fmla="val 25000"/>
              <a:gd name="adj3" fmla="val 44226"/>
              <a:gd name="adj4" fmla="val 78734"/>
            </a:avLst>
          </a:prstGeom>
          <a:solidFill>
            <a:srgbClr val="99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ы и средства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ятельност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"/>
          <p:cNvSpPr/>
          <p:nvPr/>
        </p:nvSpPr>
        <p:spPr>
          <a:xfrm>
            <a:off x="6923160" y="4245120"/>
            <a:ext cx="2651040" cy="226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нятие и документирование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шен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"/>
          <p:cNvSpPr/>
          <p:nvPr/>
        </p:nvSpPr>
        <p:spPr>
          <a:xfrm rot="11400">
            <a:off x="5753160" y="3954240"/>
            <a:ext cx="365040" cy="1220760"/>
          </a:xfrm>
          <a:prstGeom prst="upArrow">
            <a:avLst>
              <a:gd name="adj1" fmla="val 39444"/>
              <a:gd name="adj2" fmla="val 67240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"/>
          <p:cNvSpPr/>
          <p:nvPr/>
        </p:nvSpPr>
        <p:spPr>
          <a:xfrm>
            <a:off x="3355920" y="6165720"/>
            <a:ext cx="731880" cy="2732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"/>
          <p:cNvSpPr/>
          <p:nvPr/>
        </p:nvSpPr>
        <p:spPr>
          <a:xfrm>
            <a:off x="887400" y="5616720"/>
            <a:ext cx="731880" cy="274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лия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"/>
          <p:cNvSpPr/>
          <p:nvPr/>
        </p:nvSpPr>
        <p:spPr>
          <a:xfrm>
            <a:off x="2898720" y="4343400"/>
            <a:ext cx="1646280" cy="998640"/>
          </a:xfrm>
          <a:prstGeom prst="rightArrow">
            <a:avLst>
              <a:gd name="adj1" fmla="val 50000"/>
              <a:gd name="adj2" fmla="val 41213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ЫХОД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езны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редные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"/>
          <p:cNvSpPr/>
          <p:nvPr/>
        </p:nvSpPr>
        <p:spPr>
          <a:xfrm>
            <a:off x="6191280" y="4792680"/>
            <a:ext cx="1189080" cy="1050840"/>
          </a:xfrm>
          <a:prstGeom prst="rect">
            <a:avLst/>
          </a:prstGeom>
          <a:solidFill>
            <a:srgbClr val="00cc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ЭФФЕКТЫ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т примен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ых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й и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новаций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"/>
          <p:cNvSpPr/>
          <p:nvPr/>
        </p:nvSpPr>
        <p:spPr>
          <a:xfrm>
            <a:off x="5276880" y="5251320"/>
            <a:ext cx="1006560" cy="486000"/>
          </a:xfrm>
          <a:prstGeom prst="rightArrow">
            <a:avLst>
              <a:gd name="adj1" fmla="val 50000"/>
              <a:gd name="adj2" fmla="val 51778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"/>
          <p:cNvSpPr/>
          <p:nvPr/>
        </p:nvSpPr>
        <p:spPr>
          <a:xfrm>
            <a:off x="2625840" y="2873520"/>
            <a:ext cx="2558880" cy="1004760"/>
          </a:xfrm>
          <a:custGeom>
            <a:avLst/>
            <a:gdLst>
              <a:gd name="textAreaLeft" fmla="*/ 217800 w 2558880"/>
              <a:gd name="textAreaRight" fmla="*/ 2777040 w 2558880"/>
              <a:gd name="textAreaTop" fmla="*/ 302760 h 1004760"/>
              <a:gd name="textAreaBottom" fmla="*/ 702000 h 1004760"/>
            </a:gdLst>
            <a:ahLst/>
            <a:rect l="textAreaLeft" t="textAreaTop" r="textAreaRight" b="textAreaBottom"/>
            <a:pathLst>
              <a:path w="21600" h="21600">
                <a:moveTo>
                  <a:pt x="1840" y="3255"/>
                </a:moveTo>
                <a:cubicBezTo>
                  <a:pt x="8120" y="-8276"/>
                  <a:pt x="15320" y="14786"/>
                  <a:pt x="21600" y="3255"/>
                </a:cubicBezTo>
                <a:lnTo>
                  <a:pt x="19760" y="18345"/>
                </a:lnTo>
                <a:cubicBezTo>
                  <a:pt x="13480" y="29876"/>
                  <a:pt x="6280" y="6814"/>
                  <a:pt x="0" y="18345"/>
                </a:cubicBezTo>
                <a:close/>
              </a:path>
            </a:pathLst>
          </a:custGeom>
          <a:solidFill>
            <a:srgbClr val="00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НИТОРИНГ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"/>
          <p:cNvSpPr/>
          <p:nvPr/>
        </p:nvSpPr>
        <p:spPr>
          <a:xfrm>
            <a:off x="2808360" y="3238560"/>
            <a:ext cx="2286000" cy="557280"/>
          </a:xfrm>
          <a:prstGeom prst="rightArrow">
            <a:avLst>
              <a:gd name="adj1" fmla="val 40407"/>
              <a:gd name="adj2" fmla="val 59176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нформация о состоянии объектов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"/>
          <p:cNvSpPr/>
          <p:nvPr/>
        </p:nvSpPr>
        <p:spPr>
          <a:xfrm>
            <a:off x="7837560" y="323856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"/>
          <p:cNvSpPr/>
          <p:nvPr/>
        </p:nvSpPr>
        <p:spPr>
          <a:xfrm flipV="1">
            <a:off x="8202600" y="3238200"/>
            <a:ext cx="0" cy="182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"/>
          <p:cNvSpPr/>
          <p:nvPr/>
        </p:nvSpPr>
        <p:spPr>
          <a:xfrm>
            <a:off x="993600" y="4510080"/>
            <a:ext cx="152640" cy="639720"/>
          </a:xfrm>
          <a:custGeom>
            <a:avLst/>
            <a:gdLst>
              <a:gd name="textAreaLeft" fmla="*/ 97560 w 152640"/>
              <a:gd name="textAreaRight" fmla="*/ 153000 w 152640"/>
              <a:gd name="textAreaTop" fmla="*/ 16560 h 639720"/>
              <a:gd name="textAreaBottom" fmla="*/ 623160 h 639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"/>
          <p:cNvSpPr/>
          <p:nvPr/>
        </p:nvSpPr>
        <p:spPr>
          <a:xfrm>
            <a:off x="2251080" y="4510080"/>
            <a:ext cx="182520" cy="639720"/>
          </a:xfrm>
          <a:custGeom>
            <a:avLst/>
            <a:gdLst>
              <a:gd name="textAreaLeft" fmla="*/ 0 w 182520"/>
              <a:gd name="textAreaRight" fmla="*/ 65880 w 182520"/>
              <a:gd name="textAreaTop" fmla="*/ 16560 h 639720"/>
              <a:gd name="textAreaBottom" fmla="*/ 62316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"/>
          <p:cNvSpPr/>
          <p:nvPr/>
        </p:nvSpPr>
        <p:spPr>
          <a:xfrm>
            <a:off x="522360" y="5799240"/>
            <a:ext cx="2286000" cy="731880"/>
          </a:xfrm>
          <a:prstGeom prst="cloudCallout">
            <a:avLst>
              <a:gd name="adj1" fmla="val -49555"/>
              <a:gd name="adj2" fmla="val 71527"/>
            </a:avLst>
          </a:prstGeom>
          <a:solidFill>
            <a:srgbClr val="00ff99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НЕШНИЕ СРЕДЫ</a:t>
            </a: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(природная и социальные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"/>
          <p:cNvSpPr/>
          <p:nvPr/>
        </p:nvSpPr>
        <p:spPr>
          <a:xfrm>
            <a:off x="5276880" y="3970440"/>
            <a:ext cx="365040" cy="731880"/>
          </a:xfrm>
          <a:prstGeom prst="upArrow">
            <a:avLst>
              <a:gd name="adj1" fmla="val 37500"/>
              <a:gd name="adj2" fmla="val 57957"/>
            </a:avLst>
          </a:prstGeom>
          <a:solidFill>
            <a:srgbClr val="eaeaea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7" name=""/>
          <p:cNvSpPr/>
          <p:nvPr/>
        </p:nvSpPr>
        <p:spPr>
          <a:xfrm>
            <a:off x="6373800" y="3970440"/>
            <a:ext cx="366840" cy="822240"/>
          </a:xfrm>
          <a:prstGeom prst="upArrow">
            <a:avLst>
              <a:gd name="adj1" fmla="val 42009"/>
              <a:gd name="adj2" fmla="val 59148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"/>
          <p:cNvSpPr/>
          <p:nvPr/>
        </p:nvSpPr>
        <p:spPr>
          <a:xfrm rot="2884800">
            <a:off x="6479640" y="4251600"/>
            <a:ext cx="1417680" cy="646200"/>
          </a:xfrm>
          <a:custGeom>
            <a:avLst/>
            <a:gdLst>
              <a:gd name="textAreaLeft" fmla="*/ 248040 w 1417680"/>
              <a:gd name="textAreaRight" fmla="*/ 1027800 w 1417680"/>
              <a:gd name="textAreaTop" fmla="*/ 86400 h 646200"/>
              <a:gd name="textAreaBottom" fmla="*/ 559800 h 646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"/>
          <p:cNvSpPr/>
          <p:nvPr/>
        </p:nvSpPr>
        <p:spPr>
          <a:xfrm rot="19405800">
            <a:off x="4270320" y="3970080"/>
            <a:ext cx="895320" cy="309600"/>
          </a:xfrm>
          <a:prstGeom prst="rightArrow">
            <a:avLst>
              <a:gd name="adj1" fmla="val 50000"/>
              <a:gd name="adj2" fmla="val 72297"/>
            </a:avLst>
          </a:prstGeom>
          <a:solidFill>
            <a:srgbClr val="ffffff"/>
          </a:solidFill>
          <a:ln w="3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0" y="-228600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46080" y="-224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-46080" y="1050840"/>
            <a:ext cx="184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6080" y="-224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60" bIns="-464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46080" y="-224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-46080" y="-2249640"/>
            <a:ext cx="184320" cy="53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>
            <a:off x="46080" y="-224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46080" y="-2249640"/>
            <a:ext cx="3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 anchorCtr="1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6080" y="4170240"/>
            <a:ext cx="990612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5940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"/>
          <p:cNvSpPr/>
          <p:nvPr/>
        </p:nvSpPr>
        <p:spPr>
          <a:xfrm>
            <a:off x="685800" y="380880"/>
            <a:ext cx="8750160" cy="5630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итератур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ше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е будущее: Доклад Международной комиссии по окружающей среде и развитию (МКОСР) / Пер. с англ.,  Под ред. и с послеслов. С.А. Евтеева и Р.А. Перелета. — М.: Прогресс, 1989. — 376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 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ма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ействий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овестка дня на 21 век и другие документы конференции в Рио-де-Жанейро в популярном изложении / Публикация Центра “За наше общее будущее”. — Женева, 1993. — 70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грама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ій “Порядок денний на ХХІ століття” / Пер. з англ.: ВГО “Україна”. Порядок денний на ХХІ століття”. — К.: Інтелсфера, 2000. — 360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</a:rPr>
              <a:t>4.  П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грама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дій з подальшого впровадження “Порядку денного на ХХІ століття” (“Ріо+5”) / Пер. з англ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К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Інтелсфера,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200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—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. 6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5.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для </a:t>
            </a:r>
            <a:r>
              <a:rPr b="1" i="1" lang="en-US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XI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ка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Новые обязательства / Всемирная конференция по науке. Будапешт, Венгрия, 26 июня – 1 июля 1999 г. Основные документы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Париж: ЮНЕСКО, 2000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6 с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6.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Готова ли наука к построению экоустойчивого общества? // Наука та наукознавство, 2004, № 4. Додаток. Матеріали ІV Добровської конференції з наукознавства та історії науки (3–11 березня 2004 р.). — К.: Фенікс, 2005. — С. 31–45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7.  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построения экоустойчивого общества и новые ориентиры для науки и инноватики // Наука та наукознавство, 2004, № 3.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—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9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1.</a:t>
            </a:r>
            <a:r>
              <a:rPr b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8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</a:t>
            </a:r>
            <a:r>
              <a:rPr b="0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рспективы городского развития в контексте построения экоустойчивого общества // Столичний регіон, 2004, № 2(4). — С. 23–38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"/>
          <p:cNvSpPr/>
          <p:nvPr/>
        </p:nvSpPr>
        <p:spPr>
          <a:xfrm>
            <a:off x="533520" y="449280"/>
            <a:ext cx="8915400" cy="510984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anchorCtr="1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9.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цепция экоустойчивого развития как ориентир для научно-технической и инновационной политики // Материалы І международного форума столичных предприятий и организаций Москвы, Киева, Минска. / Научно-практическая конференция “Проблемы и перспективы сотрудничества столиц” Национальный технический университет “Киевский политехнический институт” 20-21 ноября 2003 г. — К.: 2004. с. 212-223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0000"/>
                </a:solidFill>
                <a:latin typeface="Times New Roman"/>
              </a:rPr>
              <a:t>10. 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техническая и инновационная политика для достижения экоустойчивости городского развития // Материалы І международного форума столичных предприятий и организаций Москвы, Киева, Минска. / Научно-практическая конференция “Проблемы и перспективы    сотрудничества столиц” Национальный технический университет “Киевский политехнический институт” 20-21 ноября 2003 г. — К.: 2004. с. 138-150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1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єць Р.В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Роль науково-технічної політики при переході до сталого розвитку // Проблеми науки, 2001, № 8. С 7-13; продовження № 9. с.3-12.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1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Концепция устойчивого развития: региональные и городские аспекты // Белорусский экономический журнал, 2000, № 2.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— С. 97-10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Р.В.</a:t>
            </a:r>
            <a:r>
              <a:rPr b="0" i="1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uk-UA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блемы обоснования приоритетов региональной научно-техниче-ской политики // Наука та наукознавство, 2001, № 4. Додаток. Матеріали І Добровської конференції з наукознавства та історії науки (13–14 березня 2001 р.). — К.: Фенікс, 2002. С. 60–77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spcBef>
                <a:spcPts val="1001"/>
              </a:spcBef>
              <a:buClr>
                <a:srgbClr val="000000"/>
              </a:buClr>
              <a:buFont typeface="Times New Roman"/>
              <a:buAutoNum type="arabicPeriod" startAt="1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"/>
          <p:cNvSpPr/>
          <p:nvPr/>
        </p:nvSpPr>
        <p:spPr>
          <a:xfrm>
            <a:off x="0" y="0"/>
            <a:ext cx="9906120" cy="70426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ная интерпретация переход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 экоустойчивому развитию как предпосылка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я стратегий науки и инноватики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ЕЦ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</a:t>
            </a:r>
            <a:r>
              <a:rPr b="1" i="1" lang="ru-RU" sz="2200" spc="-1" strike="noStrike">
                <a:solidFill>
                  <a:srgbClr val="000000"/>
                </a:solidFill>
                <a:latin typeface="Times New Roman"/>
              </a:rPr>
              <a:t>оман  Васильевич</a:t>
            </a:r>
            <a:r>
              <a:rPr b="1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uk-UA" sz="2000" spc="-1" strike="noStrike">
                <a:solidFill>
                  <a:srgbClr val="000000"/>
                </a:solidFill>
                <a:latin typeface="Times New Roman"/>
              </a:rPr>
              <a:t>Кандидат экономических наук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с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арший</a:t>
            </a:r>
            <a:r>
              <a:rPr b="0" i="1" lang="ru-RU" sz="2000" spc="-1" strike="noStrike">
                <a:solidFill>
                  <a:srgbClr val="000000"/>
                </a:solidFill>
                <a:latin typeface="Times New Roman"/>
              </a:rPr>
              <a:t> научный сотрудник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тдел системных исследований научно-технического потенциала</a:t>
            </a: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ентр исследований научно-технического потенциал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стории науки им. Г.М. Доброва НАН Украин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60, бул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 Т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евченка,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тел. 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4)  482-14-8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32, Київ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,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країна         тел.</a:t>
            </a:r>
            <a:r>
              <a:rPr b="1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/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акс (</a:t>
            </a:r>
            <a:r>
              <a:rPr b="0" lang="uk-UA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8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44)  486-95-9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-mail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: steps@carrier.kiev.u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©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Р.В.Заец, 2005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3110040"/>
            <a:ext cx="9906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6320" y="0"/>
            <a:ext cx="9810720" cy="684576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Цель сообщения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</a:rPr>
              <a:t> 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–  представить методологический подход к обоснованию долгосрочной научно-технической и инновационной политики, ориентированной на решение стратегических задач перехода  к экологически безопасному устойчивому развитию.    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Задачи: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краткий экскурс в проблематику выживания общества и экологической устойчивости в дальнесрочной перспективе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обс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уждение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еобходимост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изменения методологи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, планирования науки и инноватики,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разработки и реализации государственной и региональной политики в отношении сферы НИОКР и инноватик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демонстрация концептуальной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модели взаимодействий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ежду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ил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ам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, направляющ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м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развитие общества,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х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влиян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 природную среду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;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формулирование целевых ориентиров для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построени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я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учно-методическ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х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комплекс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в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ИОКР, обеспечивающ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их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переход к экоустойчивому развитию;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бсуждение</a:t>
            </a: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содержания научно-технической и инновационной политики,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ориентированнной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 решение задач перехода страны, её регионов и городов к экологически безопасному и устойчивому развитию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0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500"/>
                            </p:stCondLst>
                            <p:childTnLst>
                              <p:par>
                                <p:cTn id="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1000"/>
                            </p:stCondLst>
                            <p:childTnLst>
                              <p:par>
                                <p:cTn id="8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1500"/>
                            </p:stCondLst>
                            <p:childTnLst>
                              <p:par>
                                <p:cTn id="9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2000"/>
                            </p:stCondLst>
                            <p:childTnLst>
                              <p:par>
                                <p:cTn id="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500" fill="hold"/>
                                        <p:tgtEl>
                                          <p:spTgt spid="5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250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3000"/>
                            </p:stCondLst>
                            <p:childTnLst>
                              <p:par>
                                <p:cTn id="10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9" dur="500" fill="hold"/>
                                        <p:tgtEl>
                                          <p:spTgt spid="5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3500"/>
                            </p:stCondLst>
                            <p:childTnLst>
                              <p:par>
                                <p:cTn id="11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5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95400" y="106200"/>
            <a:ext cx="9715320" cy="44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оциальные силы, определяющие развитие науки и применение научных знани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4621320" y="4844880"/>
            <a:ext cx="654120" cy="457200"/>
          </a:xfrm>
          <a:prstGeom prst="downArrow">
            <a:avLst>
              <a:gd name="adj1" fmla="val 45898"/>
              <a:gd name="adj2" fmla="val 44028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780240" y="5556240"/>
            <a:ext cx="3076560" cy="102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ради сохранения базисных условий жизни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263520" y="5695920"/>
            <a:ext cx="285588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именения рад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ьзы или выгоды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330280" y="2838600"/>
            <a:ext cx="5237280" cy="194292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33480" y="781200"/>
            <a:ext cx="2209680" cy="1143000"/>
          </a:xfrm>
          <a:prstGeom prst="ellipse">
            <a:avLst/>
          </a:prstGeom>
          <a:solidFill>
            <a:srgbClr val="ffcc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изнес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7512120" y="793800"/>
            <a:ext cx="2187360" cy="1143000"/>
          </a:xfrm>
          <a:prstGeom prst="ellipse">
            <a:avLst/>
          </a:prstGeom>
          <a:solidFill>
            <a:srgbClr val="00ff00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щест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-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еннос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027240" y="3206880"/>
            <a:ext cx="3819600" cy="2998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еакции на внешние запросы и влияния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984400" y="4046400"/>
            <a:ext cx="3927600" cy="32724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едование собственной логике развития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353960" y="1789200"/>
            <a:ext cx="1651320" cy="1620720"/>
          </a:xfrm>
          <a:prstGeom prst="lightningBolt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 flipH="1">
            <a:off x="6976440" y="1814400"/>
            <a:ext cx="1446120" cy="1595520"/>
          </a:xfrm>
          <a:prstGeom prst="lightningBolt">
            <a:avLst/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235320" y="1695600"/>
            <a:ext cx="1255680" cy="1485720"/>
          </a:xfrm>
          <a:prstGeom prst="lightningBolt">
            <a:avLst/>
          </a:pr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H="1">
            <a:off x="5421240" y="1698480"/>
            <a:ext cx="1131840" cy="1486080"/>
          </a:xfrm>
          <a:prstGeom prst="lightningBolt">
            <a:avLst/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 flipV="1" rot="19187400">
            <a:off x="1152000" y="3029040"/>
            <a:ext cx="1197000" cy="2990520"/>
          </a:xfrm>
          <a:custGeom>
            <a:avLst/>
            <a:gdLst>
              <a:gd name="textAreaLeft" fmla="*/ 160200 w 1197000"/>
              <a:gd name="textAreaRight" fmla="*/ 1036800 w 1197000"/>
              <a:gd name="textAreaTop" fmla="*/ 522360 h 2990520"/>
              <a:gd name="textAreaBottom" fmla="*/ 2168280 h 29905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5" stAng="-5400000" swAng="-5400000"/>
                <a:lnTo>
                  <a:pt x="0" y="11885"/>
                </a:lnTo>
                <a:arcTo wR="21600" hR="7555" stAng="10800000" swAng="-2681500"/>
                <a:lnTo>
                  <a:pt x="14400" y="21168"/>
                </a:lnTo>
                <a:lnTo>
                  <a:pt x="21600" y="17275"/>
                </a:lnTo>
                <a:lnTo>
                  <a:pt x="14400" y="12518"/>
                </a:lnTo>
                <a:lnTo>
                  <a:pt x="14400" y="14678"/>
                </a:lnTo>
                <a:arcTo wR="21600" hR="7555" stAng="8118500" swAng="2323150"/>
                <a:lnTo>
                  <a:pt x="906" y="9720"/>
                </a:lnTo>
                <a:arcTo wR="21600" hR="7555" stAng="-10441650" swAng="5041650"/>
                <a:close/>
              </a:path>
              <a:path fill="darkenLess" w="21600" h="21600">
                <a:moveTo>
                  <a:pt x="21600" y="0"/>
                </a:moveTo>
                <a:arcTo wR="21600" hR="7555" stAng="-5400000" swAng="-5400000"/>
                <a:lnTo>
                  <a:pt x="0" y="7555"/>
                </a:lnTo>
                <a:arcTo wR="21600" hR="7555" stAng="10800000" swAng="-358350"/>
                <a:lnTo>
                  <a:pt x="906" y="9720"/>
                </a:lnTo>
                <a:arcTo wR="21600" hR="7555" stAng="-10441650" swAng="5041650"/>
                <a:close/>
              </a:path>
            </a:pathLst>
          </a:cu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 flipH="1" flipV="1" rot="2554800">
            <a:off x="7566840" y="3067200"/>
            <a:ext cx="1198080" cy="2992320"/>
          </a:xfrm>
          <a:custGeom>
            <a:avLst/>
            <a:gdLst>
              <a:gd name="textAreaLeft" fmla="*/ 160200 w 1198080"/>
              <a:gd name="textAreaRight" fmla="*/ 1037880 w 1198080"/>
              <a:gd name="textAreaTop" fmla="*/ 523080 h 2992320"/>
              <a:gd name="textAreaBottom" fmla="*/ 2169720 h 2992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55" stAng="-5400000" swAng="-5400000"/>
                <a:lnTo>
                  <a:pt x="0" y="11885"/>
                </a:lnTo>
                <a:arcTo wR="21600" hR="7555" stAng="10800000" swAng="-2681500"/>
                <a:lnTo>
                  <a:pt x="14400" y="21168"/>
                </a:lnTo>
                <a:lnTo>
                  <a:pt x="21600" y="17275"/>
                </a:lnTo>
                <a:lnTo>
                  <a:pt x="14400" y="12518"/>
                </a:lnTo>
                <a:lnTo>
                  <a:pt x="14400" y="14678"/>
                </a:lnTo>
                <a:arcTo wR="21600" hR="7555" stAng="8118500" swAng="2323150"/>
                <a:lnTo>
                  <a:pt x="906" y="9720"/>
                </a:lnTo>
                <a:arcTo wR="21600" hR="7555" stAng="-10441650" swAng="5041650"/>
                <a:close/>
              </a:path>
              <a:path fill="darkenLess" w="21600" h="21600">
                <a:moveTo>
                  <a:pt x="21600" y="0"/>
                </a:moveTo>
                <a:arcTo wR="21600" hR="7555" stAng="-5400000" swAng="-5400000"/>
                <a:lnTo>
                  <a:pt x="0" y="7555"/>
                </a:lnTo>
                <a:arcTo wR="21600" hR="7555" stAng="10800000" swAng="-358350"/>
                <a:lnTo>
                  <a:pt x="906" y="9720"/>
                </a:lnTo>
                <a:arcTo wR="21600" hR="7555" stAng="-10441650" swAng="5041650"/>
                <a:close/>
              </a:path>
            </a:pathLst>
          </a:cu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327480" y="5238720"/>
            <a:ext cx="3240000" cy="1143000"/>
          </a:xfrm>
          <a:prstGeom prst="horizontalScroll">
            <a:avLst>
              <a:gd name="adj" fmla="val 12500"/>
            </a:avLst>
          </a:prstGeom>
          <a:solidFill>
            <a:srgbClr val="eaeaea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нания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2427120" y="803160"/>
            <a:ext cx="2352960" cy="1143000"/>
          </a:xfrm>
          <a:prstGeom prst="ellipse">
            <a:avLst/>
          </a:prstGeom>
          <a:solidFill>
            <a:srgbClr val="cc99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литики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967280" y="781200"/>
            <a:ext cx="2324160" cy="1143000"/>
          </a:xfrm>
          <a:prstGeom prst="ellipse">
            <a:avLst/>
          </a:prstGeom>
          <a:solidFill>
            <a:srgbClr val="00ccff"/>
          </a:solidFill>
          <a:ln w="64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осударст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-55440" y="539640"/>
            <a:ext cx="990576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-55440" y="53964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-55440" y="53964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-55440" y="53964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-55440" y="539640"/>
            <a:ext cx="360" cy="36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500"/>
                            </p:stCondLst>
                            <p:childTnLst>
                              <p:par>
                                <p:cTn id="12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fill="hold">
                            <p:stCondLst>
                              <p:cond delay="2000"/>
                            </p:stCondLst>
                            <p:childTnLst>
                              <p:par>
                                <p:cTn id="13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5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3000"/>
                            </p:stCondLst>
                            <p:childTnLst>
                              <p:par>
                                <p:cTn id="14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4000"/>
                            </p:stCondLst>
                            <p:childTnLst>
                              <p:par>
                                <p:cTn id="15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4500"/>
                            </p:stCondLst>
                            <p:childTnLst>
                              <p:par>
                                <p:cTn id="16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2" fill="hold">
                            <p:stCondLst>
                              <p:cond delay="5000"/>
                            </p:stCondLst>
                            <p:childTnLst>
                              <p:par>
                                <p:cTn id="16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500"/>
                            </p:stCondLst>
                            <p:childTnLst>
                              <p:par>
                                <p:cTn id="16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600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6500"/>
                            </p:stCondLst>
                            <p:childTnLst>
                              <p:par>
                                <p:cTn id="17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7000"/>
                            </p:stCondLst>
                            <p:childTnLst>
                              <p:par>
                                <p:cTn id="17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fill="hold">
                            <p:stCondLst>
                              <p:cond delay="7500"/>
                            </p:stCondLst>
                            <p:childTnLst>
                              <p:par>
                                <p:cTn id="18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"/>
          <p:cNvSpPr/>
          <p:nvPr/>
        </p:nvSpPr>
        <p:spPr>
          <a:xfrm>
            <a:off x="-19080" y="19080"/>
            <a:ext cx="9944280" cy="7696080"/>
          </a:xfrm>
          <a:prstGeom prst="rect">
            <a:avLst/>
          </a:prstGeom>
          <a:solidFill>
            <a:srgbClr val="00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3200" spc="-1" strike="noStrike">
                <a:solidFill>
                  <a:srgbClr val="800000"/>
                </a:solidFill>
                <a:latin typeface="Times New Roman"/>
              </a:rPr>
              <a:t>К пониманию задач системного анализа и роли науки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ru-RU" sz="12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i="1" lang="ru-RU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Целью работы по закладыванию будущего является решение не о том, что следовало бы сделать завтра, 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  </a:t>
            </a:r>
            <a:r>
              <a:rPr b="0" i="1" lang="ru-RU" sz="28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о том, что следует сделать сегодня, дабы это “завтра” состоялось</a:t>
            </a:r>
            <a:r>
              <a:rPr b="0" i="1" lang="ru-RU" sz="2800" spc="-1" strike="noStrike">
                <a:solidFill>
                  <a:srgbClr val="3333cc"/>
                </a:solidFill>
                <a:latin typeface="Times New Roman"/>
              </a:rPr>
              <a:t>.</a:t>
            </a:r>
            <a:r>
              <a:rPr b="0" i="1" lang="ru-RU" sz="24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П.Ф. Друкер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100" spc="-1" strike="noStrike">
                <a:solidFill>
                  <a:srgbClr val="3333cc"/>
                </a:solidFill>
                <a:latin typeface="Times New Roman"/>
              </a:rPr>
              <a:t>                   </a:t>
            </a:r>
            <a:r>
              <a:rPr b="0" i="1" lang="ru-RU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«…</a:t>
            </a:r>
            <a:r>
              <a:rPr b="0" i="1" lang="ru-RU" sz="11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 </a:t>
            </a:r>
            <a:r>
              <a:rPr b="0" i="1" lang="ru-RU" sz="24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в ходе развития, начиная от отдельного человека и кончая человечеством как целым, неоднократно приходится делать выбор. Отказываться от одних путей, предпочитая другие. Смысл и значение различных научных дисциплин в большой мере определяется тем, насколько разумным и осознанным они позволяют сделать этот выбор»  </a:t>
            </a:r>
            <a:r>
              <a:rPr b="0" i="1" lang="ru-RU" sz="20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[1, с.75].</a:t>
            </a:r>
            <a:r>
              <a:rPr b="0" i="1" lang="ru-RU" sz="1100" spc="-1" strike="noStrike">
                <a:solidFill>
                  <a:srgbClr val="3333cc"/>
                </a:solidFill>
                <a:latin typeface="Arial Unicode MS"/>
                <a:ea typeface="Arial Unicode MS"/>
              </a:rPr>
              <a:t>  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3333cc"/>
                </a:solidFill>
                <a:latin typeface="Times New Roman"/>
              </a:rPr>
              <a:t>               </a:t>
            </a:r>
            <a:r>
              <a:rPr b="0" i="1" lang="ru-RU" sz="1300" spc="-1" strike="noStrike">
                <a:solidFill>
                  <a:srgbClr val="3333cc"/>
                </a:solidFill>
                <a:latin typeface="Times New Roman"/>
              </a:rPr>
              <a:t>1.</a:t>
            </a:r>
            <a:r>
              <a:rPr b="1" lang="ru-RU" sz="13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0" i="1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Капица С.П., Курдюмов С.П., Малинецкий Г.Г.</a:t>
            </a:r>
            <a:r>
              <a:rPr b="1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  </a:t>
            </a:r>
            <a:r>
              <a:rPr b="0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Синергетика и прогнозы будущего. — Изд</a:t>
            </a:r>
            <a:r>
              <a:rPr b="0" lang="ru-RU" sz="1300" spc="-1" strike="noStrike">
                <a:solidFill>
                  <a:srgbClr val="3333cc"/>
                </a:solidFill>
                <a:latin typeface="Times New Roman"/>
              </a:rPr>
              <a:t>, </a:t>
            </a:r>
            <a:r>
              <a:rPr b="0" lang="ru-RU" sz="1300" spc="-1" strike="noStrike">
                <a:solidFill>
                  <a:srgbClr val="3333cc"/>
                </a:solidFill>
                <a:latin typeface="Arial Unicode MS"/>
                <a:ea typeface="Times New Roman"/>
              </a:rPr>
              <a:t>3-е. — М.: Едиториал УРСС, 2003.</a:t>
            </a:r>
            <a:r>
              <a:rPr b="0" lang="ru-RU" sz="1300" spc="-1" strike="noStrike">
                <a:solidFill>
                  <a:srgbClr val="000000"/>
                </a:solidFill>
                <a:latin typeface="Arial Unicode MS"/>
                <a:ea typeface="Times New Roman"/>
              </a:rPr>
              <a:t> </a:t>
            </a: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304920" y="304920"/>
            <a:ext cx="9601200" cy="457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Системный контекст изучения предметной области «обоснование приоритетов</a:t>
            </a:r>
            <a:r>
              <a:rPr b="1" lang="en-US" sz="1400" spc="-1" strike="noStrike">
                <a:solidFill>
                  <a:srgbClr val="993300"/>
                </a:solidFill>
                <a:latin typeface="Times New Roman"/>
                <a:ea typeface="Times New Roman"/>
              </a:rPr>
              <a:t>»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 rot="21541800">
            <a:off x="761760" y="914040"/>
            <a:ext cx="7132680" cy="3111480"/>
          </a:xfrm>
          <a:custGeom>
            <a:avLst/>
            <a:gdLst>
              <a:gd name="textAreaLeft" fmla="*/ 423720 w 7132680"/>
              <a:gd name="textAreaRight" fmla="*/ 7556760 w 7132680"/>
              <a:gd name="textAreaTop" fmla="*/ 550080 h 3111480"/>
              <a:gd name="textAreaBottom" fmla="*/ 2561400 h 3111480"/>
            </a:gdLst>
            <a:ahLst/>
            <a:rect l="textAreaLeft" t="textAreaTop" r="textAreaRight" b="textAreaBottom"/>
            <a:pathLst>
              <a:path w="21600" h="21600">
                <a:moveTo>
                  <a:pt x="1284" y="1910"/>
                </a:moveTo>
                <a:cubicBezTo>
                  <a:pt x="7842" y="-4856"/>
                  <a:pt x="15042" y="8676"/>
                  <a:pt x="21600" y="1910"/>
                </a:cubicBezTo>
                <a:lnTo>
                  <a:pt x="20316" y="19690"/>
                </a:lnTo>
                <a:cubicBezTo>
                  <a:pt x="13758" y="26456"/>
                  <a:pt x="6558" y="12924"/>
                  <a:pt x="0" y="19690"/>
                </a:cubicBezTo>
                <a:close/>
              </a:path>
            </a:pathLst>
          </a:cu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родное хозяйство – множество систем,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ивающих  жизнеспособность обществ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0" y="380880"/>
            <a:ext cx="990612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0" y="-609480"/>
            <a:ext cx="99061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rot="21378600">
            <a:off x="1066680" y="1964880"/>
            <a:ext cx="7371000" cy="2925720"/>
          </a:xfrm>
          <a:custGeom>
            <a:avLst/>
            <a:gdLst>
              <a:gd name="textAreaLeft" fmla="*/ 504360 w 7371000"/>
              <a:gd name="textAreaRight" fmla="*/ 7875720 w 7371000"/>
              <a:gd name="textAreaTop" fmla="*/ 758880 h 2925720"/>
              <a:gd name="textAreaBottom" fmla="*/ 2166840 h 2925720"/>
            </a:gdLst>
            <a:ahLst/>
            <a:rect l="textAreaLeft" t="textAreaTop" r="textAreaRight" b="textAreaBottom"/>
            <a:pathLst>
              <a:path w="21600" h="21600">
                <a:moveTo>
                  <a:pt x="1478" y="2801"/>
                </a:moveTo>
                <a:cubicBezTo>
                  <a:pt x="7939" y="-7122"/>
                  <a:pt x="15139" y="12724"/>
                  <a:pt x="21600" y="2801"/>
                </a:cubicBezTo>
                <a:lnTo>
                  <a:pt x="20122" y="18799"/>
                </a:lnTo>
                <a:cubicBezTo>
                  <a:pt x="13661" y="28722"/>
                  <a:pt x="6461" y="8876"/>
                  <a:pt x="0" y="18799"/>
                </a:cubicBezTo>
                <a:close/>
              </a:path>
            </a:pathLst>
          </a:custGeom>
          <a:solidFill>
            <a:srgbClr val="cc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ка и инноватика – совокупность систем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дуцирующих новые знания и инноваци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rot="21408000">
            <a:off x="1523520" y="3430440"/>
            <a:ext cx="7315200" cy="2652840"/>
          </a:xfrm>
          <a:custGeom>
            <a:avLst/>
            <a:gdLst>
              <a:gd name="textAreaLeft" fmla="*/ 356760 w 7315200"/>
              <a:gd name="textAreaRight" fmla="*/ 7672320 w 7315200"/>
              <a:gd name="textAreaTop" fmla="*/ 343800 h 2652840"/>
              <a:gd name="textAreaBottom" fmla="*/ 2309040 h 2652840"/>
            </a:gdLst>
            <a:ahLst/>
            <a:rect l="textAreaLeft" t="textAreaTop" r="textAreaRight" b="textAreaBottom"/>
            <a:pathLst>
              <a:path w="21600" h="21600">
                <a:moveTo>
                  <a:pt x="1054" y="1400"/>
                </a:moveTo>
                <a:cubicBezTo>
                  <a:pt x="7727" y="-3560"/>
                  <a:pt x="14927" y="6360"/>
                  <a:pt x="21600" y="1400"/>
                </a:cubicBezTo>
                <a:lnTo>
                  <a:pt x="20546" y="20200"/>
                </a:lnTo>
                <a:cubicBezTo>
                  <a:pt x="13873" y="25160"/>
                  <a:pt x="6673" y="15240"/>
                  <a:pt x="0" y="20200"/>
                </a:cubicBezTo>
                <a:close/>
              </a:path>
            </a:pathLst>
          </a:cu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учно-техническая и инновационная политика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–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стема стратегического планирования и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равления наукой и инновати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1090440" y="2209680"/>
            <a:ext cx="640080" cy="1214640"/>
          </a:xfrm>
          <a:custGeom>
            <a:avLst/>
            <a:gdLst>
              <a:gd name="textAreaLeft" fmla="*/ 85680 w 640080"/>
              <a:gd name="textAreaRight" fmla="*/ 554400 w 64008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1455840" y="3490920"/>
            <a:ext cx="639720" cy="1214280"/>
          </a:xfrm>
          <a:custGeom>
            <a:avLst/>
            <a:gdLst>
              <a:gd name="textAreaLeft" fmla="*/ 85680 w 639720"/>
              <a:gd name="textAreaRight" fmla="*/ 554040 w 63972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rot="15731400">
            <a:off x="4733640" y="2039760"/>
            <a:ext cx="1214640" cy="639720"/>
          </a:xfrm>
          <a:custGeom>
            <a:avLst/>
            <a:gdLst>
              <a:gd name="textAreaLeft" fmla="*/ 212400 w 1214640"/>
              <a:gd name="textAreaRight" fmla="*/ 880560 w 121464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 rot="15327000">
            <a:off x="5190840" y="3320280"/>
            <a:ext cx="1214280" cy="63972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85680 h 639720"/>
              <a:gd name="textAreaBottom" fmla="*/ 554040 h 639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6667560" y="4313160"/>
            <a:ext cx="1920960" cy="549360"/>
          </a:xfrm>
          <a:prstGeom prst="rect">
            <a:avLst/>
          </a:prstGeom>
          <a:solidFill>
            <a:srgbClr val="99ccff"/>
          </a:solidFill>
          <a:ln w="9360">
            <a:solidFill>
              <a:srgbClr val="99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 организация,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и управление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6302520" y="3124080"/>
            <a:ext cx="1645920" cy="639720"/>
          </a:xfrm>
          <a:prstGeom prst="rect">
            <a:avLst/>
          </a:prstGeom>
          <a:solidFill>
            <a:srgbClr val="cc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знание и материализация зна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15000" y="1676520"/>
            <a:ext cx="1736640" cy="639720"/>
          </a:xfrm>
          <a:prstGeom prst="rect">
            <a:avLst/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–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хозяйство-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ание и социальная организация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 rot="21337800">
            <a:off x="1879200" y="4385880"/>
            <a:ext cx="7497720" cy="2241720"/>
          </a:xfrm>
          <a:custGeom>
            <a:avLst/>
            <a:gdLst>
              <a:gd name="textAreaLeft" fmla="*/ 291240 w 7497720"/>
              <a:gd name="textAreaRight" fmla="*/ 7789320 w 7497720"/>
              <a:gd name="textAreaTop" fmla="*/ 290520 h 2241720"/>
              <a:gd name="textAreaBottom" fmla="*/ 1951200 h 2241720"/>
            </a:gdLst>
            <a:ahLst/>
            <a:rect l="textAreaLeft" t="textAreaTop" r="textAreaRight" b="textAreaBottom"/>
            <a:pathLst>
              <a:path w="21600" h="21600">
                <a:moveTo>
                  <a:pt x="840" y="1400"/>
                </a:moveTo>
                <a:cubicBezTo>
                  <a:pt x="7620" y="-3560"/>
                  <a:pt x="14820" y="6360"/>
                  <a:pt x="21600" y="1400"/>
                </a:cubicBezTo>
                <a:lnTo>
                  <a:pt x="20760" y="20200"/>
                </a:lnTo>
                <a:cubicBezTo>
                  <a:pt x="13980" y="25160"/>
                  <a:pt x="6780" y="15240"/>
                  <a:pt x="0" y="20200"/>
                </a:cubicBezTo>
                <a:close/>
              </a:path>
            </a:pathLst>
          </a:cu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основание приоритетов научно-техническо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инновационной деятельности – системы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сследований и принятия решений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1822320" y="4770360"/>
            <a:ext cx="639720" cy="1214640"/>
          </a:xfrm>
          <a:custGeom>
            <a:avLst/>
            <a:gdLst>
              <a:gd name="textAreaLeft" fmla="*/ 85680 w 639720"/>
              <a:gd name="textAreaRight" fmla="*/ 554040 w 6397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rot="15469800">
            <a:off x="5575680" y="4673880"/>
            <a:ext cx="1214280" cy="673200"/>
          </a:xfrm>
          <a:custGeom>
            <a:avLst/>
            <a:gdLst>
              <a:gd name="textAreaLeft" fmla="*/ 212400 w 1214280"/>
              <a:gd name="textAreaRight" fmla="*/ 880560 w 1214280"/>
              <a:gd name="textAreaTop" fmla="*/ 90000 h 673200"/>
              <a:gd name="textAreaBottom" fmla="*/ 583200 h 673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438280" y="5791320"/>
            <a:ext cx="6309000" cy="274680"/>
          </a:xfrm>
          <a:prstGeom prst="rect">
            <a:avLst/>
          </a:prstGeom>
          <a:solidFill>
            <a:srgbClr val="00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трибуты               Организация  процесса</a:t>
            </a:r>
            <a:r>
              <a:rPr b="1" lang="en-US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еспечение и условия процесса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6705720" y="5257800"/>
            <a:ext cx="223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ункции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–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выбор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правлений деятельности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324000" y="152280"/>
            <a:ext cx="929628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аткий экскурс в проблематику выживания общества и экологической устойчивости в дальнесрочной перспекти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Пример глобальной проблемы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“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 один год человечество сжигает огромное количество ископаемого топлива, на производство которого природа затратила миллионы лет. Общее потребление энергии в мире возрасло с 21 ЭДж в 1900 г. до 318 ЭДж в 1988г. (один эксаджоуль рамен 10</a:t>
            </a:r>
            <a:r>
              <a:rPr b="1" lang="uk-UA" sz="18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18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жоулей, или количеству тепла, получаемого при сжигании 27 млн м</a:t>
            </a:r>
            <a:r>
              <a:rPr b="1" lang="uk-UA" sz="18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ырой нефти). Из них 38% промышленного потребления топлива приходится на долю нефти, 20% приходится на долю газа и около 30% —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 долю каменного угля, который является “грязным” топливом, добыча и сжигание которого могут наносить большой вред окружающей среде. Львиную долю остальной энергии дают атомные электростанции. Однако при современном уровне потребления , как утверждают эксперты, нефти хватит на 35 лет, а каменного угля на 206 лет. Но, если иметь в виду прогноз темпов потребления для 2030 года, когда на Земле будет жить около 10 млрд, человек, эти сроки сократятся до </a:t>
            </a:r>
            <a:r>
              <a:rPr b="1" lang="uk-UA" sz="18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29 лет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</a:rPr>
              <a:t>”.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рош Р.А.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Галлопулос Э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атегия промышленного производства // В мире науки , 1980, № 11, с. 86-90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fill="hold">
                      <p:stCondLst>
                        <p:cond delay="0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324000" y="152280"/>
            <a:ext cx="9296280" cy="615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800000"/>
                </a:solidFill>
                <a:latin typeface="Times New Roman"/>
              </a:rPr>
              <a:t>Краткий экскурс в проблематику выживания общества и экологической устойчивости в дальнесрочной перспективе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800000"/>
                </a:solidFill>
                <a:latin typeface="Times New Roman"/>
              </a:rPr>
              <a:t>Дефиниция </a:t>
            </a:r>
            <a:r>
              <a:rPr b="1" lang="ru-RU" sz="2000" spc="-1" strike="noStrike">
                <a:solidFill>
                  <a:srgbClr val="8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“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За один год человечество сжигает огромное количество ископаемого топлива, на производство которого природа затратила миллионы лет. Общее потребление энергии в мире возрасло с 21 ЭДж в 1900 г. до 318 ЭДж в 1988г. (один эксаджоуль рамен 10</a:t>
            </a:r>
            <a:r>
              <a:rPr b="1" lang="uk-UA" sz="18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18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джоулей, или количеству тепла, получаемого при сжигании 27 млн м</a:t>
            </a:r>
            <a:r>
              <a:rPr b="1" lang="uk-UA" sz="1800" spc="-1" strike="noStrike" baseline="30000">
                <a:solidFill>
                  <a:srgbClr val="800000"/>
                </a:solidFill>
                <a:latin typeface="Times New Roman"/>
                <a:ea typeface="Times New Roman"/>
              </a:rPr>
              <a:t>3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сырой нефти). Из них 38% промышленного потребления топлива приходится на долю нефти, 20% приходится на долю газа и около 30% —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на долю каменного угля, который является “грязным” топливом, добыча и сжигание которого могут наносить большой вред окружающей среде. Львиную долю остальной энергии дают атомные электростанции. Однако при современном уровне потребления , как утверждают эксперты, нефти хватит на 35 лет, а каменного угля на 206 лет. Но, если иметь в виду прогноз темпов потребления для 2030 года, когда на Земле будет жить около 10 млрд, человек, эти сроки сократятся до </a:t>
            </a:r>
            <a:r>
              <a:rPr b="1" lang="uk-UA" sz="1800" spc="-1" strike="noStrike">
                <a:solidFill>
                  <a:srgbClr val="800000"/>
                </a:solidFill>
                <a:latin typeface="Symbol"/>
                <a:ea typeface="Symbol"/>
              </a:rPr>
              <a:t>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29 лет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</a:rPr>
              <a:t>”. </a:t>
            </a:r>
            <a:r>
              <a:rPr b="1" lang="uk-UA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	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Фрош Р.А.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</a:rPr>
              <a:t>,</a:t>
            </a:r>
            <a:r>
              <a:rPr b="1" i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Галлопулос Э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Стратегия промышленного производства // В мире науки , 1980, № 11, с. 86-90</a:t>
            </a:r>
            <a:r>
              <a:rPr b="0" lang="ru-RU" sz="1800" spc="-1" strike="noStrike">
                <a:solidFill>
                  <a:srgbClr val="800000"/>
                </a:solidFill>
                <a:latin typeface="Times New Roman"/>
              </a:rPr>
              <a:t>.</a:t>
            </a:r>
            <a:r>
              <a:rPr b="1" lang="ru-RU" sz="1800" spc="-1" strike="noStrike">
                <a:solidFill>
                  <a:srgbClr val="8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26T10:29:19Z</dcterms:created>
  <dc:creator>RVZ</dc:creator>
  <dc:description/>
  <dc:language>en-US</dc:language>
  <cp:lastModifiedBy>Cris</cp:lastModifiedBy>
  <dcterms:modified xsi:type="dcterms:W3CDTF">2005-10-03T14:03:52Z</dcterms:modified>
  <cp:revision>155</cp:revision>
  <dc:subject/>
  <dc:title>Презентация PowerPoint</dc:title>
</cp:coreProperties>
</file>