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141-3814-48BE-91CB-8F2E2AEF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C30-26E9-4FA8-BBF5-C2B1A0D2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5C6-3C98-447E-B8CF-1DC84C2C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67E-3902-40DE-9B8F-F630E78C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FF98-10F9-41C2-B8FA-FA1DA7AA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0E8C-1272-4296-83B5-21B88C21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F830-8C8C-48B5-A1D1-66F9C672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3DC1-A4D3-407A-B7A9-B5DD432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8B8E-A6B0-4DD8-98A2-B10DE028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61CA-09C0-4D4F-A10F-365311E1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31CD-8322-45B1-8C21-7529030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443-9433-48D6-ABF9-732CDC10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169F-3EA8-465F-8AD6-CA2CB76A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5E32-A6A6-428F-B604-4E10E97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75DB-FB26-43BB-9905-F9CB23B2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FB27-AE9E-4A06-AFC7-38D87636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C3AD-D35A-46D6-B6F5-02EEFA6E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149-00A7-43D3-B2B8-E3760B92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3A7-067D-410F-8AC4-88FFB600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478-BDA3-4B01-92A3-62A23BCA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DCF-C73A-4024-99E8-25C4551B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C1C-7656-4431-A8F1-C3CB66ED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D62-3E4C-4F5B-AA50-1720F3E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9B3-6E9F-43F2-8ADB-378FD459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F745-3C0C-41C4-9636-4A75C1E85E3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51B-CB56-4CDC-B248-BE4C7518A3B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teps@carrier.kiev.ua" TargetMode="External"/><Relationship Id="rId2" Type="http://schemas.openxmlformats.org/officeDocument/2006/relationships/hyperlink" Target="mailto:steps@ln.ua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43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Статистика науки в Украине: некоторые проблемы гармонизации с европейскими стандартами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0880" y="39625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.Ф.Кавуненк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е.н., зам.директора Цент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.В.Гончарова, научный сотрудни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нтр исследований научно-технического потенциала и истории науки им. Г.М.Доброва Национальной академии наук Украин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л/фак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+38-044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-95-9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-mail:steps@carrier.kiev.u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19520" y="0"/>
            <a:ext cx="3504240" cy="1747800"/>
            <a:chOff x="2819520" y="0"/>
            <a:chExt cx="3504240" cy="1747800"/>
          </a:xfrm>
        </p:grpSpPr>
        <p:sp>
          <p:nvSpPr>
            <p:cNvPr id="159" name=""/>
            <p:cNvSpPr/>
            <p:nvPr/>
          </p:nvSpPr>
          <p:spPr>
            <a:xfrm>
              <a:off x="3137760" y="471960"/>
              <a:ext cx="1728720" cy="527400"/>
            </a:xfrm>
            <a:custGeom>
              <a:avLst/>
              <a:gdLst/>
              <a:ahLst/>
              <a:rect l="l" t="t" r="r" b="b"/>
              <a:pathLst>
                <a:path w="2327" h="662">
                  <a:moveTo>
                    <a:pt x="2052" y="214"/>
                  </a:moveTo>
                  <a:lnTo>
                    <a:pt x="2104" y="214"/>
                  </a:lnTo>
                  <a:lnTo>
                    <a:pt x="2057" y="260"/>
                  </a:lnTo>
                  <a:lnTo>
                    <a:pt x="1931" y="395"/>
                  </a:lnTo>
                  <a:lnTo>
                    <a:pt x="1832" y="427"/>
                  </a:lnTo>
                  <a:lnTo>
                    <a:pt x="1885" y="427"/>
                  </a:lnTo>
                  <a:lnTo>
                    <a:pt x="1839" y="473"/>
                  </a:lnTo>
                  <a:lnTo>
                    <a:pt x="1839" y="473"/>
                  </a:lnTo>
                  <a:lnTo>
                    <a:pt x="1824" y="489"/>
                  </a:lnTo>
                  <a:lnTo>
                    <a:pt x="1808" y="507"/>
                  </a:lnTo>
                  <a:lnTo>
                    <a:pt x="1792" y="523"/>
                  </a:lnTo>
                  <a:lnTo>
                    <a:pt x="1776" y="541"/>
                  </a:lnTo>
                  <a:lnTo>
                    <a:pt x="1761" y="557"/>
                  </a:lnTo>
                  <a:lnTo>
                    <a:pt x="1744" y="575"/>
                  </a:lnTo>
                  <a:lnTo>
                    <a:pt x="1729" y="591"/>
                  </a:lnTo>
                  <a:lnTo>
                    <a:pt x="1713" y="609"/>
                  </a:lnTo>
                  <a:lnTo>
                    <a:pt x="1713" y="609"/>
                  </a:lnTo>
                  <a:lnTo>
                    <a:pt x="1697" y="618"/>
                  </a:lnTo>
                  <a:lnTo>
                    <a:pt x="1681" y="627"/>
                  </a:lnTo>
                  <a:lnTo>
                    <a:pt x="1665" y="633"/>
                  </a:lnTo>
                  <a:lnTo>
                    <a:pt x="1647" y="640"/>
                  </a:lnTo>
                  <a:lnTo>
                    <a:pt x="1629" y="644"/>
                  </a:lnTo>
                  <a:lnTo>
                    <a:pt x="1611" y="649"/>
                  </a:lnTo>
                  <a:lnTo>
                    <a:pt x="1591" y="651"/>
                  </a:lnTo>
                  <a:lnTo>
                    <a:pt x="1571" y="653"/>
                  </a:lnTo>
                  <a:lnTo>
                    <a:pt x="1571" y="653"/>
                  </a:lnTo>
                  <a:lnTo>
                    <a:pt x="1554" y="657"/>
                  </a:lnTo>
                  <a:lnTo>
                    <a:pt x="1536" y="660"/>
                  </a:lnTo>
                  <a:lnTo>
                    <a:pt x="1519" y="661"/>
                  </a:lnTo>
                  <a:lnTo>
                    <a:pt x="1500" y="662"/>
                  </a:lnTo>
                  <a:lnTo>
                    <a:pt x="1483" y="662"/>
                  </a:lnTo>
                  <a:lnTo>
                    <a:pt x="1466" y="662"/>
                  </a:lnTo>
                  <a:lnTo>
                    <a:pt x="1447" y="662"/>
                  </a:lnTo>
                  <a:lnTo>
                    <a:pt x="1430" y="662"/>
                  </a:lnTo>
                  <a:lnTo>
                    <a:pt x="0" y="662"/>
                  </a:lnTo>
                  <a:lnTo>
                    <a:pt x="62" y="631"/>
                  </a:lnTo>
                  <a:lnTo>
                    <a:pt x="364" y="618"/>
                  </a:lnTo>
                  <a:lnTo>
                    <a:pt x="429" y="588"/>
                  </a:lnTo>
                  <a:lnTo>
                    <a:pt x="763" y="573"/>
                  </a:lnTo>
                  <a:lnTo>
                    <a:pt x="836" y="539"/>
                  </a:lnTo>
                  <a:lnTo>
                    <a:pt x="1150" y="520"/>
                  </a:lnTo>
                  <a:lnTo>
                    <a:pt x="1231" y="485"/>
                  </a:lnTo>
                  <a:lnTo>
                    <a:pt x="1534" y="465"/>
                  </a:lnTo>
                  <a:lnTo>
                    <a:pt x="1567" y="449"/>
                  </a:lnTo>
                  <a:lnTo>
                    <a:pt x="218" y="449"/>
                  </a:lnTo>
                  <a:lnTo>
                    <a:pt x="282" y="418"/>
                  </a:lnTo>
                  <a:lnTo>
                    <a:pt x="582" y="405"/>
                  </a:lnTo>
                  <a:lnTo>
                    <a:pt x="648" y="375"/>
                  </a:lnTo>
                  <a:lnTo>
                    <a:pt x="983" y="360"/>
                  </a:lnTo>
                  <a:lnTo>
                    <a:pt x="1054" y="324"/>
                  </a:lnTo>
                  <a:lnTo>
                    <a:pt x="1369" y="308"/>
                  </a:lnTo>
                  <a:lnTo>
                    <a:pt x="1449" y="272"/>
                  </a:lnTo>
                  <a:lnTo>
                    <a:pt x="1754" y="252"/>
                  </a:lnTo>
                  <a:lnTo>
                    <a:pt x="1788" y="233"/>
                  </a:lnTo>
                  <a:lnTo>
                    <a:pt x="443" y="233"/>
                  </a:lnTo>
                  <a:lnTo>
                    <a:pt x="505" y="203"/>
                  </a:lnTo>
                  <a:lnTo>
                    <a:pt x="807" y="190"/>
                  </a:lnTo>
                  <a:lnTo>
                    <a:pt x="874" y="161"/>
                  </a:lnTo>
                  <a:lnTo>
                    <a:pt x="1209" y="145"/>
                  </a:lnTo>
                  <a:lnTo>
                    <a:pt x="1280" y="110"/>
                  </a:lnTo>
                  <a:lnTo>
                    <a:pt x="1593" y="94"/>
                  </a:lnTo>
                  <a:lnTo>
                    <a:pt x="1674" y="56"/>
                  </a:lnTo>
                  <a:lnTo>
                    <a:pt x="1978" y="39"/>
                  </a:lnTo>
                  <a:lnTo>
                    <a:pt x="2050" y="0"/>
                  </a:lnTo>
                  <a:lnTo>
                    <a:pt x="2327" y="0"/>
                  </a:lnTo>
                  <a:lnTo>
                    <a:pt x="2282" y="45"/>
                  </a:lnTo>
                  <a:lnTo>
                    <a:pt x="2157" y="182"/>
                  </a:lnTo>
                  <a:lnTo>
                    <a:pt x="2052" y="214"/>
                  </a:lnTo>
                </a:path>
              </a:pathLst>
            </a:custGeom>
            <a:solidFill>
              <a:srgbClr val="ff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16960" y="0"/>
              <a:ext cx="1728720" cy="527400"/>
            </a:xfrm>
            <a:custGeom>
              <a:avLst/>
              <a:gdLst/>
              <a:ahLst/>
              <a:rect l="l" t="t" r="r" b="b"/>
              <a:pathLst>
                <a:path w="2330" h="660">
                  <a:moveTo>
                    <a:pt x="275" y="447"/>
                  </a:moveTo>
                  <a:lnTo>
                    <a:pt x="225" y="447"/>
                  </a:lnTo>
                  <a:lnTo>
                    <a:pt x="271" y="401"/>
                  </a:lnTo>
                  <a:lnTo>
                    <a:pt x="396" y="267"/>
                  </a:lnTo>
                  <a:lnTo>
                    <a:pt x="498" y="234"/>
                  </a:lnTo>
                  <a:lnTo>
                    <a:pt x="444" y="234"/>
                  </a:lnTo>
                  <a:lnTo>
                    <a:pt x="490" y="189"/>
                  </a:lnTo>
                  <a:lnTo>
                    <a:pt x="490" y="189"/>
                  </a:lnTo>
                  <a:lnTo>
                    <a:pt x="505" y="173"/>
                  </a:lnTo>
                  <a:lnTo>
                    <a:pt x="521" y="155"/>
                  </a:lnTo>
                  <a:lnTo>
                    <a:pt x="537" y="138"/>
                  </a:lnTo>
                  <a:lnTo>
                    <a:pt x="553" y="121"/>
                  </a:lnTo>
                  <a:lnTo>
                    <a:pt x="568" y="104"/>
                  </a:lnTo>
                  <a:lnTo>
                    <a:pt x="584" y="88"/>
                  </a:lnTo>
                  <a:lnTo>
                    <a:pt x="600" y="70"/>
                  </a:lnTo>
                  <a:lnTo>
                    <a:pt x="615" y="54"/>
                  </a:lnTo>
                  <a:lnTo>
                    <a:pt x="615" y="54"/>
                  </a:lnTo>
                  <a:lnTo>
                    <a:pt x="632" y="47"/>
                  </a:lnTo>
                  <a:lnTo>
                    <a:pt x="648" y="41"/>
                  </a:lnTo>
                  <a:lnTo>
                    <a:pt x="664" y="34"/>
                  </a:lnTo>
                  <a:lnTo>
                    <a:pt x="682" y="29"/>
                  </a:lnTo>
                  <a:lnTo>
                    <a:pt x="699" y="22"/>
                  </a:lnTo>
                  <a:lnTo>
                    <a:pt x="717" y="18"/>
                  </a:lnTo>
                  <a:lnTo>
                    <a:pt x="737" y="12"/>
                  </a:lnTo>
                  <a:lnTo>
                    <a:pt x="757" y="8"/>
                  </a:lnTo>
                  <a:lnTo>
                    <a:pt x="757" y="8"/>
                  </a:lnTo>
                  <a:lnTo>
                    <a:pt x="774" y="5"/>
                  </a:lnTo>
                  <a:lnTo>
                    <a:pt x="792" y="4"/>
                  </a:lnTo>
                  <a:lnTo>
                    <a:pt x="809" y="3"/>
                  </a:lnTo>
                  <a:lnTo>
                    <a:pt x="828" y="2"/>
                  </a:lnTo>
                  <a:lnTo>
                    <a:pt x="845" y="1"/>
                  </a:lnTo>
                  <a:lnTo>
                    <a:pt x="862" y="0"/>
                  </a:lnTo>
                  <a:lnTo>
                    <a:pt x="880" y="0"/>
                  </a:lnTo>
                  <a:lnTo>
                    <a:pt x="898" y="0"/>
                  </a:lnTo>
                  <a:lnTo>
                    <a:pt x="2330" y="0"/>
                  </a:lnTo>
                  <a:lnTo>
                    <a:pt x="2267" y="31"/>
                  </a:lnTo>
                  <a:lnTo>
                    <a:pt x="1964" y="44"/>
                  </a:lnTo>
                  <a:lnTo>
                    <a:pt x="1898" y="73"/>
                  </a:lnTo>
                  <a:lnTo>
                    <a:pt x="1563" y="89"/>
                  </a:lnTo>
                  <a:lnTo>
                    <a:pt x="1492" y="124"/>
                  </a:lnTo>
                  <a:lnTo>
                    <a:pt x="1179" y="141"/>
                  </a:lnTo>
                  <a:lnTo>
                    <a:pt x="1098" y="177"/>
                  </a:lnTo>
                  <a:lnTo>
                    <a:pt x="794" y="196"/>
                  </a:lnTo>
                  <a:lnTo>
                    <a:pt x="761" y="214"/>
                  </a:lnTo>
                  <a:lnTo>
                    <a:pt x="2111" y="214"/>
                  </a:lnTo>
                  <a:lnTo>
                    <a:pt x="2047" y="243"/>
                  </a:lnTo>
                  <a:lnTo>
                    <a:pt x="1745" y="257"/>
                  </a:lnTo>
                  <a:lnTo>
                    <a:pt x="1680" y="287"/>
                  </a:lnTo>
                  <a:lnTo>
                    <a:pt x="1345" y="302"/>
                  </a:lnTo>
                  <a:lnTo>
                    <a:pt x="1273" y="336"/>
                  </a:lnTo>
                  <a:lnTo>
                    <a:pt x="960" y="355"/>
                  </a:lnTo>
                  <a:lnTo>
                    <a:pt x="880" y="389"/>
                  </a:lnTo>
                  <a:lnTo>
                    <a:pt x="574" y="410"/>
                  </a:lnTo>
                  <a:lnTo>
                    <a:pt x="541" y="427"/>
                  </a:lnTo>
                  <a:lnTo>
                    <a:pt x="1885" y="427"/>
                  </a:lnTo>
                  <a:lnTo>
                    <a:pt x="1822" y="458"/>
                  </a:lnTo>
                  <a:lnTo>
                    <a:pt x="1521" y="471"/>
                  </a:lnTo>
                  <a:lnTo>
                    <a:pt x="1455" y="501"/>
                  </a:lnTo>
                  <a:lnTo>
                    <a:pt x="1120" y="515"/>
                  </a:lnTo>
                  <a:lnTo>
                    <a:pt x="1048" y="551"/>
                  </a:lnTo>
                  <a:lnTo>
                    <a:pt x="734" y="568"/>
                  </a:lnTo>
                  <a:lnTo>
                    <a:pt x="653" y="604"/>
                  </a:lnTo>
                  <a:lnTo>
                    <a:pt x="350" y="623"/>
                  </a:lnTo>
                  <a:lnTo>
                    <a:pt x="278" y="660"/>
                  </a:lnTo>
                  <a:lnTo>
                    <a:pt x="0" y="660"/>
                  </a:lnTo>
                  <a:lnTo>
                    <a:pt x="46" y="615"/>
                  </a:lnTo>
                  <a:lnTo>
                    <a:pt x="171" y="480"/>
                  </a:lnTo>
                  <a:lnTo>
                    <a:pt x="275" y="447"/>
                  </a:lnTo>
                </a:path>
              </a:pathLst>
            </a:custGeom>
            <a:solidFill>
              <a:srgbClr val="00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1166400"/>
              <a:ext cx="350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e2f531"/>
                  </a:solidFill>
                  <a:latin typeface="Times New Roman"/>
                  <a:ea typeface="Times New Roman"/>
                </a:rPr>
                <a:t>STEPS Center</a:t>
              </a:r>
              <a:r>
                <a:rPr b="0" lang="ru-RU" sz="900" spc="-1" strike="noStrike">
                  <a:solidFill>
                    <a:srgbClr val="005856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97E7-79D0-418F-9ADC-9D7091EE991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280" y="260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c14"/>
                </a:solidFill>
                <a:latin typeface="Verdana"/>
                <a:ea typeface="Times New Roman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27332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диционная классификация по секторам науки основана на совершенно иной идеологии, чем институциональная классификац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ение социально-экономической системы – это, по сути, реинституциализация (институциональная реструктуризация) жизнедеятельности общ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сударственный институциональный сектор в Украине взял на себя существенную часть функции предпринимательского секто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9B2-F17F-416A-8C68-4080F25AE6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19320" y="2057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c14"/>
                </a:solidFill>
                <a:latin typeface="Verdana"/>
                <a:ea typeface="Times New Roman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9625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c14"/>
                </a:solidFill>
                <a:latin typeface="Times New Roman"/>
                <a:ea typeface="Times New Roman"/>
              </a:rPr>
              <a:t>E-mail: </a:t>
            </a:r>
            <a:r>
              <a:rPr b="0" lang="en-US" sz="2800" spc="-1" strike="noStrike" u="sng">
                <a:solidFill>
                  <a:srgbClr val="1ace9f"/>
                </a:solidFill>
                <a:uFillTx/>
                <a:latin typeface="Times New Roman"/>
                <a:ea typeface="Times New Roman"/>
                <a:hlinkClick r:id="rId1"/>
              </a:rPr>
              <a:t>steps@carrier.kiev.ua</a:t>
            </a:r>
            <a:r>
              <a:rPr b="0" lang="en-US" sz="2800" spc="-1" strike="noStrike">
                <a:solidFill>
                  <a:srgbClr val="e2f531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 u="sng">
                <a:solidFill>
                  <a:srgbClr val="1ace9f"/>
                </a:solidFill>
                <a:uFillTx/>
                <a:latin typeface="Times New Roman"/>
                <a:ea typeface="Times New Roman"/>
                <a:hlinkClick r:id="rId2"/>
              </a:rPr>
              <a:t>steps@ln.ua</a:t>
            </a:r>
            <a:r>
              <a:rPr b="0" lang="en-US" sz="2800" spc="-1" strike="noStrike">
                <a:solidFill>
                  <a:srgbClr val="e2f53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D69-DB90-4254-84EB-D831406EE57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f531"/>
                </a:solidFill>
                <a:latin typeface="Times New Roman"/>
              </a:rPr>
              <a:t>Структура источников финансирования ИР в Украине, %</a:t>
            </a:r>
            <a:r>
              <a:rPr b="0" lang="en-US" sz="2400" spc="-1" strike="noStrike">
                <a:solidFill>
                  <a:srgbClr val="e2f53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052640"/>
          <a:ext cx="8820000" cy="4883040"/>
        </p:xfrm>
        <a:graphic>
          <a:graphicData uri="http://schemas.openxmlformats.org/drawingml/2006/table">
            <a:tbl>
              <a:tblPr/>
              <a:tblGrid>
                <a:gridCol w="3419640"/>
                <a:gridCol w="792000"/>
                <a:gridCol w="720720"/>
                <a:gridCol w="760320"/>
                <a:gridCol w="792360"/>
                <a:gridCol w="774720"/>
                <a:gridCol w="749160"/>
                <a:gridCol w="8110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ники финансир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бюдж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местных бюдж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бюджетные сред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ственные сред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заказчиков из Укра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 иностранных заказчик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источ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0" y="62164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чник: Наукова та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нноваційна діяльность в Україні. Держкомстат України, 200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DB6-34C6-40A1-B9C2-CC0C653A15F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87280" y="260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f531"/>
                </a:solidFill>
                <a:latin typeface="Times New Roman"/>
              </a:rPr>
              <a:t>Распределение финансирования ИР в отраслевой науке по источникам финансирования, 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1341360"/>
          <a:ext cx="8820000" cy="4776840"/>
        </p:xfrm>
        <a:graphic>
          <a:graphicData uri="http://schemas.openxmlformats.org/drawingml/2006/table">
            <a:tbl>
              <a:tblPr/>
              <a:tblGrid>
                <a:gridCol w="3186000"/>
                <a:gridCol w="881280"/>
                <a:gridCol w="803160"/>
                <a:gridCol w="822240"/>
                <a:gridCol w="790560"/>
                <a:gridCol w="776520"/>
                <a:gridCol w="747720"/>
                <a:gridCol w="812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ники финансир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бюдж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местных бюдж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бюджетные сред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ственные сред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заказчиков Укра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 иностранных заказчик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источ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0" y="62164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чник: Наукова та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нноваційна діяльность в Україні. Держкомстат України, 200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AE1-F77D-4041-A335-EB5DF05D054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3333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f531"/>
                </a:solidFill>
                <a:latin typeface="Times New Roman"/>
              </a:rPr>
              <a:t>Соотношение между затратами на ИР по секторам-исполнителям и затратами на ИР по секторам-источникам финансирования (для предпринимательского и государственного институциональных секторов) (%)</a:t>
            </a:r>
            <a:r>
              <a:rPr b="0" lang="en-US" sz="2400" spc="-1" strike="noStrike">
                <a:solidFill>
                  <a:srgbClr val="e2f53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24000" y="2714760"/>
          <a:ext cx="8208360" cy="2658600"/>
        </p:xfrm>
        <a:graphic>
          <a:graphicData uri="http://schemas.openxmlformats.org/drawingml/2006/table">
            <a:tbl>
              <a:tblPr/>
              <a:tblGrid>
                <a:gridCol w="1743840"/>
                <a:gridCol w="1228320"/>
                <a:gridCol w="1365840"/>
                <a:gridCol w="1365480"/>
                <a:gridCol w="1228320"/>
                <a:gridCol w="1276560"/>
              </a:tblGrid>
              <a:tr h="96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рини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 / 42,5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0 / 41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4 / 41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 / 41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 / 41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ударст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,6 / 31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,7 / 30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,5 / 31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,8 / 28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,9 / 28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250920" y="573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*первая величина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затраты по секторам-исполнителям, вторая – затраты по секторам-источникам финансир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B91-1D6C-45E4-B747-EBE7A917A39D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125360"/>
            <a:ext cx="84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2f53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f531"/>
                </a:solidFill>
                <a:latin typeface="Times New Roman"/>
              </a:rPr>
              <a:t>Содействовать отражению при помощи статистических показателей перехода страны на рыночную мод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2f53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f531"/>
                </a:solidFill>
                <a:latin typeface="Times New Roman"/>
              </a:rPr>
              <a:t>Добиться повышения аналитического уровня данных о национальных ресурсах, получаемых на основании этих показателей, и изменения роли этих дан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2f53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f531"/>
                </a:solidFill>
                <a:latin typeface="Times New Roman"/>
              </a:rPr>
              <a:t>Получить возможность для проведения международного сравнительного анализа</a:t>
            </a:r>
            <a:r>
              <a:rPr b="0" lang="en-US" sz="2800" spc="-1" strike="noStrike">
                <a:solidFill>
                  <a:srgbClr val="e2f53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508464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тановление Кабинета Министров Украины № 326 «О концепции создания национальной статистики» и Государственная программа перехода на международную систему учета и статистики, принята 4 мая 1993 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вод национальной статистики на международные стандарты позволи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090-038B-4563-8616-9F19D7E296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95280" y="907920"/>
          <a:ext cx="8229600" cy="5686200"/>
        </p:xfrm>
        <a:graphic>
          <a:graphicData uri="http://schemas.openxmlformats.org/drawingml/2006/table">
            <a:tbl>
              <a:tblPr/>
              <a:tblGrid>
                <a:gridCol w="3898800"/>
                <a:gridCol w="4330800"/>
              </a:tblGrid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2f531"/>
                          </a:solidFill>
                          <a:latin typeface="Verdana"/>
                        </a:rPr>
                        <a:t>Классификация по секторам нау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2f531"/>
                          </a:solidFill>
                          <a:latin typeface="Verdana"/>
                        </a:rPr>
                        <a:t>Классификация Е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адем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Государ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сле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узов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Вузов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Times New Roman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одск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Предприниматель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Частный некоммер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Зарубеж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D96-A754-44DF-8FF8-83FC7D3C36E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533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f531"/>
                </a:solidFill>
                <a:latin typeface="Times New Roman"/>
              </a:rPr>
              <a:t>Структура финансирования ИР по секторам науки,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1280" y="1700280"/>
          <a:ext cx="8893440" cy="3492360"/>
        </p:xfrm>
        <a:graphic>
          <a:graphicData uri="http://schemas.openxmlformats.org/drawingml/2006/table">
            <a:tbl>
              <a:tblPr/>
              <a:tblGrid>
                <a:gridCol w="2411640"/>
                <a:gridCol w="936720"/>
                <a:gridCol w="936360"/>
                <a:gridCol w="863640"/>
                <a:gridCol w="936720"/>
                <a:gridCol w="1008000"/>
                <a:gridCol w="934920"/>
                <a:gridCol w="865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кт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</a:tr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адем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слев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1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узов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одск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e2f531"/>
                      </a:solidFill>
                    </a:lnL>
                    <a:lnR w="9360">
                      <a:solidFill>
                        <a:srgbClr val="e2f531"/>
                      </a:solidFill>
                    </a:lnR>
                    <a:lnT w="9360">
                      <a:solidFill>
                        <a:srgbClr val="e2f531"/>
                      </a:solidFill>
                    </a:lnT>
                    <a:lnB w="9360">
                      <a:solidFill>
                        <a:srgbClr val="e2f53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51840" y="5589360"/>
            <a:ext cx="807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сточник: Наукова та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інноваційна діяльность в Україні. Держкомстат України, 200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6D1-1B1F-4B00-9C19-37A39E218F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4000" y="1052640"/>
            <a:ext cx="842472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f531"/>
                </a:solidFill>
                <a:latin typeface="Times New Roman"/>
              </a:rPr>
              <a:t>Научно-технологическая деятельнос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это виды деятельности, проводимые на систематической основе, которые непосредственным образом связаны с получением, постепенным наращиванием, распространением и практическим использованием научных и технологических знаний во всех научно-технологических сферах (ОКОН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f531"/>
                </a:solidFill>
                <a:latin typeface="Times New Roman"/>
              </a:rPr>
              <a:t>Научные исследования и экспериментальные разработк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это творческая деятельность, проводимая на систематической основе с целью увеличения запаса накопленных знаний, в т.ч. знаний о человеке, культуре и обществе, а также использования этого запаса знаний в новых направлениях (КВЕ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43E-45B9-47DB-B1E2-FCF1D9DFA2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f531"/>
                </a:solidFill>
                <a:latin typeface="Arial"/>
                <a:ea typeface="Times New Roman"/>
              </a:rPr>
              <a:t>Виды научно-технической деятельности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197000"/>
            <a:ext cx="8664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ТД, проводимая библиоте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ТД, проводимая музе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вод, издание научно-технической литера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ъемка (геологическая, гидрологическая и т.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вед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бор информации об общественно-экономических явлен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ытание, стандартизация, контроль качества и т.п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нсультир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тентная и лицензионная деятельность, осуществляемая государственными организация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82E-61F9-448E-90EF-05C2AF5329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260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f531"/>
                </a:solidFill>
                <a:latin typeface="Times New Roman"/>
              </a:rPr>
              <a:t>Предпринимательский секто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002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ключает все организации, главным образом нацеленные на производство товаров или предоставление услуг (но не в сфере высшего образования) по цене, как минимум покрывающей издержки производства; а также частные некоммерческие организации, работающие главным образом на обслуживание перв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нову данного сектора составляют частные предприятия, как коммерческие, так и некоммерческие (кроме таковых, обслуживающих вузы; они включаются в вузовский сектор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E36-68FD-41D5-9091-741D63070D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f531"/>
                </a:solidFill>
                <a:latin typeface="Times New Roman"/>
              </a:rPr>
              <a:t>Государственный секто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20640"/>
            <a:ext cx="914400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севозможные организации, которые предоставляют, но в основном не на коммерческой основе, широкому кругу потребителей общераспространенные виды услуг (не считая высшего образования), которые иначе надлежащим образом не предоставить, а также осуществляют административное управление государственные делами, реализуют экономическую и социальную политику в обществе; некоммерческие организации, контролируемые и главным образом финансируемые государством (ПФ, п.168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се некоммерческие структуры, контролируемые государством и финансируемые из государственных источников, также подлежат включению в государственный сектор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независимо от вида организаций, являющихся их основными заказчикам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 Деятельность НИИ  и фондов, включаемых в данный сектор, финансируется главным образом за счет государственных субсидий, и часто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суммы финансовых средств, направляемые для “поддержки деятельности организаций” такого типа, подлежат опубликованию в государственных отчетах и бюджета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” (ПФ, п.170, курсив наш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042-93F6-4A9F-8AFD-BD153314FD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2f531"/>
                </a:solidFill>
                <a:latin typeface="Times New Roman"/>
              </a:rPr>
              <a:t>Затраты на И и Р по институциональным секторам-исполнителям (%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907920"/>
          <a:ext cx="8856720" cy="3195720"/>
        </p:xfrm>
        <a:graphic>
          <a:graphicData uri="http://schemas.openxmlformats.org/drawingml/2006/table">
            <a:tbl>
              <a:tblPr/>
              <a:tblGrid>
                <a:gridCol w="2376360"/>
                <a:gridCol w="1060560"/>
                <a:gridCol w="961920"/>
                <a:gridCol w="963720"/>
                <a:gridCol w="963720"/>
                <a:gridCol w="1376280"/>
                <a:gridCol w="1154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Институциональ-ный се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риниматель-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узов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удар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+70*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+62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+65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+64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8+64,5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+62,7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ный некоммер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3080" y="4292640"/>
          <a:ext cx="8820000" cy="2162160"/>
        </p:xfrm>
        <a:graphic>
          <a:graphicData uri="http://schemas.openxmlformats.org/drawingml/2006/table">
            <a:tbl>
              <a:tblPr/>
              <a:tblGrid>
                <a:gridCol w="1403280"/>
                <a:gridCol w="1297080"/>
                <a:gridCol w="1041480"/>
                <a:gridCol w="1269720"/>
                <a:gridCol w="1268640"/>
                <a:gridCol w="1271520"/>
                <a:gridCol w="12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2f531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6+68,7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2+69,8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+73,6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7+71,3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+68,5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1+63,7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8+67,1=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0" y="6524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сточник: Статистический ежегодник Госкомстата Украины 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“Наукова та інноваційна діяльність в Україні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DDF-D3EA-4181-A7FE-2EB86D5FF11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8:40:22Z</dcterms:created>
  <dc:creator>Кавуненко</dc:creator>
  <dc:description/>
  <dc:language>en-US</dc:language>
  <cp:lastModifiedBy>Cris</cp:lastModifiedBy>
  <dcterms:modified xsi:type="dcterms:W3CDTF">2005-10-03T14:04:40Z</dcterms:modified>
  <cp:revision>228</cp:revision>
  <dc:subject/>
  <dc:title>презентация в алушту</dc:title>
</cp:coreProperties>
</file>