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gif" ContentType="image/gif"/>
  <Override PartName="/ppt/media/image5.wmf" ContentType="image/x-wmf"/>
  <Override PartName="/ppt/media/image3.wmf" ContentType="image/x-wmf"/>
  <Override PartName="/ppt/media/image4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CD8B5-2BF9-4B1D-894D-8AC4626005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B4E72-2584-4D18-8CE1-D267845619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4BD3D-6BD0-4778-AB43-ABA7317494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C7D58-467B-41DB-990B-D797A3987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6E03B6-A06D-4FB7-9E6A-54A8C981CF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F0413-B8CF-4798-AB99-0D2C58A16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F2D0D-564D-45EB-A44A-EA2662A09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25A98-0777-494D-A8E9-CB61EB8F8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AFC42A-B755-4488-BF9A-B631304F3F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5A00F6-20A8-4A0E-9BD8-08F52827B4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B4996-0EC7-4D32-9E5A-D28A3D5B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98CDE-398A-424B-B1F8-FF1E3EAF4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1D4CC2-EA2A-424D-81D9-5EEEA34F6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40F129-2FFD-4B90-A17D-EF5B3E792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F724E1-EEFB-4D41-B5DA-0CE4B7A0E4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DBB848-F67C-451F-9BC4-0D7F2169FE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36F13-6A6A-4C8D-BBBF-8C73A2B13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7B1FB-ADC4-49B1-9F69-F3B7FF8EDC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690FB-E825-4E6D-BF2D-1D47097E2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9E3DA1-7701-4FBF-AA44-9CC964440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0F398-F687-4405-BFB1-387B0D3985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5A58-6A98-4027-AF39-F5F508278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AB7E7-2E57-44C6-A6B3-A4BB71C5E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5F94D-90CD-4A63-B154-E80E3A72B7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gi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1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 type="dt" idx="1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 type="ftr" idx="2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 type="sldNum" idx="3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CF0153-F5BB-4822-8BDE-BE2C2A93A305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70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99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7F62C6-DD5B-4DEF-BFA6-2D74DEA215E7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1828800" y="1905120"/>
            <a:ext cx="3505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33"/>
                </a:solidFill>
                <a:latin typeface="Tahoma"/>
              </a:rPr>
              <a:t>к.э.н. Макаренко И.П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62120" y="2438280"/>
            <a:ext cx="7924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Times New Roman"/>
              </a:rPr>
              <a:t>http://iee.org.ua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676520" y="457200"/>
            <a:ext cx="6400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ff"/>
                </a:solidFill>
                <a:latin typeface="Times New Roman"/>
              </a:rPr>
              <a:t>Институт эволюционной экономик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6781680" y="6172200"/>
            <a:ext cx="1828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ff"/>
                </a:solidFill>
                <a:latin typeface="Arial"/>
              </a:rPr>
              <a:t>г. Киев-2005 г.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066680" y="4724280"/>
            <a:ext cx="3276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4651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Когда мы говорим о НАЦИОНАЛЬНОЙ ИННОВАЦИОННОЙ СИСТЕМЕ (НИС), </a:t>
            </a:r>
            <a:br>
              <a:rPr sz="2800"/>
            </a:b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мы имеем в виду</a:t>
            </a:r>
            <a:endParaRPr b="0" lang="en-US" sz="28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00"/>
                </a:solidFill>
                <a:latin typeface="Arial"/>
              </a:rPr>
              <a:t>две «субстанции» инновационной системы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600200" y="3276720"/>
            <a:ext cx="601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28600" y="3048120"/>
            <a:ext cx="723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ff"/>
                </a:solidFill>
                <a:latin typeface="Arial"/>
              </a:rPr>
              <a:t>НИС– как инструмент инновационной политики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429000" y="4648320"/>
            <a:ext cx="55627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33cc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ccff"/>
                </a:solidFill>
                <a:latin typeface="Arial"/>
              </a:rPr>
              <a:t>НИС– как институциональная и экономическая среда, в которой осуществляется инновационный процесс,  это также – собственно сам инновационный процес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7162920" y="457200"/>
            <a:ext cx="1519200" cy="1633680"/>
          </a:xfrm>
          <a:prstGeom prst="rect">
            <a:avLst/>
          </a:prstGeom>
          <a:ln w="0">
            <a:noFill/>
          </a:ln>
        </p:spPr>
      </p:pic>
      <p:pic>
        <p:nvPicPr>
          <p:cNvPr id="152" name="" descr=""/>
          <p:cNvPicPr/>
          <p:nvPr/>
        </p:nvPicPr>
        <p:blipFill>
          <a:blip r:embed="rId2"/>
          <a:stretch/>
        </p:blipFill>
        <p:spPr>
          <a:xfrm>
            <a:off x="609480" y="4952880"/>
            <a:ext cx="2367000" cy="1571760"/>
          </a:xfrm>
          <a:prstGeom prst="rect">
            <a:avLst/>
          </a:prstGeom>
          <a:ln w="0">
            <a:noFill/>
          </a:ln>
        </p:spPr>
      </p:pic>
      <p:sp>
        <p:nvSpPr>
          <p:cNvPr id="153" name=""/>
          <p:cNvSpPr/>
          <p:nvPr/>
        </p:nvSpPr>
        <p:spPr>
          <a:xfrm>
            <a:off x="6019920" y="3962520"/>
            <a:ext cx="3124080" cy="761760"/>
          </a:xfrm>
          <a:prstGeom prst="wedgeRoundRectCallout">
            <a:avLst>
              <a:gd name="adj1" fmla="val -88666"/>
              <a:gd name="adj2" fmla="val 59583"/>
              <a:gd name="adj3" fmla="val 16667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институциональная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 сред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838080" y="3886200"/>
            <a:ext cx="3276720" cy="457200"/>
          </a:xfrm>
          <a:prstGeom prst="wedgeRoundRectCallout">
            <a:avLst>
              <a:gd name="adj1" fmla="val 44523"/>
              <a:gd name="adj2" fmla="val 151736"/>
              <a:gd name="adj3" fmla="val 16667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c3300"/>
                </a:solidFill>
                <a:latin typeface="Arial"/>
              </a:rPr>
              <a:t>экономическая сред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ubTitle"/>
          </p:nvPr>
        </p:nvSpPr>
        <p:spPr>
          <a:xfrm>
            <a:off x="1828800" y="1980720"/>
            <a:ext cx="640080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Инновация – это не только внедрение новых товаров, технологий и т.п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Инновация – это системный процесс, вызывающий исторически бесповоротное изменение способа производства вещей, вовлекающий в свою орбиту и инновационные и традиционные элементы экономической, политической и социальной систе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 type="title"/>
          </p:nvPr>
        </p:nvSpPr>
        <p:spPr>
          <a:xfrm>
            <a:off x="4572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Для чего это нужно?</a:t>
            </a:r>
            <a:endParaRPr b="0" lang="en-US" sz="36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157" name=""/>
          <p:cNvSpPr/>
          <p:nvPr/>
        </p:nvSpPr>
        <p:spPr>
          <a:xfrm>
            <a:off x="1600200" y="4419720"/>
            <a:ext cx="6248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2971800" y="4419720"/>
            <a:ext cx="59436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В силу естественных причин, как и любой другой процесс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(например, процесс движения автомобиля по дороге), </a:t>
            </a:r>
            <a:r>
              <a:rPr b="0" lang="en-US" sz="2000" spc="-1" strike="noStrike">
                <a:solidFill>
                  <a:srgbClr val="ffcc00"/>
                </a:solidFill>
                <a:latin typeface="Times New Roman"/>
              </a:rPr>
              <a:t>инновация встречает на своем пути сопротивление среды, в которой она протекает, поэтому ей требуется адекватная система, обеспечивающая оптимальное управлени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609480" y="4038480"/>
            <a:ext cx="1589040" cy="259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71600" y="83808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Попытки применить к инновационному процессу неадекватных инструментов управления могут вызвать нежелательный эффект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2286000" y="2819520"/>
            <a:ext cx="6324480" cy="24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 u="sng">
                <a:solidFill>
                  <a:srgbClr val="ff9933"/>
                </a:solidFill>
                <a:uFillTx/>
                <a:latin typeface="Times New Roman"/>
              </a:rPr>
              <a:t>Например</a:t>
            </a:r>
            <a:r>
              <a:rPr b="0" lang="ru-RU" sz="2400" spc="-1" strike="noStrike">
                <a:solidFill>
                  <a:srgbClr val="ff9933"/>
                </a:solidFill>
                <a:latin typeface="Times New Roman"/>
              </a:rPr>
              <a:t> </a:t>
            </a:r>
            <a:r>
              <a:rPr b="0" lang="ru-RU" sz="2400" spc="-1" strike="noStrike">
                <a:solidFill>
                  <a:srgbClr val="ffff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00"/>
                </a:solidFill>
                <a:latin typeface="Times New Roman"/>
              </a:rPr>
              <a:t>Создание в Украине свободных экономических зон (как и технопарков) с привнесением в них традиционных производств, предельная производительность которых естественно идет на убыль, превратилось в механизм скрытого изъятия доходов из Государственного бюджета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52280" y="304920"/>
            <a:ext cx="86108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Виды сил сопротивления, встречающихся на пути инновационного процесса: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81080" y="1219320"/>
            <a:ext cx="71629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cc"/>
                </a:solidFill>
                <a:latin typeface="Times New Roman"/>
              </a:rPr>
              <a:t>- </a:t>
            </a: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институционализм (привычки и тяготения к видам деятельности, ставшими традиционными, в т.ч. архетипы устойчивые психологические клише), презентизм (видение будущего как слегка приукрашенного настоящего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1803240" cy="1189080"/>
          </a:xfrm>
          <a:prstGeom prst="rect">
            <a:avLst/>
          </a:prstGeom>
          <a:ln w="0">
            <a:noFill/>
          </a:ln>
        </p:spPr>
      </p:pic>
      <p:sp>
        <p:nvSpPr>
          <p:cNvPr id="165" name=""/>
          <p:cNvSpPr/>
          <p:nvPr/>
        </p:nvSpPr>
        <p:spPr>
          <a:xfrm>
            <a:off x="1828800" y="3276720"/>
            <a:ext cx="7315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 разнообразие интересов, целей, которые преследуют люди, группы, политические партии, т.е. влиятельных людей, которых в конкретный момент могут не интересовать инновации и риски с ними связанные;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2"/>
          <a:stretch/>
        </p:blipFill>
        <p:spPr>
          <a:xfrm>
            <a:off x="0" y="4038480"/>
            <a:ext cx="1898640" cy="154008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2666880" y="4876920"/>
            <a:ext cx="647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Times New Roman"/>
              </a:rPr>
              <a:t>- традиционная экономика, сила которой всякий раз возрастает с вливанием в нее потенциала предыдущей волны инновации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609480" y="1676520"/>
            <a:ext cx="7696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1</a:t>
            </a:r>
            <a:r>
              <a:rPr b="0" lang="en-US" sz="2000" spc="-1" strike="noStrike">
                <a:solidFill>
                  <a:srgbClr val="ffff00"/>
                </a:solidFill>
                <a:latin typeface="Arial"/>
              </a:rPr>
              <a:t>. Управление не инновационным процессом, а всей экономической системой («болезнь», проявляющаяся в  неспособности отделения инновационного процесса от традиционной экономики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457200" y="304920"/>
            <a:ext cx="8001000" cy="132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ПРОБЛЕМЫ УПРАВЛЕНИЯ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ИННОВАЦИОННЫМ ПРОЦЕССОМ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aeaea"/>
                </a:solidFill>
                <a:latin typeface="Arial"/>
              </a:rPr>
              <a:t>в УКРАИНЕ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609480" y="0"/>
            <a:ext cx="1387440" cy="17319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762120" y="3124080"/>
            <a:ext cx="68580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99"/>
                </a:solidFill>
                <a:latin typeface="Tahoma"/>
              </a:rPr>
              <a:t>2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. Невозможности формирования на этой основе многоуровневой системы приоритетов и, как следствие, отсутствие эффективной долговременной стратеги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1295280" y="4343400"/>
            <a:ext cx="61722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3. Отсутствие национальной инновационной системы, как инструмента управления системным инновационным процессом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304920" y="5486400"/>
            <a:ext cx="868680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4. Доминирование в формировании и реализации приоритетов политических методов над экономическими (финансовыми) и институциональными, что требует включения </a:t>
            </a:r>
            <a:r>
              <a:rPr b="0" lang="en-US" sz="2000" spc="-1" strike="noStrike">
                <a:solidFill>
                  <a:srgbClr val="cc3300"/>
                </a:solidFill>
                <a:latin typeface="Arial"/>
              </a:rPr>
              <a:t>INN</a:t>
            </a:r>
            <a:r>
              <a:rPr b="0" lang="ru-RU" sz="2000" spc="-1" strike="noStrike">
                <a:solidFill>
                  <a:srgbClr val="cc3300"/>
                </a:solidFill>
                <a:latin typeface="Arial"/>
              </a:rPr>
              <a:t>-движения не только в политический процесс, но и выход на верхушку властной иерархии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2"/>
          <a:stretch/>
        </p:blipFill>
        <p:spPr>
          <a:xfrm>
            <a:off x="7620120" y="4114800"/>
            <a:ext cx="1276200" cy="12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/>
          <p:nvPr/>
        </p:nvSpPr>
        <p:spPr>
          <a:xfrm>
            <a:off x="1371600" y="533520"/>
            <a:ext cx="7010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9900"/>
                </a:solidFill>
                <a:latin typeface="Arial"/>
              </a:rPr>
              <a:t>Пути решения проблем и перехода экономики Украины на инновационный путь развития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295280" y="1523880"/>
            <a:ext cx="70106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1. Создание Национальной инновационной системы (НИС) как инструмента управления инновационным процессо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219320" y="2514600"/>
            <a:ext cx="70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2. Создание НИС как специальной среды, благоприятствующей системным инновациям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143000" y="3429000"/>
            <a:ext cx="7010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3. Формирование экономических компонент НИ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1066680" y="4114800"/>
            <a:ext cx="7010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4. Формирование политических компонент НИС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914400" y="4800600"/>
            <a:ext cx="70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5. Формирование приоритетов инновационного и технологического развития экономики Украины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762120" y="5486400"/>
            <a:ext cx="701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ccecff"/>
                </a:solidFill>
                <a:latin typeface="Arial"/>
              </a:rPr>
              <a:t>6. Формирование стратегии экономического развития на основе НИС и инновационных приоритетов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7T11:59:43Z</dcterms:created>
  <dc:creator>Makarenko</dc:creator>
  <dc:description/>
  <dc:language>en-US</dc:language>
  <cp:lastModifiedBy>Cris</cp:lastModifiedBy>
  <dcterms:modified xsi:type="dcterms:W3CDTF">2005-10-03T14:05:59Z</dcterms:modified>
  <cp:revision>52</cp:revision>
  <dc:subject/>
  <dc:title>Презентация PowerPoint</dc:title>
</cp:coreProperties>
</file>