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7.wmf" ContentType="image/x-wmf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34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6.png" ContentType="image/pn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6A8-504A-40C6-BE89-BF816771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BF0-C516-40B3-A45D-6B1CB82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125-18E9-4CD9-A6E9-51BF9C85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7A5-3C8B-4D83-B641-F8AB7960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907-59D4-4981-8E44-11DDD902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0384-6527-40C2-9589-5B9AEC3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14C-50EE-489B-BC8E-FCA9969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579-4497-4548-9A57-E7CFEAC9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8E6-DDE3-4F46-B383-AF18429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FE0-153A-4A22-949E-1ED16E1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0373-CF99-4015-B608-24E5865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22D-3FA1-4FEA-9352-62D02D18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21D-61E7-4985-BC24-C735F5B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C3C-A3B2-4ABD-972B-113C759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3A1-A3EE-45CF-AB3F-70A5C4A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A05-2630-4AD0-B097-405B3D9F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AA6-0DBA-4614-9A0F-F07ABBD1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F45-4DA0-4D71-A4A5-2C34E6D0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F3B-A76A-4D13-89C5-75802F3B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046-A525-4A3D-B4DA-1FF5B4D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C44-D558-4C8D-82E4-79AB4F6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F7A-63EF-41F2-9805-FD2513F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1A3-D0E3-4AC5-BBBE-740F119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979-EB29-4944-B40F-4D87650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E45A-4113-46EE-9C4E-430B287CF5D6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81B-8C36-4461-8FDF-3098141CFD9E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3680" y="-48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0e6f8"/>
              </a:gs>
              <a:gs pos="100000">
                <a:srgbClr val="1a1ff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1b33"/>
                </a:solidFill>
                <a:latin typeface="Times New Roman"/>
              </a:rPr>
              <a:t>Социальная обусловленность движения к экономике основанной на знаниях в Украине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1fd7f"/>
                </a:solidFill>
                <a:latin typeface="Times New Roman"/>
              </a:rPr>
              <a:t>Мал</a:t>
            </a:r>
            <a:r>
              <a:rPr b="1" lang="ru-RU" sz="3200" spc="-1" strike="noStrike">
                <a:solidFill>
                  <a:srgbClr val="f1fd7f"/>
                </a:solidFill>
                <a:latin typeface="Times New Roman"/>
              </a:rPr>
              <a:t>и</a:t>
            </a:r>
            <a:r>
              <a:rPr b="1" lang="uk-UA" sz="3200" spc="-1" strike="noStrike">
                <a:solidFill>
                  <a:srgbClr val="f1fd7f"/>
                </a:solidFill>
                <a:latin typeface="Times New Roman"/>
              </a:rPr>
              <a:t>цк</a:t>
            </a:r>
            <a:r>
              <a:rPr b="1" lang="ru-RU" sz="3200" spc="-1" strike="noStrike">
                <a:solidFill>
                  <a:srgbClr val="f1fd7f"/>
                </a:solidFill>
                <a:latin typeface="Times New Roman"/>
              </a:rPr>
              <a:t>ий</a:t>
            </a:r>
            <a:r>
              <a:rPr b="1" lang="uk-UA" sz="3200" spc="-1" strike="noStrike">
                <a:solidFill>
                  <a:srgbClr val="f1fd7f"/>
                </a:solidFill>
                <a:latin typeface="Times New Roman"/>
              </a:rPr>
              <a:t> Б.А.,</a:t>
            </a:r>
            <a:r>
              <a:rPr b="1" lang="uk-UA" sz="2800" spc="-1" strike="noStrike">
                <a:solidFill>
                  <a:srgbClr val="eef8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58200" y="228600"/>
            <a:ext cx="685800" cy="609480"/>
          </a:xfrm>
          <a:prstGeom prst="ellipse">
            <a:avLst/>
          </a:prstGeom>
          <a:solidFill>
            <a:srgbClr val="abe3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e2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809880"/>
            <a:ext cx="5943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директор Центра исследований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научно-технического потенциала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и  истории науки им. Г.М.Доброва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НАН Украин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ef81e"/>
                </a:solidFill>
                <a:latin typeface="Times New Roman"/>
              </a:rPr>
              <a:t>доктор экон. наук, профессор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371600"/>
          <a:ext cx="9143640" cy="518112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  <a:gridCol w="2286360"/>
                <a:gridCol w="2285640"/>
              </a:tblGrid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тра</a:t>
                      </a: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а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Занят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ы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х 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сфер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науки в р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счете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 тис. 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работающих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одовые затраты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в р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счете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на 1 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аучного работника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 $ )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Внутр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енние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трати на Н</a:t>
                      </a:r>
                      <a:r>
                        <a:rPr b="1" lang="ru-RU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О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Р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% ВВП)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8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Франц</a:t>
                      </a:r>
                      <a:r>
                        <a:rPr b="1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3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Дан</a:t>
                      </a:r>
                      <a:r>
                        <a:rPr b="1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19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ре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96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Рос</a:t>
                      </a:r>
                      <a:r>
                        <a:rPr b="1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и</a:t>
                      </a: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2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af2003"/>
                          </a:solidFill>
                          <a:latin typeface="Times New Roman"/>
                        </a:rPr>
                        <a:t>Україна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af2003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af2003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af2003"/>
                          </a:solidFill>
                          <a:latin typeface="Times New Roman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eef81e"/>
                        </a:gs>
                        <a:gs pos="100000">
                          <a:srgbClr val="2be4f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8153280" y="228600"/>
            <a:ext cx="762120" cy="68580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4008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Наука Укра</a:t>
            </a: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и</a:t>
            </a: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н</a:t>
            </a: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ы</a:t>
            </a: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в </a:t>
            </a: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мировом</a:t>
            </a: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измерени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Изменение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 основн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ы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х характеристик нау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чно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го потенц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и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ал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а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 за 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годы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 неза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висим</a:t>
            </a:r>
            <a:r>
              <a:rPr b="1" i="1" lang="uk-UA" sz="2800" spc="-1" strike="noStrike">
                <a:solidFill>
                  <a:srgbClr val="1a1ff4"/>
                </a:solidFill>
                <a:latin typeface="Times New Roman"/>
              </a:rPr>
              <a:t>ост</a:t>
            </a:r>
            <a:r>
              <a:rPr b="1" i="1" lang="ru-RU" sz="2800" spc="-1" strike="noStrike">
                <a:solidFill>
                  <a:srgbClr val="1a1ff4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1a1ff4"/>
                </a:solidFill>
                <a:latin typeface="Times New Roman"/>
              </a:rPr>
              <a:t>: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Динам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ка кадр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уки и управл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6684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1752480"/>
          <a:ext cx="8153280" cy="487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752480"/>
                    <a:ext cx="8153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324480" y="2743200"/>
            <a:ext cx="2210040" cy="3505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До 1992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следователей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ло б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льш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d02"/>
                </a:solidFill>
                <a:latin typeface="Times New Roman"/>
              </a:rPr>
              <a:t>В </a:t>
            </a: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2004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управл</a:t>
            </a:r>
            <a:r>
              <a:rPr b="1" lang="ru-RU" sz="2400" spc="-1" strike="noStrike">
                <a:solidFill>
                  <a:srgbClr val="e61d02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нц</a:t>
            </a:r>
            <a:r>
              <a:rPr b="1" lang="ru-RU" sz="2400" spc="-1" strike="noStrike">
                <a:solidFill>
                  <a:srgbClr val="e61d02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e61d02"/>
                </a:solidFill>
                <a:latin typeface="Times New Roman"/>
              </a:rPr>
              <a:t>ревосходят</a:t>
            </a: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61d02"/>
                </a:solidFill>
                <a:latin typeface="Times New Roman"/>
              </a:rPr>
              <a:t>в 7 раз</a:t>
            </a:r>
            <a:r>
              <a:rPr b="1" lang="ru-RU" sz="2400" spc="-1" strike="noStrike">
                <a:solidFill>
                  <a:srgbClr val="e61d02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57200"/>
            <a:ext cx="76212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2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1b33"/>
                </a:solidFill>
                <a:latin typeface="Times New Roman"/>
              </a:rPr>
              <a:t>Изменение состава научных кадров в Украине за годы независимости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3520" y="1447920"/>
          <a:ext cx="36576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3657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343400" y="1523880"/>
          <a:ext cx="4495680" cy="4953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1523880"/>
                    <a:ext cx="44956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124080" y="3048120"/>
            <a:ext cx="1067040" cy="1066680"/>
          </a:xfrm>
          <a:prstGeom prst="rect">
            <a:avLst/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Упала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почт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в 3 р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3276720"/>
            <a:ext cx="1218960" cy="761760"/>
          </a:xfrm>
          <a:prstGeom prst="rect">
            <a:avLst/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Упал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в 1,8 р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4343400"/>
            <a:ext cx="1143000" cy="762120"/>
          </a:xfrm>
          <a:prstGeom prst="rect">
            <a:avLst/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Выросла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1b33"/>
                </a:solidFill>
                <a:latin typeface="Times New Roman"/>
              </a:rPr>
              <a:t>в 1,25 р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атраты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 на науку в Укра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н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е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(науко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о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сть ВВП)</a:t>
            </a: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1752480"/>
          <a:ext cx="8505720" cy="485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752480"/>
                    <a:ext cx="85057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8153280" y="228600"/>
            <a:ext cx="762120" cy="68580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c30de"/>
                </a:solidFill>
                <a:latin typeface="Times New Roman"/>
              </a:rPr>
              <a:t>Динамика инновационной активности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gradFill rotWithShape="0">
            <a:gsLst>
              <a:gs pos="0">
                <a:srgbClr val="4adeee"/>
              </a:gs>
              <a:gs pos="100000">
                <a:srgbClr val="37a7b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Количество промышленных предприятий, которые занимались инновационной деятельностью уменьшается и составляет сейчас (12 – 13)%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По выпуску продукции 3-й технологический уклад составляет почти 58%, 4-й – 38%, 5-й – только (4 – 5)%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До 75% инвестиций вкладывается в 3-й технологический уклад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14400" cy="91440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c2906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1427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Какая же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 модель 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создавалась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 в Укра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н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е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?</a:t>
            </a:r>
            <a:br>
              <a:rPr sz="3000"/>
            </a:b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 – 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нновац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ионная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ил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и пол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цейско-бюрократич</a:t>
            </a:r>
            <a:r>
              <a:rPr b="1" i="1" lang="ru-RU" sz="3000" spc="-1" strike="noStrike">
                <a:solidFill>
                  <a:srgbClr val="0000dc"/>
                </a:solidFill>
                <a:latin typeface="Times New Roman"/>
              </a:rPr>
              <a:t>еская</a:t>
            </a:r>
            <a:r>
              <a:rPr b="1" i="1" lang="uk-UA" sz="3000" spc="-1" strike="noStrike">
                <a:solidFill>
                  <a:srgbClr val="0000dc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743200"/>
            <a:ext cx="2133720" cy="32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3733920"/>
            <a:ext cx="191772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вит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е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науки,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нновац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-онная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активн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ть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949480"/>
            <a:ext cx="20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b220b"/>
                </a:solidFill>
                <a:latin typeface="Times New Roman"/>
              </a:rPr>
              <a:t>Падали: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171520" y="3085560"/>
            <a:ext cx="3733560" cy="1828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ec7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c04"/>
                </a:solidFill>
                <a:latin typeface="Times New Roman"/>
              </a:rPr>
              <a:t>Доля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c04"/>
                </a:solidFill>
                <a:latin typeface="Times New Roman"/>
              </a:rPr>
              <a:t>низкотехнологических</a:t>
            </a:r>
            <a:r>
              <a:rPr b="1" lang="uk-UA" sz="2400" spc="-1" strike="noStrike">
                <a:solidFill>
                  <a:srgbClr val="480c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c04"/>
                </a:solidFill>
                <a:latin typeface="Times New Roman"/>
              </a:rPr>
              <a:t>производств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b220b"/>
                </a:solidFill>
                <a:latin typeface="Times New Roman"/>
              </a:rPr>
              <a:t>росл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184400">
            <a:off x="3657600" y="2742480"/>
            <a:ext cx="2514600" cy="53316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244b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 rot="16226400">
            <a:off x="4684320" y="3008160"/>
            <a:ext cx="4114800" cy="19051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57240">
            <a:solidFill>
              <a:srgbClr val="e02904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Чис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ленность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ап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п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арат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а 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управлі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я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сило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структур</a:t>
            </a:r>
            <a:r>
              <a:rPr b="1" lang="uk-UA" sz="2800" spc="-1" strike="noStrike">
                <a:solidFill>
                  <a:srgbClr val="e029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02904"/>
                </a:solidFill>
                <a:latin typeface="Times New Roman"/>
              </a:rPr>
              <a:t>бур</a:t>
            </a:r>
            <a:r>
              <a:rPr b="1" i="1" lang="ru-RU" sz="3600" spc="-1" strike="noStrike">
                <a:solidFill>
                  <a:srgbClr val="e02904"/>
                </a:solidFill>
                <a:latin typeface="Times New Roman"/>
              </a:rPr>
              <a:t>н</a:t>
            </a:r>
            <a:r>
              <a:rPr b="1" i="1" lang="uk-UA" sz="3600" spc="-1" strike="noStrike">
                <a:solidFill>
                  <a:srgbClr val="e02904"/>
                </a:solidFill>
                <a:latin typeface="Times New Roman"/>
              </a:rPr>
              <a:t>о нар</a:t>
            </a:r>
            <a:r>
              <a:rPr b="1" i="1" lang="ru-RU" sz="3600" spc="-1" strike="noStrike">
                <a:solidFill>
                  <a:srgbClr val="e02904"/>
                </a:solidFill>
                <a:latin typeface="Times New Roman"/>
              </a:rPr>
              <a:t>а</a:t>
            </a:r>
            <a:r>
              <a:rPr b="1" i="1" lang="uk-UA" sz="3600" spc="-1" strike="noStrike">
                <a:solidFill>
                  <a:srgbClr val="e02904"/>
                </a:solidFill>
                <a:latin typeface="Times New Roman"/>
              </a:rPr>
              <a:t>стала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184400">
            <a:off x="6553080" y="2590200"/>
            <a:ext cx="2514600" cy="53352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244b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389200">
            <a:off x="876240" y="4914720"/>
            <a:ext cx="2438280" cy="53352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1a1ff4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77320" y="304920"/>
            <a:ext cx="761760" cy="76176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И все же альтернативы инновационному пути развития экономики не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gradFill rotWithShape="0">
            <a:gsLst>
              <a:gs pos="0">
                <a:srgbClr val="40e6f8"/>
              </a:gs>
              <a:gs pos="100000">
                <a:srgbClr val="38cbd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3200" spc="-1" strike="noStrike">
                <a:solidFill>
                  <a:srgbClr val="f63218"/>
                </a:solidFill>
                <a:latin typeface="Times New Roman"/>
              </a:rPr>
              <a:t>Ведущую роль в этом играет наука, как источник новых знаний и инноваций</a:t>
            </a:r>
            <a:r>
              <a:rPr b="1" lang="ru-MD" sz="3200" spc="-1" strike="noStrike">
                <a:solidFill>
                  <a:srgbClr val="1a1ff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3200" spc="-1" strike="noStrike">
                <a:solidFill>
                  <a:srgbClr val="75115b"/>
                </a:solidFill>
                <a:latin typeface="Times New Roman"/>
              </a:rPr>
              <a:t>Ее розвитие и еффективность влияния на экономику </a:t>
            </a:r>
            <a:r>
              <a:rPr b="1" lang="ru-MD" sz="3600" spc="-1" strike="noStrike">
                <a:solidFill>
                  <a:srgbClr val="ba0e22"/>
                </a:solidFill>
                <a:latin typeface="Times New Roman"/>
              </a:rPr>
              <a:t>на 2/3</a:t>
            </a:r>
            <a:r>
              <a:rPr b="0" lang="ru-MD" sz="3200" spc="-1" strike="noStrike">
                <a:solidFill>
                  <a:srgbClr val="75115b"/>
                </a:solidFill>
                <a:latin typeface="Times New Roman"/>
              </a:rPr>
              <a:t> зависит от внешних, рамковых условий и только на треть - от самой науки и научных работников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3200" spc="-1" strike="noStrike">
                <a:solidFill>
                  <a:srgbClr val="ba0e22"/>
                </a:solidFill>
                <a:latin typeface="Times New Roman"/>
              </a:rPr>
              <a:t>Таким образом реформирование науки при неизменных условиях ее существования – практически бессмысленно</a:t>
            </a:r>
            <a:r>
              <a:rPr b="0" lang="ru-MD" sz="3200" spc="-1" strike="noStrike">
                <a:solidFill>
                  <a:srgbClr val="ba0e2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152280"/>
            <a:ext cx="76176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32560" cy="1447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dc"/>
                </a:solidFill>
                <a:latin typeface="Times New Roman"/>
              </a:rPr>
              <a:t>Что предлагается в первую очеред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105520"/>
          </a:xfrm>
          <a:prstGeom prst="rect">
            <a:avLst/>
          </a:prstGeom>
          <a:gradFill rotWithShape="0">
            <a:gsLst>
              <a:gs pos="0">
                <a:srgbClr val="3cacb8"/>
              </a:gs>
              <a:gs pos="100000">
                <a:srgbClr val="4ddceb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a0e22"/>
                </a:solidFill>
                <a:latin typeface="Times New Roman"/>
              </a:rPr>
              <a:t>Для обеспечения необходимых внешних условий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8089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0891"/>
                </a:solidFill>
                <a:latin typeface="Times New Roman"/>
              </a:rPr>
              <a:t>Разработать и утвердить законодательно принципы и стратегические ориентиры построения в Украине экономики и общества, базирующихся на знании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8089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0891"/>
                </a:solidFill>
                <a:latin typeface="Times New Roman"/>
              </a:rPr>
              <a:t>Ввести в практику государственного управления 5-летнее индикативное планирование социально-экономического и научно-технологического развития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8089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0891"/>
                </a:solidFill>
                <a:latin typeface="Times New Roman"/>
              </a:rPr>
              <a:t>Разработать и обеспечить реализацию государственной программы повышения инновационной культуры общества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8089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0891"/>
                </a:solidFill>
                <a:latin typeface="Times New Roman"/>
              </a:rPr>
              <a:t>Выйти на научно обоснованные нормы эффективного финансирования науки и инновационного развития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8089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0891"/>
                </a:solidFill>
                <a:latin typeface="Times New Roman"/>
              </a:rPr>
              <a:t>Создать в Украине 5млн. рабочих мест в средне и высокотехнологических отраслях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53280" y="228600"/>
            <a:ext cx="76212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283680"/>
            <a:ext cx="833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dc"/>
                </a:solidFill>
                <a:latin typeface="Times New Roman"/>
              </a:rPr>
              <a:t>Для научного обеспечения</a:t>
            </a:r>
            <a:r>
              <a:rPr b="1" i="1" lang="ru-RU" sz="4400" spc="-1" strike="noStrike">
                <a:solidFill>
                  <a:srgbClr val="0000d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dc"/>
                </a:solidFill>
                <a:latin typeface="Times New Roman"/>
              </a:rPr>
              <a:t>этих мер уже разработаны</a:t>
            </a:r>
            <a:r>
              <a:rPr b="1" lang="uk-UA" sz="3600" spc="-1" strike="noStrike">
                <a:solidFill>
                  <a:srgbClr val="33333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Подходы и теоретические основы формирования в Украине знаниевого общества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проект инновационной модели структурной перестройки экономики Украины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методичкие основы прогнозирования и индикативного планирования научно-технологического развития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Предложения о новой схеме государственного управления научно-технологическим и инновационным развитием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ca0"/>
                </a:solidFill>
                <a:latin typeface="Times New Roman"/>
              </a:rPr>
              <a:t>Возможные варианты выхода на научно-обоснованные параметры финансирования науки (умеренно-инновационный и вариант решительного поворота на инновационный путь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53280" y="152280"/>
            <a:ext cx="762120" cy="83844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Перспектив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ы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нновац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ион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ного р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а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звит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ия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 Укра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н</a:t>
            </a: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В соответствии с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формально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одобренным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правительственным 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ком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тетом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умерен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о-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новац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он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ы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м вар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антом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же в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этом год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м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могли б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наблюдатьощутимое влияние 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науки на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э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коном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ку,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о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о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 не б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ыл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 реал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зован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По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вар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ант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“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е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тельн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ого поворот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а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”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же в 2006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год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б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ла б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возможно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сть в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йти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по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науко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кости 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ВВП 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а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е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вропейский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уро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вень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чт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о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п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озволило б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ы существенн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о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силит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вли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яние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нновац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он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ного фактора роста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Предложена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новац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он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на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я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 модель структурно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й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 пере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стройк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 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э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коном</a:t>
            </a:r>
            <a:r>
              <a:rPr b="1" lang="ru-RU" sz="2400" spc="-1" strike="noStrike" u="sng">
                <a:solidFill>
                  <a:srgbClr val="ba0e22"/>
                </a:solidFill>
                <a:uFillTx/>
                <a:latin typeface="Times New Roman"/>
              </a:rPr>
              <a:t>и</a:t>
            </a:r>
            <a:r>
              <a:rPr b="1" lang="uk-UA" sz="2400" spc="-1" strike="noStrike" u="sng">
                <a:solidFill>
                  <a:srgbClr val="ba0e22"/>
                </a:solidFill>
                <a:uFillTx/>
                <a:latin typeface="Times New Roman"/>
              </a:rPr>
              <a:t>к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пред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усматривает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дос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тигнуть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50% в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клада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в рост ВВП за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счет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нновац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ион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ного фактор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а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в течение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ближайших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 7 – 8 </a:t>
            </a:r>
            <a:r>
              <a:rPr b="1" lang="ru-RU" sz="2400" spc="-1" strike="noStrike">
                <a:solidFill>
                  <a:srgbClr val="ba0e22"/>
                </a:solidFill>
                <a:latin typeface="Times New Roman"/>
              </a:rPr>
              <a:t>лет</a:t>
            </a:r>
            <a:r>
              <a:rPr b="1" lang="uk-UA" sz="2400" spc="-1" strike="noStrike">
                <a:solidFill>
                  <a:srgbClr val="ba0e2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77320" y="228600"/>
            <a:ext cx="838080" cy="83808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83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Сравнение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 динам</a:t>
            </a: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и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ки ВВП “р</a:t>
            </a: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а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зви</a:t>
            </a: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ты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х” </a:t>
            </a: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стран и развивающихся с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 1750 </a:t>
            </a:r>
            <a:r>
              <a:rPr b="1" i="1" lang="ru-RU" sz="3200" spc="-1" strike="noStrike">
                <a:solidFill>
                  <a:srgbClr val="0000dc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d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621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464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752480"/>
          <a:ext cx="7848720" cy="47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7848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010280" y="2895480"/>
            <a:ext cx="1981440" cy="327672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о 1850 г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ІІІ мир”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давал почт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двое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больший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ВП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1d02"/>
                </a:solidFill>
                <a:latin typeface="Times New Roman"/>
              </a:rPr>
              <a:t>ХХ столетие –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61d02"/>
                </a:solidFill>
                <a:uFillTx/>
                <a:latin typeface="Times New Roman"/>
              </a:rPr>
              <a:t>именно НТП</a:t>
            </a:r>
            <a:r>
              <a:rPr b="1" lang="ru-RU" sz="1800" spc="-1" strike="noStrike" u="sng">
                <a:solidFill>
                  <a:srgbClr val="e61d02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1d02"/>
                </a:solidFill>
                <a:latin typeface="Times New Roman"/>
              </a:rPr>
              <a:t>позволил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1d02"/>
                </a:solidFill>
                <a:latin typeface="Times New Roman"/>
              </a:rPr>
              <a:t>странам Запада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1d02"/>
                </a:solidFill>
                <a:latin typeface="Times New Roman"/>
              </a:rPr>
              <a:t>Оставить его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1d02"/>
                </a:solidFill>
                <a:latin typeface="Times New Roman"/>
              </a:rPr>
              <a:t>далеко сзад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0"/>
            <a:ext cx="685800" cy="609480"/>
          </a:xfrm>
          <a:prstGeom prst="ellipse">
            <a:avLst/>
          </a:prstGeom>
          <a:solidFill>
            <a:srgbClr val="c6d7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Внутр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енние</a:t>
            </a: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 фактор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ы</a:t>
            </a: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, 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зависящие</a:t>
            </a: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 в основном 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от</a:t>
            </a: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 нау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чного</a:t>
            </a:r>
            <a:r>
              <a:rPr b="1" i="1" lang="uk-UA" sz="3600" spc="-1" strike="noStrike">
                <a:solidFill>
                  <a:srgbClr val="3c30de"/>
                </a:solidFill>
                <a:latin typeface="Times New Roman"/>
              </a:rPr>
              <a:t> с</a:t>
            </a:r>
            <a:r>
              <a:rPr b="1" i="1" lang="ru-RU" sz="3600" spc="-1" strike="noStrike">
                <a:solidFill>
                  <a:srgbClr val="3c30de"/>
                </a:solidFill>
                <a:latin typeface="Times New Roman"/>
              </a:rPr>
              <a:t>ообществ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Морально-психолог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ическая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атмосфера в кол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л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ективах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Уро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вень нау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чной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э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тики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Об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ъе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єктив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зац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я оц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нки нау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чны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х результат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в;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Ответственно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сть нау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чны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х кол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л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ектив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в за 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освобождение от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накоп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л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н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ного кадрового баласт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а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Проти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водействие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бюрократизац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ии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науки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Утвержден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ие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чн</a:t>
            </a:r>
            <a:r>
              <a:rPr b="1" i="1" lang="uk-UA" sz="2800" spc="-1" strike="noStrike">
                <a:solidFill>
                  <a:srgbClr val="8c2906"/>
                </a:solidFill>
                <a:latin typeface="Times New Roman"/>
              </a:rPr>
              <a:t>ого </a:t>
            </a:r>
            <a:r>
              <a:rPr b="1" i="1" lang="ru-RU" sz="2800" spc="-1" strike="noStrike">
                <a:solidFill>
                  <a:srgbClr val="8c2906"/>
                </a:solidFill>
                <a:latin typeface="Times New Roman"/>
              </a:rPr>
              <a:t>мировоззрения</a:t>
            </a:r>
            <a:r>
              <a:rPr b="0" i="1" lang="uk-UA" sz="2800" spc="-1" strike="noStrike">
                <a:solidFill>
                  <a:srgbClr val="f5531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1880" y="914400"/>
            <a:ext cx="762120" cy="83808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У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же р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а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зр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а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б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ота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но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сть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профес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иональны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сследования по этим вопросам 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р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зр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аб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тан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осно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рекомендац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проект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ряд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зако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в (напри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мер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“о п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дготовк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ат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т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естац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кадр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в”)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проект кодекс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ой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э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тики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сть мног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пр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дложен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й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у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че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кол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л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екти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в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228600"/>
            <a:ext cx="76176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Что необходимо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 для 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и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х реал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и</a:t>
            </a:r>
            <a:r>
              <a:rPr b="1" i="1" lang="uk-UA" sz="4400" spc="-1" strike="noStrike">
                <a:solidFill>
                  <a:srgbClr val="3c30de"/>
                </a:solidFill>
                <a:latin typeface="Times New Roman"/>
              </a:rPr>
              <a:t>зац</a:t>
            </a: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и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знани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тветственност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у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че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за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удьбу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ки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траны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возрождени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принцип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в самоорга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зац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автономност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ы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кол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л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екти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н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едопуще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прямого 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мешательства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вл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т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в управл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ым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по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с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ком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Укр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н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нуж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на “пронау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чна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” вл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ть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 нез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висима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, об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ъе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ктивн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в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сво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х в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ывод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ах, активна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ответственна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 “про</a:t>
            </a: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государственная</a:t>
            </a:r>
            <a:r>
              <a:rPr b="1" lang="uk-UA" sz="2800" spc="-1" strike="noStrike">
                <a:solidFill>
                  <a:srgbClr val="8c2906"/>
                </a:solidFill>
                <a:latin typeface="Times New Roman"/>
              </a:rPr>
              <a:t>” наука</a:t>
            </a:r>
            <a:r>
              <a:rPr b="1" lang="uk-UA" sz="2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0"/>
            <a:ext cx="91440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Эволюция кадрового потенциала НАН Украин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6228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0" y="2895480"/>
            <a:ext cx="1600200" cy="990720"/>
          </a:xfrm>
          <a:prstGeom prst="downArrowCallout">
            <a:avLst>
              <a:gd name="adj1" fmla="val 34296"/>
              <a:gd name="adj2" fmla="val 36596"/>
              <a:gd name="adj3" fmla="val 33014"/>
              <a:gd name="adj4" fmla="val 56995"/>
            </a:avLst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1b33"/>
                </a:solidFill>
                <a:latin typeface="Times New Roman"/>
              </a:rPr>
              <a:t>В 2,25 раза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4267080"/>
            <a:ext cx="1295640" cy="685800"/>
          </a:xfrm>
          <a:prstGeom prst="downArrowCallout">
            <a:avLst>
              <a:gd name="adj1" fmla="val 47235"/>
              <a:gd name="adj2" fmla="val 47231"/>
              <a:gd name="adj3" fmla="val 16667"/>
              <a:gd name="adj4" fmla="val 69968"/>
            </a:avLst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В 1,47 р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 rot="20267400">
            <a:off x="5916960" y="4548240"/>
            <a:ext cx="1290960" cy="455760"/>
          </a:xfrm>
          <a:prstGeom prst="rect">
            <a:avLst/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В 1,4 р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795600">
            <a:off x="5715000" y="5334120"/>
            <a:ext cx="2739960" cy="990360"/>
          </a:xfrm>
          <a:prstGeom prst="leftArrowCallout">
            <a:avLst>
              <a:gd name="adj1" fmla="val 21511"/>
              <a:gd name="adj2" fmla="val 26935"/>
              <a:gd name="adj3" fmla="val 46175"/>
              <a:gd name="adj4" fmla="val 73673"/>
            </a:avLst>
          </a:prstGeom>
          <a:solidFill>
            <a:srgbClr val="fdeae3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Численность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докторов даже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31b33"/>
                </a:solidFill>
                <a:latin typeface="Times New Roman"/>
              </a:rPr>
              <a:t>выросла на 28%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Три возможных варианта</a:t>
            </a:r>
            <a:r>
              <a:rPr b="1" i="1" lang="uk-UA" sz="3600" spc="-1" strike="noStrike">
                <a:solidFill>
                  <a:srgbClr val="1a1ff4"/>
                </a:solidFill>
                <a:latin typeface="Times New Roman"/>
              </a:rPr>
              <a:t> процес</a:t>
            </a:r>
            <a:r>
              <a:rPr b="1" i="1" lang="ru-RU" sz="3600" spc="-1" strike="noStrike">
                <a:solidFill>
                  <a:srgbClr val="1a1ff4"/>
                </a:solidFill>
                <a:latin typeface="Times New Roman"/>
              </a:rPr>
              <a:t>са воспроизводств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95480"/>
            <a:ext cx="533520" cy="533520"/>
          </a:xfrm>
          <a:prstGeom prst="ellipse">
            <a:avLst/>
          </a:prstGeom>
          <a:noFill/>
          <a:ln w="19080">
            <a:solidFill>
              <a:srgbClr val="1a1f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533520" cy="533160"/>
          </a:xfrm>
          <a:prstGeom prst="ellipse">
            <a:avLst/>
          </a:prstGeom>
          <a:noFill/>
          <a:ln w="9360">
            <a:solidFill>
              <a:srgbClr val="1a1f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447920"/>
            <a:ext cx="8458200" cy="5181120"/>
            <a:chOff x="380880" y="1447920"/>
            <a:chExt cx="8458200" cy="5181120"/>
          </a:xfrm>
        </p:grpSpPr>
        <p:sp>
          <p:nvSpPr>
            <p:cNvPr id="108" name=""/>
            <p:cNvSpPr/>
            <p:nvPr/>
          </p:nvSpPr>
          <p:spPr>
            <a:xfrm>
              <a:off x="7924680" y="3286440"/>
              <a:ext cx="914400" cy="41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a1ff4"/>
                  </a:solidFill>
                  <a:latin typeface="Times New Roman"/>
                </a:rPr>
                <a:t>Товар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1447920"/>
              <a:ext cx="2514600" cy="501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246c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246c39"/>
                  </a:solidFill>
                  <a:latin typeface="Times New Roman"/>
                </a:rPr>
                <a:t>Природ</a:t>
              </a:r>
              <a:r>
                <a:rPr b="1" i="1" lang="ru-RU" sz="2000" spc="-1" strike="noStrike">
                  <a:solidFill>
                    <a:srgbClr val="246c39"/>
                  </a:solidFill>
                  <a:latin typeface="Times New Roman"/>
                </a:rPr>
                <a:t>ые</a:t>
              </a:r>
              <a:r>
                <a:rPr b="1" i="1" lang="uk-UA" sz="2000" spc="-1" strike="noStrike">
                  <a:solidFill>
                    <a:srgbClr val="246c39"/>
                  </a:solidFill>
                  <a:latin typeface="Times New Roman"/>
                </a:rPr>
                <a:t> ресурс</a:t>
              </a:r>
              <a:r>
                <a:rPr b="1" i="1" lang="ru-RU" sz="2000" spc="-1" strike="noStrike">
                  <a:solidFill>
                    <a:srgbClr val="246c39"/>
                  </a:solidFill>
                  <a:latin typeface="Times New Roman"/>
                </a:rPr>
                <a:t>ы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1447920"/>
              <a:ext cx="1905120" cy="58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2040f"/>
                  </a:solidFill>
                  <a:latin typeface="Times New Roman"/>
                </a:rPr>
                <a:t>Производст</a:t>
              </a:r>
              <a:r>
                <a:rPr b="1" i="1" lang="uk-UA" sz="2000" spc="-1" strike="noStrike">
                  <a:solidFill>
                    <a:srgbClr val="62040f"/>
                  </a:solidFill>
                  <a:latin typeface="Times New Roman"/>
                </a:rPr>
                <a:t>во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1680" y="1447920"/>
              <a:ext cx="1219320" cy="417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a1ff4"/>
                  </a:solidFill>
                  <a:latin typeface="Times New Roman"/>
                </a:rPr>
                <a:t>Товар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PlaceHolder 2"/>
            <p:cNvSpPr>
              <a:spLocks noGrp="1"/>
            </p:cNvSpPr>
            <p:nvPr>
              <p:ph/>
            </p:nvPr>
          </p:nvSpPr>
          <p:spPr>
            <a:xfrm>
              <a:off x="5714640" y="2199600"/>
              <a:ext cx="1219320" cy="417960"/>
            </a:xfrm>
            <a:prstGeom prst="rect">
              <a:avLst/>
            </a:prstGeom>
            <a:blipFill rotWithShape="0">
              <a:blip r:embed="rId6"/>
              <a:tile tx="0" ty="0" sx="100000" sy="100000" algn="ctr"/>
            </a:blipFill>
            <a:ln w="38160">
              <a:solidFill>
                <a:srgbClr val="eea920"/>
              </a:solidFill>
              <a:miter/>
            </a:ln>
          </p:spPr>
          <p:txBody>
            <a:bodyPr anchor="t">
              <a:normAutofit/>
            </a:bodyPr>
            <a:p>
              <a:pPr marL="343080" indent="0" algn="ctr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ef1f47"/>
                  </a:solidFill>
                  <a:latin typeface="Times New Roman"/>
                </a:rPr>
                <a:t>Деньги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52520" y="2450520"/>
              <a:ext cx="762120" cy="0"/>
            </a:xfrm>
            <a:prstGeom prst="line">
              <a:avLst/>
            </a:prstGeom>
            <a:ln w="38160">
              <a:solidFill>
                <a:srgbClr val="f93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952880" y="2032920"/>
              <a:ext cx="0" cy="417600"/>
            </a:xfrm>
            <a:prstGeom prst="line">
              <a:avLst/>
            </a:prstGeom>
            <a:ln w="3816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1698480"/>
              <a:ext cx="380880" cy="0"/>
            </a:xfrm>
            <a:prstGeom prst="line">
              <a:avLst/>
            </a:prstGeom>
            <a:ln w="38160">
              <a:solidFill>
                <a:srgbClr val="246c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1698480"/>
              <a:ext cx="6094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7480" y="1865880"/>
              <a:ext cx="0" cy="501120"/>
            </a:xfrm>
            <a:prstGeom prst="line">
              <a:avLst/>
            </a:prstGeom>
            <a:ln w="572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3960" y="2367360"/>
              <a:ext cx="533160" cy="0"/>
            </a:xfrm>
            <a:prstGeom prst="line">
              <a:avLst/>
            </a:prstGeom>
            <a:ln w="57240">
              <a:solidFill>
                <a:srgbClr val="c30b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5041440"/>
              <a:ext cx="914400" cy="835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7d3f7f"/>
                  </a:solidFill>
                  <a:latin typeface="Times New Roman"/>
                </a:rPr>
                <a:t>Знан</a:t>
              </a:r>
              <a:r>
                <a:rPr b="1" i="1" lang="ru-RU" sz="2000" spc="-1" strike="noStrike">
                  <a:solidFill>
                    <a:srgbClr val="7d3f7f"/>
                  </a:solidFill>
                  <a:latin typeface="Times New Roman"/>
                </a:rPr>
                <a:t>и</a:t>
              </a:r>
              <a:r>
                <a:rPr b="1" i="1" lang="uk-UA" sz="2000" spc="-1" strike="noStrike">
                  <a:solidFill>
                    <a:srgbClr val="7d3f7f"/>
                  </a:solidFill>
                  <a:latin typeface="Times New Roman"/>
                </a:rPr>
                <a:t>я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324600" y="5192280"/>
              <a:ext cx="1504080" cy="533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a63d24"/>
                  </a:solidFill>
                  <a:latin typeface="Times New Roman"/>
                </a:rPr>
                <a:t>Разработки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957560"/>
              <a:ext cx="990720" cy="100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Знан</a:t>
              </a: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</a:t>
              </a: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я –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товар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459040"/>
              <a:ext cx="30492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5375520"/>
              <a:ext cx="38088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5375520"/>
              <a:ext cx="38088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5542560"/>
              <a:ext cx="458640" cy="144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4120" y="6211080"/>
              <a:ext cx="1218960" cy="417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eea9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ef1f47"/>
                  </a:solidFill>
                  <a:latin typeface="Times New Roman"/>
                </a:rPr>
                <a:t>Деньги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8880" y="5793480"/>
              <a:ext cx="0" cy="585000"/>
            </a:xfrm>
            <a:prstGeom prst="line">
              <a:avLst/>
            </a:prstGeom>
            <a:ln w="57240">
              <a:solidFill>
                <a:srgbClr val="f93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552720" y="6378480"/>
              <a:ext cx="685800" cy="0"/>
            </a:xfrm>
            <a:prstGeom prst="line">
              <a:avLst/>
            </a:prstGeom>
            <a:ln w="572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981080" y="6545520"/>
              <a:ext cx="3354480" cy="144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8480" y="6211080"/>
              <a:ext cx="0" cy="33408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81080" y="6294960"/>
              <a:ext cx="0" cy="25056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8840" y="3037320"/>
              <a:ext cx="914400" cy="8355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7d3f7f"/>
                  </a:solidFill>
                  <a:latin typeface="Times New Roman"/>
                </a:rPr>
                <a:t>Знан</a:t>
              </a:r>
              <a:r>
                <a:rPr b="1" i="1" lang="ru-RU" sz="2000" spc="-1" strike="noStrike">
                  <a:solidFill>
                    <a:srgbClr val="7d3f7f"/>
                  </a:solidFill>
                  <a:latin typeface="Times New Roman"/>
                </a:rPr>
                <a:t>и</a:t>
              </a:r>
              <a:r>
                <a:rPr b="1" i="1" lang="uk-UA" sz="2000" spc="-1" strike="noStrike">
                  <a:solidFill>
                    <a:srgbClr val="7d3f7f"/>
                  </a:solidFill>
                  <a:latin typeface="Times New Roman"/>
                </a:rPr>
                <a:t>я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2867400" y="3270240"/>
              <a:ext cx="1504080" cy="5335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a63d24"/>
                  </a:solidFill>
                  <a:latin typeface="Times New Roman"/>
                </a:rPr>
                <a:t>Р</a:t>
              </a:r>
              <a:r>
                <a:rPr b="1" i="1" lang="ru-RU" sz="1800" spc="-1" strike="noStrike">
                  <a:solidFill>
                    <a:srgbClr val="a63d24"/>
                  </a:solidFill>
                  <a:latin typeface="Times New Roman"/>
                </a:rPr>
                <a:t>а</a:t>
              </a:r>
              <a:r>
                <a:rPr b="1" i="1" lang="uk-UA" sz="1800" spc="-1" strike="noStrike">
                  <a:solidFill>
                    <a:srgbClr val="a63d24"/>
                  </a:solidFill>
                  <a:latin typeface="Times New Roman"/>
                </a:rPr>
                <a:t>зр</a:t>
              </a:r>
              <a:r>
                <a:rPr b="1" i="1" lang="ru-RU" sz="1800" spc="-1" strike="noStrike">
                  <a:solidFill>
                    <a:srgbClr val="a63d24"/>
                  </a:solidFill>
                  <a:latin typeface="Times New Roman"/>
                </a:rPr>
                <a:t>а</a:t>
              </a:r>
              <a:r>
                <a:rPr b="1" i="1" lang="uk-UA" sz="1800" spc="-1" strike="noStrike">
                  <a:solidFill>
                    <a:srgbClr val="a63d24"/>
                  </a:solidFill>
                  <a:latin typeface="Times New Roman"/>
                </a:rPr>
                <a:t>б</a:t>
              </a:r>
              <a:r>
                <a:rPr b="1" i="1" lang="ru-RU" sz="1800" spc="-1" strike="noStrike">
                  <a:solidFill>
                    <a:srgbClr val="a63d24"/>
                  </a:solidFill>
                  <a:latin typeface="Times New Roman"/>
                </a:rPr>
                <a:t>от</a:t>
              </a:r>
              <a:r>
                <a:rPr b="1" i="1" lang="uk-UA" sz="1800" spc="-1" strike="noStrike">
                  <a:solidFill>
                    <a:srgbClr val="a63d24"/>
                  </a:solidFill>
                  <a:latin typeface="Times New Roman"/>
                </a:rPr>
                <a:t>ки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16240" y="3120840"/>
              <a:ext cx="990720" cy="100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Знан</a:t>
              </a: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</a:t>
              </a: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я –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товар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861080" y="3351240"/>
              <a:ext cx="1253160" cy="457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</a:t>
              </a:r>
              <a:r>
                <a:rPr b="1" i="1" lang="uk-UA" sz="1800" spc="-1" strike="noStrike">
                  <a:solidFill>
                    <a:srgbClr val="00264c"/>
                  </a:solidFill>
                  <a:latin typeface="Times New Roman"/>
                </a:rPr>
                <a:t>нновац</a:t>
              </a: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и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9080" y="3287880"/>
              <a:ext cx="1828800" cy="501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2040f"/>
                  </a:solidFill>
                  <a:latin typeface="Times New Roman"/>
                </a:rPr>
                <a:t>Производс</a:t>
              </a:r>
              <a:r>
                <a:rPr b="1" i="1" lang="uk-UA" sz="2000" spc="-1" strike="noStrike">
                  <a:solidFill>
                    <a:srgbClr val="62040f"/>
                  </a:solidFill>
                  <a:latin typeface="Times New Roman"/>
                </a:rPr>
                <a:t>тво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3453480"/>
              <a:ext cx="30492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71800" y="3453480"/>
              <a:ext cx="38088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3620880"/>
              <a:ext cx="22860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520" y="3620880"/>
              <a:ext cx="152280" cy="0"/>
            </a:xfrm>
            <a:prstGeom prst="line">
              <a:avLst/>
            </a:prstGeom>
            <a:ln w="3816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3620880"/>
              <a:ext cx="152280" cy="0"/>
            </a:xfrm>
            <a:prstGeom prst="line">
              <a:avLst/>
            </a:prstGeom>
            <a:ln w="2844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96080" y="3537000"/>
              <a:ext cx="228600" cy="0"/>
            </a:xfrm>
            <a:prstGeom prst="line">
              <a:avLst/>
            </a:prstGeom>
            <a:ln w="28440">
              <a:solidFill>
                <a:srgbClr val="1a1f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7120" y="4205520"/>
              <a:ext cx="1218960" cy="4179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eea9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ef1f47"/>
                  </a:solidFill>
                  <a:latin typeface="Times New Roman"/>
                </a:rPr>
                <a:t>Деньги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1880" y="3704040"/>
              <a:ext cx="0" cy="585000"/>
            </a:xfrm>
            <a:prstGeom prst="line">
              <a:avLst/>
            </a:prstGeom>
            <a:ln w="57240">
              <a:solidFill>
                <a:srgbClr val="f93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95720" y="4289040"/>
              <a:ext cx="685800" cy="0"/>
            </a:xfrm>
            <a:prstGeom prst="line">
              <a:avLst/>
            </a:prstGeom>
            <a:ln w="572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934320" y="3787920"/>
              <a:ext cx="0" cy="417600"/>
            </a:xfrm>
            <a:prstGeom prst="line">
              <a:avLst/>
            </a:prstGeom>
            <a:ln w="3816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523520" y="4456080"/>
              <a:ext cx="4953240" cy="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86400" y="4205520"/>
              <a:ext cx="0" cy="25056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57600" y="4288680"/>
              <a:ext cx="0" cy="16668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523880" y="4205520"/>
              <a:ext cx="0" cy="250560"/>
            </a:xfrm>
            <a:prstGeom prst="line">
              <a:avLst/>
            </a:prstGeom>
            <a:ln w="28440">
              <a:solidFill>
                <a:srgbClr val="f934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2200" y="5208120"/>
              <a:ext cx="2286000" cy="6685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a63d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a63d24"/>
                  </a:solidFill>
                  <a:latin typeface="Times New Roman"/>
                </a:rPr>
                <a:t>Продаж</a:t>
              </a:r>
              <a:r>
                <a:rPr b="1" i="1" lang="ru-RU" sz="2000" spc="-1" strike="noStrike">
                  <a:solidFill>
                    <a:srgbClr val="a63d24"/>
                  </a:solidFill>
                  <a:latin typeface="Times New Roman"/>
                </a:rPr>
                <a:t>а</a:t>
              </a:r>
              <a:r>
                <a:rPr b="1" i="1" lang="uk-UA" sz="2000" spc="-1" strike="noStrike">
                  <a:solidFill>
                    <a:srgbClr val="a63d24"/>
                  </a:solidFill>
                  <a:latin typeface="Times New Roman"/>
                </a:rPr>
                <a:t> за </a:t>
              </a:r>
              <a:r>
                <a:rPr b="1" i="1" lang="ru-RU" sz="2000" spc="-1" strike="noStrike">
                  <a:solidFill>
                    <a:srgbClr val="a63d24"/>
                  </a:solidFill>
                  <a:latin typeface="Times New Roman"/>
                </a:rPr>
                <a:t>рубеж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1187280" y="5272200"/>
              <a:ext cx="1587600" cy="4572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сследования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730080" y="3182400"/>
              <a:ext cx="1587240" cy="4572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1a1f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264c"/>
                  </a:solidFill>
                  <a:latin typeface="Times New Roman"/>
                </a:rPr>
                <a:t>исследования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2534400"/>
              <a:ext cx="4114800" cy="0"/>
            </a:xfrm>
            <a:prstGeom prst="line">
              <a:avLst/>
            </a:prstGeom>
            <a:ln w="28440">
              <a:solidFill>
                <a:srgbClr val="6204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0880" y="4623480"/>
              <a:ext cx="4267440" cy="0"/>
            </a:xfrm>
            <a:prstGeom prst="line">
              <a:avLst/>
            </a:prstGeom>
            <a:ln w="28440">
              <a:solidFill>
                <a:srgbClr val="6204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1752480"/>
            <a:ext cx="533520" cy="457200"/>
          </a:xfrm>
          <a:prstGeom prst="ellipse">
            <a:avLst/>
          </a:prstGeom>
          <a:noFill/>
          <a:ln w="19080">
            <a:solidFill>
              <a:srgbClr val="1a1f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29600" y="228600"/>
            <a:ext cx="762120" cy="68580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>
            <a:off x="2362320" y="3580920"/>
            <a:ext cx="4572000" cy="160020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62320" y="3581280"/>
            <a:ext cx="4114800" cy="144792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62320" y="3581280"/>
            <a:ext cx="4343400" cy="15242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99"/>
                </a:solidFill>
                <a:latin typeface="Times New Roman"/>
              </a:rPr>
              <a:t>Производственно-экономический цикл, базирующийся на научном знании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876920"/>
            <a:ext cx="190512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eea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f1f47"/>
                </a:solidFill>
                <a:latin typeface="Times New Roman"/>
              </a:rPr>
              <a:t>Деньг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819520"/>
            <a:ext cx="220968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80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Знан</a:t>
            </a: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и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я -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бщечеловеческое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бществ.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 б</a:t>
            </a: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гатство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90512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707f7"/>
                </a:solidFill>
                <a:latin typeface="Times New Roman"/>
              </a:rPr>
              <a:t>Научн. исследования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1828800"/>
            <a:ext cx="1219320" cy="762120"/>
          </a:xfrm>
          <a:custGeom>
            <a:avLst/>
            <a:gdLst>
              <a:gd name="textAreaLeft" fmla="*/ 190440 w 1219320"/>
              <a:gd name="textAreaRight" fmla="*/ 433080 w 1219320"/>
              <a:gd name="textAreaTop" fmla="*/ 72000 h 762120"/>
              <a:gd name="textAreaBottom" fmla="*/ 69012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2045"/>
                </a:moveTo>
                <a:lnTo>
                  <a:pt x="4416" y="2045"/>
                </a:lnTo>
                <a:lnTo>
                  <a:pt x="4416" y="0"/>
                </a:lnTo>
                <a:lnTo>
                  <a:pt x="21600" y="10800"/>
                </a:lnTo>
                <a:lnTo>
                  <a:pt x="4416" y="21600"/>
                </a:lnTo>
                <a:lnTo>
                  <a:pt x="4416" y="19555"/>
                </a:lnTo>
                <a:lnTo>
                  <a:pt x="3375" y="19555"/>
                </a:lnTo>
                <a:close/>
              </a:path>
              <a:path w="21600" h="21600">
                <a:moveTo>
                  <a:pt x="0" y="2045"/>
                </a:moveTo>
                <a:lnTo>
                  <a:pt x="675" y="2045"/>
                </a:lnTo>
                <a:lnTo>
                  <a:pt x="675" y="19555"/>
                </a:lnTo>
                <a:lnTo>
                  <a:pt x="0" y="19555"/>
                </a:lnTo>
                <a:close/>
              </a:path>
              <a:path w="21600" h="21600">
                <a:moveTo>
                  <a:pt x="1350" y="2045"/>
                </a:moveTo>
                <a:lnTo>
                  <a:pt x="2700" y="2045"/>
                </a:lnTo>
                <a:lnTo>
                  <a:pt x="2700" y="19555"/>
                </a:lnTo>
                <a:lnTo>
                  <a:pt x="1350" y="19555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743200"/>
            <a:ext cx="182880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Знання</a:t>
            </a:r>
            <a:r>
              <a:rPr b="1" i="1" lang="en-US" sz="1800" spc="-1" strike="noStrike">
                <a:solidFill>
                  <a:srgbClr val="7608ba"/>
                </a:solidFill>
                <a:latin typeface="Times New Roman"/>
              </a:rPr>
              <a:t>,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 транс-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формоване в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специфічний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666880"/>
            <a:ext cx="1295280" cy="1219320"/>
          </a:xfrm>
          <a:prstGeom prst="rightArrow">
            <a:avLst>
              <a:gd name="adj1" fmla="val 44343"/>
              <a:gd name="adj2" fmla="val 36806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30b2e"/>
                </a:solidFill>
                <a:latin typeface="Times New Roman"/>
              </a:rPr>
              <a:t>И</a:t>
            </a:r>
            <a:r>
              <a:rPr b="1" i="1" lang="uk-UA" sz="2000" spc="-1" strike="noStrike">
                <a:solidFill>
                  <a:srgbClr val="c30b2e"/>
                </a:solidFill>
                <a:latin typeface="Times New Roman"/>
              </a:rPr>
              <a:t>нновац</a:t>
            </a:r>
            <a:r>
              <a:rPr b="1" i="1" lang="ru-RU" sz="2000" spc="-1" strike="noStrike">
                <a:solidFill>
                  <a:srgbClr val="c30b2e"/>
                </a:solidFill>
                <a:latin typeface="Times New Roman"/>
              </a:rPr>
              <a:t>и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2819520"/>
            <a:ext cx="152424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Обществ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производс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тво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1676520"/>
            <a:ext cx="1676520" cy="914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278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278414"/>
                </a:solidFill>
                <a:latin typeface="Times New Roman"/>
              </a:rPr>
              <a:t>Природні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278414"/>
                </a:solidFill>
                <a:latin typeface="Times New Roman"/>
              </a:rPr>
              <a:t>ресурс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4114800"/>
            <a:ext cx="1218960" cy="838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598b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07f7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2590920"/>
            <a:ext cx="0" cy="228600"/>
          </a:xfrm>
          <a:prstGeom prst="line">
            <a:avLst/>
          </a:prstGeom>
          <a:ln w="38160">
            <a:solidFill>
              <a:srgbClr val="246c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3520" y="2514600"/>
            <a:ext cx="0" cy="236232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828800" y="3580920"/>
            <a:ext cx="1752480" cy="12956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81080" y="3580920"/>
            <a:ext cx="1752840" cy="12956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3733920"/>
            <a:ext cx="0" cy="380880"/>
          </a:xfrm>
          <a:prstGeom prst="line">
            <a:avLst/>
          </a:prstGeom>
          <a:ln w="57240">
            <a:solidFill>
              <a:srgbClr val="7608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4952880"/>
            <a:ext cx="0" cy="114300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371600" y="6095880"/>
            <a:ext cx="6858000" cy="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371600" y="5562360"/>
            <a:ext cx="0" cy="533160"/>
          </a:xfrm>
          <a:prstGeom prst="line">
            <a:avLst/>
          </a:prstGeom>
          <a:ln w="57240">
            <a:solidFill>
              <a:srgbClr val="e20a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733920"/>
            <a:ext cx="53352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uk-UA" sz="12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962520"/>
            <a:ext cx="1219320" cy="76176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c30b2e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0b2e"/>
                </a:solidFill>
                <a:latin typeface="Times New Roman"/>
              </a:rPr>
              <a:t>(2-2,5)</a:t>
            </a: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4114800"/>
            <a:ext cx="1143000" cy="7621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30b2e"/>
                </a:solidFill>
                <a:latin typeface="Times New Roman"/>
              </a:rPr>
              <a:t>10 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886200"/>
            <a:ext cx="0" cy="198108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52120" y="5867280"/>
            <a:ext cx="3505320" cy="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52480" y="5562720"/>
            <a:ext cx="0" cy="304560"/>
          </a:xfrm>
          <a:prstGeom prst="line">
            <a:avLst/>
          </a:prstGeom>
          <a:ln w="57240">
            <a:solidFill>
              <a:srgbClr val="e20a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562720"/>
            <a:ext cx="2210040" cy="8380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30b2e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&gt; 10</a:t>
            </a:r>
            <a:r>
              <a:rPr b="1" i="1" lang="en-US" sz="2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+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+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228600"/>
            <a:ext cx="685800" cy="68580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95480"/>
            <a:ext cx="1600200" cy="866880"/>
          </a:xfrm>
          <a:prstGeom prst="rightArrow">
            <a:avLst>
              <a:gd name="adj1" fmla="val 59704"/>
              <a:gd name="adj2" fmla="val 63693"/>
            </a:avLst>
          </a:prstGeom>
          <a:blipFill rotWithShape="0">
            <a:blip r:embed="rId15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Р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а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зр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а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б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от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к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800" bIns="1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Зависимость влияния  и функциональной роли научного потенциала страны от затрат на науку (в % ВВП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6441120" y="-1226520"/>
            <a:ext cx="14988240" cy="7475040"/>
            <a:chOff x="-6441120" y="-1226520"/>
            <a:chExt cx="14988240" cy="7475040"/>
          </a:xfrm>
        </p:grpSpPr>
        <p:grpSp>
          <p:nvGrpSpPr>
            <p:cNvPr id="190" name=""/>
            <p:cNvGrpSpPr/>
            <p:nvPr/>
          </p:nvGrpSpPr>
          <p:grpSpPr>
            <a:xfrm>
              <a:off x="1447920" y="3200400"/>
              <a:ext cx="7099200" cy="3048120"/>
              <a:chOff x="1447920" y="3200400"/>
              <a:chExt cx="7099200" cy="3048120"/>
            </a:xfrm>
          </p:grpSpPr>
          <p:sp>
            <p:nvSpPr>
              <p:cNvPr id="191" name=""/>
              <p:cNvSpPr/>
              <p:nvPr/>
            </p:nvSpPr>
            <p:spPr>
              <a:xfrm>
                <a:off x="3652920" y="4727520"/>
                <a:ext cx="4440240" cy="392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6600"/>
                    </a:solidFill>
                    <a:latin typeface="Times New Roman"/>
                  </a:rPr>
                  <a:t>Соц</a:t>
                </a:r>
                <a:r>
                  <a:rPr b="1" i="1" lang="ru-RU" sz="2000" spc="-1" strike="noStrike">
                    <a:solidFill>
                      <a:srgbClr val="006600"/>
                    </a:solidFill>
                    <a:latin typeface="Times New Roman"/>
                  </a:rPr>
                  <a:t>и</a:t>
                </a:r>
                <a:r>
                  <a:rPr b="1" i="1" lang="uk-UA" sz="2000" spc="-1" strike="noStrike">
                    <a:solidFill>
                      <a:srgbClr val="006600"/>
                    </a:solidFill>
                    <a:latin typeface="Times New Roman"/>
                  </a:rPr>
                  <a:t>окультурна</a:t>
                </a:r>
                <a:r>
                  <a:rPr b="1" i="1" lang="ru-RU" sz="2000" spc="-1" strike="noStrike">
                    <a:solidFill>
                      <a:srgbClr val="006600"/>
                    </a:solidFill>
                    <a:latin typeface="Times New Roman"/>
                  </a:rPr>
                  <a:t>я</a:t>
                </a:r>
                <a:r>
                  <a:rPr b="1" i="1" lang="uk-UA" sz="2000" spc="-1" strike="noStrike">
                    <a:solidFill>
                      <a:srgbClr val="006600"/>
                    </a:solidFill>
                    <a:latin typeface="Times New Roman"/>
                  </a:rPr>
                  <a:t> функц</a:t>
                </a:r>
                <a:r>
                  <a:rPr b="1" i="1" lang="ru-RU" sz="2000" spc="-1" strike="noStrike">
                    <a:solidFill>
                      <a:srgbClr val="006600"/>
                    </a:solidFill>
                    <a:latin typeface="Times New Roman"/>
                  </a:rPr>
                  <a:t>и</a:t>
                </a:r>
                <a:r>
                  <a:rPr b="1" i="1" lang="uk-UA" sz="2000" spc="-1" strike="noStrike">
                    <a:solidFill>
                      <a:srgbClr val="006600"/>
                    </a:solidFill>
                    <a:latin typeface="Times New Roman"/>
                  </a:rPr>
                  <a:t>я</a:t>
                </a:r>
                <a:r>
                  <a:rPr b="0" lang="ru-RU" sz="1100" spc="-1" strike="noStrike">
                    <a:solidFill>
                      <a:srgbClr val="00264c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724280"/>
                <a:ext cx="4213440" cy="180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47920" y="5181480"/>
                <a:ext cx="678168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29400" y="3200400"/>
                <a:ext cx="1711440" cy="743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cc3300"/>
                    </a:solidFill>
                    <a:latin typeface="Times New Roman"/>
                  </a:rPr>
                  <a:t>Э</a:t>
                </a:r>
                <a:r>
                  <a:rPr b="1" i="1" lang="uk-UA" sz="2000" spc="-1" strike="noStrike">
                    <a:solidFill>
                      <a:srgbClr val="cc3300"/>
                    </a:solidFill>
                    <a:latin typeface="Times New Roman"/>
                  </a:rPr>
                  <a:t>коном</a:t>
                </a:r>
                <a:r>
                  <a:rPr b="1" i="1" lang="ru-RU" sz="2000" spc="-1" strike="noStrike">
                    <a:solidFill>
                      <a:srgbClr val="cc3300"/>
                    </a:solidFill>
                    <a:latin typeface="Times New Roman"/>
                  </a:rPr>
                  <a:t>и</a:t>
                </a:r>
                <a:r>
                  <a:rPr b="1" i="1" lang="uk-UA" sz="2000" spc="-1" strike="noStrike">
                    <a:solidFill>
                      <a:srgbClr val="cc3300"/>
                    </a:solidFill>
                    <a:latin typeface="Times New Roman"/>
                  </a:rPr>
                  <a:t>ч</a:t>
                </a:r>
                <a:r>
                  <a:rPr b="1" i="1" lang="ru-RU" sz="2000" spc="-1" strike="noStrike">
                    <a:solidFill>
                      <a:srgbClr val="cc3300"/>
                    </a:solidFill>
                    <a:latin typeface="Times New Roman"/>
                  </a:rPr>
                  <a:t>ес-кая</a:t>
                </a:r>
                <a:r>
                  <a:rPr b="1" i="1" lang="uk-UA" sz="2000" spc="-1" strike="noStrike">
                    <a:solidFill>
                      <a:srgbClr val="cc3300"/>
                    </a:solidFill>
                    <a:latin typeface="Times New Roman"/>
                  </a:rPr>
                  <a:t> функц</a:t>
                </a:r>
                <a:r>
                  <a:rPr b="1" i="1" lang="ru-RU" sz="2000" spc="-1" strike="noStrike">
                    <a:solidFill>
                      <a:srgbClr val="cc3300"/>
                    </a:solidFill>
                    <a:latin typeface="Times New Roman"/>
                  </a:rPr>
                  <a:t>и</a:t>
                </a:r>
                <a:r>
                  <a:rPr b="1" i="1" lang="uk-UA" sz="2000" spc="-1" strike="noStrike">
                    <a:solidFill>
                      <a:srgbClr val="cc3300"/>
                    </a:solidFill>
                    <a:latin typeface="Times New Roman"/>
                  </a:rPr>
                  <a:t>я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02280" y="4826160"/>
                <a:ext cx="85680" cy="3222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715000" y="4038120"/>
                <a:ext cx="26020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4560" y="4138560"/>
                <a:ext cx="3292560" cy="49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99"/>
                    </a:solidFill>
                    <a:latin typeface="Times New Roman"/>
                  </a:rPr>
                  <a:t>П</a:t>
                </a:r>
                <a:r>
                  <a:rPr b="1" i="1" lang="ru-RU" sz="2000" spc="-1" strike="noStrike">
                    <a:solidFill>
                      <a:srgbClr val="000099"/>
                    </a:solidFill>
                    <a:latin typeface="Times New Roman"/>
                  </a:rPr>
                  <a:t>о</a:t>
                </a:r>
                <a:r>
                  <a:rPr b="1" i="1" lang="uk-UA" sz="2000" spc="-1" strike="noStrike">
                    <a:solidFill>
                      <a:srgbClr val="000099"/>
                    </a:solidFill>
                    <a:latin typeface="Times New Roman"/>
                  </a:rPr>
                  <a:t>знава</a:t>
                </a:r>
                <a:r>
                  <a:rPr b="1" i="1" lang="ru-RU" sz="2000" spc="-1" strike="noStrike">
                    <a:solidFill>
                      <a:srgbClr val="000099"/>
                    </a:solidFill>
                    <a:latin typeface="Times New Roman"/>
                  </a:rPr>
                  <a:t>те</a:t>
                </a:r>
                <a:r>
                  <a:rPr b="1" i="1" lang="uk-UA" sz="2000" spc="-1" strike="noStrike">
                    <a:solidFill>
                      <a:srgbClr val="000099"/>
                    </a:solidFill>
                    <a:latin typeface="Times New Roman"/>
                  </a:rPr>
                  <a:t>льна</a:t>
                </a:r>
                <a:r>
                  <a:rPr b="1" i="1" lang="ru-RU" sz="2000" spc="-1" strike="noStrike">
                    <a:solidFill>
                      <a:srgbClr val="000099"/>
                    </a:solidFill>
                    <a:latin typeface="Times New Roman"/>
                  </a:rPr>
                  <a:t>я</a:t>
                </a:r>
                <a:r>
                  <a:rPr b="1" i="1" lang="uk-UA" sz="2000" spc="-1" strike="noStrike">
                    <a:solidFill>
                      <a:srgbClr val="000099"/>
                    </a:solidFill>
                    <a:latin typeface="Times New Roman"/>
                  </a:rPr>
                  <a:t> функц</a:t>
                </a:r>
                <a:r>
                  <a:rPr b="1" i="1" lang="ru-RU" sz="2000" spc="-1" strike="noStrike">
                    <a:solidFill>
                      <a:srgbClr val="000099"/>
                    </a:solidFill>
                    <a:latin typeface="Times New Roman"/>
                  </a:rPr>
                  <a:t>и</a:t>
                </a:r>
                <a:r>
                  <a:rPr b="1" i="1" lang="uk-UA" sz="2000" spc="-1" strike="noStrike">
                    <a:solidFill>
                      <a:srgbClr val="000099"/>
                    </a:solidFill>
                    <a:latin typeface="Times New Roman"/>
                  </a:rPr>
                  <a:t>я</a:t>
                </a:r>
                <a:endParaRPr b="0" lang="en-US" sz="20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721480" y="4135320"/>
                <a:ext cx="1440" cy="1216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54920" y="5316480"/>
                <a:ext cx="1179360" cy="49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% ВВП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5464080"/>
                <a:ext cx="1257480" cy="784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3300"/>
                    </a:solidFill>
                    <a:latin typeface="Times New Roman"/>
                  </a:rPr>
                  <a:t>0,9 (1,7 для </a:t>
                </a:r>
                <a:r>
                  <a:rPr b="1" lang="uk-UA" sz="1400" spc="-1" strike="noStrike">
                    <a:solidFill>
                      <a:srgbClr val="ff3300"/>
                    </a:solidFill>
                    <a:latin typeface="Times New Roman"/>
                  </a:rPr>
                  <a:t>Укра</a:t>
                </a:r>
                <a:r>
                  <a:rPr b="1" lang="ru-RU" sz="1400" spc="-1" strike="noStrike">
                    <a:solidFill>
                      <a:srgbClr val="ff3300"/>
                    </a:solidFill>
                    <a:latin typeface="Times New Roman"/>
                  </a:rPr>
                  <a:t>и</a:t>
                </a:r>
                <a:r>
                  <a:rPr b="1" lang="uk-UA" sz="1400" spc="-1" strike="noStrike">
                    <a:solidFill>
                      <a:srgbClr val="ff3300"/>
                    </a:solidFill>
                    <a:latin typeface="Times New Roman"/>
                  </a:rPr>
                  <a:t>н</a:t>
                </a:r>
                <a:r>
                  <a:rPr b="1" lang="ru-RU" sz="1400" spc="-1" strike="noStrike">
                    <a:solidFill>
                      <a:srgbClr val="ff3300"/>
                    </a:solidFill>
                    <a:latin typeface="Times New Roman"/>
                  </a:rPr>
                  <a:t>ы</a:t>
                </a:r>
                <a:r>
                  <a:rPr b="1" lang="uk-UA" sz="1400" spc="-1" strike="noStrike">
                    <a:solidFill>
                      <a:srgbClr val="ff33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57600" y="5486400"/>
                <a:ext cx="927000" cy="4032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6600"/>
                    </a:solidFill>
                    <a:latin typeface="Times New Roman"/>
                  </a:rPr>
                  <a:t>0,4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05400" y="5330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05400" y="5330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91320" y="5181480"/>
                <a:ext cx="1440" cy="2955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4800" y="5181480"/>
                <a:ext cx="1440" cy="2955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rot="5400000">
              <a:off x="-2750040" y="-4917240"/>
              <a:ext cx="6414840" cy="1379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70" y="64"/>
                  </a:moveTo>
                  <a:arcTo wR="10800" hR="10800" stAng="-5026869" swAng="45741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70" y="64"/>
                  </a:moveTo>
                  <a:arcTo wR="10800" hR="10800" stAng="-5026869" swAng="4574151"/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8229600" y="0"/>
            <a:ext cx="91440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2057040"/>
            <a:ext cx="0" cy="3048120"/>
          </a:xfrm>
          <a:prstGeom prst="line">
            <a:avLst/>
          </a:prstGeom>
          <a:ln w="57240">
            <a:solidFill>
              <a:srgbClr val="e31b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726800">
            <a:off x="744480" y="2056680"/>
            <a:ext cx="5461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1b33"/>
                </a:solidFill>
                <a:latin typeface="Times New Roman"/>
              </a:rPr>
              <a:t>Влияние наук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83680"/>
            <a:ext cx="787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dc"/>
                </a:solidFill>
                <a:latin typeface="Times New Roman"/>
              </a:rPr>
              <a:t>Сегодня в мире разворачивается “холодная война знаний</a:t>
            </a:r>
            <a:r>
              <a:rPr b="1" i="1" lang="uk-UA" sz="4000" spc="-1" strike="noStrike">
                <a:solidFill>
                  <a:srgbClr val="0000d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solidFill>
            <a:srgbClr val="40e6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1906"/>
                </a:solidFill>
                <a:latin typeface="Times New Roman"/>
              </a:rPr>
              <a:t>До 90% економического роста в развитых странах обеспечивается за счет использования интеллектуального ресурс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1906"/>
                </a:solidFill>
                <a:latin typeface="Times New Roman"/>
              </a:rPr>
              <a:t>Интеллектуальний ресурс считается самой большой ценностью, за которую ведется борьб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1906"/>
                </a:solidFill>
                <a:latin typeface="Times New Roman"/>
              </a:rPr>
              <a:t>Б. Клинтон и Т. Блэр после завершения холодной войны провозгласили начало “холодной войны знаний</a:t>
            </a:r>
            <a:r>
              <a:rPr b="1" lang="uk-UA" sz="3200" spc="-1" strike="noStrike">
                <a:solidFill>
                  <a:srgbClr val="a2190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1880" y="380880"/>
            <a:ext cx="76212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30de"/>
                </a:solidFill>
                <a:latin typeface="Times New Roman"/>
              </a:rPr>
              <a:t>Основные направления “холодной войны знаний”:</a:t>
            </a: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gradFill rotWithShape="0">
            <a:gsLst>
              <a:gs pos="0">
                <a:srgbClr val="5cc2ca"/>
              </a:gs>
              <a:gs pos="100000">
                <a:srgbClr val="6ee7f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оздаются условия для притока интеллектуальных ресурсов в свою страну и предотвращения утечки умов за рубеж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Среди научных работников США иностранные специалисты составляют сегодня почти 50%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2906"/>
                </a:solidFill>
                <a:latin typeface="Times New Roman"/>
              </a:rPr>
              <a:t>Украина стала интеллектуальным донором для развитых стран (потери оцениваются в 1 млрд. долларов ежегодно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3280" y="457200"/>
            <a:ext cx="838440" cy="76212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50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flipV="1">
            <a:off x="2362320" y="3580920"/>
            <a:ext cx="4572000" cy="160020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62320" y="3581280"/>
            <a:ext cx="4114800" cy="144792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362320" y="3581280"/>
            <a:ext cx="4343400" cy="15242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 Украине производственно-экономический цикл не базируется на научном знани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876920"/>
            <a:ext cx="190512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eea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f1f47"/>
                </a:solidFill>
                <a:latin typeface="Times New Roman"/>
              </a:rPr>
              <a:t>Гроші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819520"/>
            <a:ext cx="220968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80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Знан</a:t>
            </a: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ия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 -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бщечеловеческое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бщ.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 б</a:t>
            </a:r>
            <a:r>
              <a:rPr b="1" i="1" lang="ru-RU" sz="1800" spc="-1" strike="noStrike">
                <a:solidFill>
                  <a:srgbClr val="a21484"/>
                </a:solidFill>
                <a:latin typeface="Times New Roman"/>
              </a:rPr>
              <a:t>о</a:t>
            </a:r>
            <a:r>
              <a:rPr b="1" i="1" lang="uk-UA" sz="1800" spc="-1" strike="noStrike">
                <a:solidFill>
                  <a:srgbClr val="a21484"/>
                </a:solidFill>
                <a:latin typeface="Times New Roman"/>
              </a:rPr>
              <a:t>гатство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90512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5707f7"/>
                </a:solidFill>
                <a:latin typeface="Times New Roman"/>
              </a:rPr>
              <a:t>Нау</a:t>
            </a:r>
            <a:r>
              <a:rPr b="1" i="1" lang="ru-RU" sz="1800" spc="-1" strike="noStrike">
                <a:solidFill>
                  <a:srgbClr val="5707f7"/>
                </a:solidFill>
                <a:latin typeface="Times New Roman"/>
              </a:rPr>
              <a:t>чные</a:t>
            </a:r>
            <a:r>
              <a:rPr b="1" i="1" lang="uk-UA" sz="1800" spc="-1" strike="noStrike">
                <a:solidFill>
                  <a:srgbClr val="5707f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5707f7"/>
                </a:solidFill>
                <a:latin typeface="Times New Roman"/>
              </a:rPr>
              <a:t>исследов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828800"/>
            <a:ext cx="1219320" cy="762120"/>
          </a:xfrm>
          <a:custGeom>
            <a:avLst/>
            <a:gdLst>
              <a:gd name="textAreaLeft" fmla="*/ 190440 w 1219320"/>
              <a:gd name="textAreaRight" fmla="*/ 433080 w 1219320"/>
              <a:gd name="textAreaTop" fmla="*/ 72000 h 762120"/>
              <a:gd name="textAreaBottom" fmla="*/ 69012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2045"/>
                </a:moveTo>
                <a:lnTo>
                  <a:pt x="4416" y="2045"/>
                </a:lnTo>
                <a:lnTo>
                  <a:pt x="4416" y="0"/>
                </a:lnTo>
                <a:lnTo>
                  <a:pt x="21600" y="10800"/>
                </a:lnTo>
                <a:lnTo>
                  <a:pt x="4416" y="21600"/>
                </a:lnTo>
                <a:lnTo>
                  <a:pt x="4416" y="19555"/>
                </a:lnTo>
                <a:lnTo>
                  <a:pt x="3375" y="19555"/>
                </a:lnTo>
                <a:close/>
              </a:path>
              <a:path w="21600" h="21600">
                <a:moveTo>
                  <a:pt x="0" y="2045"/>
                </a:moveTo>
                <a:lnTo>
                  <a:pt x="675" y="2045"/>
                </a:lnTo>
                <a:lnTo>
                  <a:pt x="675" y="19555"/>
                </a:lnTo>
                <a:lnTo>
                  <a:pt x="0" y="19555"/>
                </a:lnTo>
                <a:close/>
              </a:path>
              <a:path w="21600" h="21600">
                <a:moveTo>
                  <a:pt x="1350" y="2045"/>
                </a:moveTo>
                <a:lnTo>
                  <a:pt x="2700" y="2045"/>
                </a:lnTo>
                <a:lnTo>
                  <a:pt x="2700" y="19555"/>
                </a:lnTo>
                <a:lnTo>
                  <a:pt x="1350" y="19555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2743200"/>
            <a:ext cx="182880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Знан</a:t>
            </a: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и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я</a:t>
            </a:r>
            <a:r>
              <a:rPr b="1" i="1" lang="en-US" sz="1800" spc="-1" strike="noStrike">
                <a:solidFill>
                  <a:srgbClr val="7608ba"/>
                </a:solidFill>
                <a:latin typeface="Times New Roman"/>
              </a:rPr>
              <a:t>,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 транс-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форм</a:t>
            </a: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ированные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 в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специф</a:t>
            </a: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и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ч</a:t>
            </a: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еск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ий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2819520"/>
            <a:ext cx="152424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5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Обществ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608ba"/>
                </a:solidFill>
                <a:latin typeface="Times New Roman"/>
              </a:rPr>
              <a:t>производс</a:t>
            </a:r>
            <a:r>
              <a:rPr b="1" i="1" lang="uk-UA" sz="1800" spc="-1" strike="noStrike">
                <a:solidFill>
                  <a:srgbClr val="7608ba"/>
                </a:solidFill>
                <a:latin typeface="Times New Roman"/>
              </a:rPr>
              <a:t>тво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67652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278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278414"/>
                </a:solidFill>
                <a:latin typeface="Times New Roman"/>
              </a:rPr>
              <a:t>Природн</a:t>
            </a:r>
            <a:r>
              <a:rPr b="0" i="1" lang="ru-RU" sz="2400" spc="-1" strike="noStrike">
                <a:solidFill>
                  <a:srgbClr val="278414"/>
                </a:solidFill>
                <a:latin typeface="Times New Roman"/>
              </a:rPr>
              <a:t>ы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278414"/>
                </a:solidFill>
                <a:latin typeface="Times New Roman"/>
              </a:rPr>
              <a:t>ресурс</a:t>
            </a:r>
            <a:r>
              <a:rPr b="0" i="1" lang="ru-RU" sz="2400" spc="-1" strike="noStrike">
                <a:solidFill>
                  <a:srgbClr val="278414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4114800"/>
            <a:ext cx="1218960" cy="838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598b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707f7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2590920"/>
            <a:ext cx="0" cy="228600"/>
          </a:xfrm>
          <a:prstGeom prst="line">
            <a:avLst/>
          </a:prstGeom>
          <a:ln w="38160">
            <a:solidFill>
              <a:srgbClr val="246c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3520" y="2514600"/>
            <a:ext cx="0" cy="236232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28800" y="3580920"/>
            <a:ext cx="1752480" cy="12956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1080" y="3580920"/>
            <a:ext cx="1752840" cy="1295640"/>
          </a:xfrm>
          <a:prstGeom prst="line">
            <a:avLst/>
          </a:prstGeom>
          <a:ln w="28440">
            <a:solidFill>
              <a:srgbClr val="f934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29600" y="3733920"/>
            <a:ext cx="0" cy="380880"/>
          </a:xfrm>
          <a:prstGeom prst="line">
            <a:avLst/>
          </a:prstGeom>
          <a:ln w="57240">
            <a:solidFill>
              <a:srgbClr val="7608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4952880"/>
            <a:ext cx="0" cy="114300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371600" y="6095880"/>
            <a:ext cx="6858000" cy="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371600" y="5562360"/>
            <a:ext cx="0" cy="533160"/>
          </a:xfrm>
          <a:prstGeom prst="line">
            <a:avLst/>
          </a:prstGeom>
          <a:ln w="57240">
            <a:solidFill>
              <a:srgbClr val="e20a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733920"/>
            <a:ext cx="53352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uk-UA" sz="12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3962520"/>
            <a:ext cx="1219320" cy="7617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c30b2e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&lt;</a:t>
            </a:r>
            <a:r>
              <a:rPr b="1" lang="uk-UA" sz="1800" spc="-1" strike="noStrike">
                <a:solidFill>
                  <a:srgbClr val="c30b2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114800"/>
            <a:ext cx="1143000" cy="7621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0b2e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3 </a:t>
            </a:r>
            <a:r>
              <a:rPr b="1" lang="en-US" sz="18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c30b2e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30b2e"/>
                </a:solidFill>
                <a:latin typeface="Times New Roman"/>
              </a:rPr>
              <a:t>10 S</a:t>
            </a:r>
            <a:r>
              <a:rPr b="1" lang="en-US" sz="1000" spc="-1" strike="noStrike">
                <a:solidFill>
                  <a:srgbClr val="c30b2e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886200"/>
            <a:ext cx="0" cy="198108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52120" y="5867280"/>
            <a:ext cx="3505320" cy="0"/>
          </a:xfrm>
          <a:prstGeom prst="line">
            <a:avLst/>
          </a:prstGeom>
          <a:ln w="572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5562720"/>
            <a:ext cx="0" cy="304560"/>
          </a:xfrm>
          <a:prstGeom prst="line">
            <a:avLst/>
          </a:prstGeom>
          <a:ln w="57240">
            <a:solidFill>
              <a:srgbClr val="e20a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562720"/>
            <a:ext cx="2210040" cy="8380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e20a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30b2e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 10</a:t>
            </a:r>
            <a:r>
              <a:rPr b="1" i="1" lang="en-US" sz="2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+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+S</a:t>
            </a:r>
            <a:r>
              <a:rPr b="1" i="1" lang="en-US" sz="1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c30b2e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228600"/>
            <a:ext cx="685800" cy="68580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2895480"/>
            <a:ext cx="1523880" cy="866880"/>
          </a:xfrm>
          <a:prstGeom prst="rightArrow">
            <a:avLst>
              <a:gd name="adj1" fmla="val 59704"/>
              <a:gd name="adj2" fmla="val 60655"/>
            </a:avLst>
          </a:prstGeom>
          <a:blipFill rotWithShape="0">
            <a:blip r:embed="rId14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Р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а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зр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а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б</a:t>
            </a:r>
            <a:r>
              <a:rPr b="1" i="1" lang="ru-RU" sz="2000" spc="-1" strike="noStrike">
                <a:solidFill>
                  <a:srgbClr val="e20a24"/>
                </a:solidFill>
                <a:latin typeface="Times New Roman"/>
              </a:rPr>
              <a:t>от</a:t>
            </a:r>
            <a:r>
              <a:rPr b="1" i="1" lang="uk-UA" sz="2000" spc="-1" strike="noStrike">
                <a:solidFill>
                  <a:srgbClr val="e20a24"/>
                </a:solidFill>
                <a:latin typeface="Times New Roman"/>
              </a:rPr>
              <a:t>к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666880"/>
            <a:ext cx="1371600" cy="1219320"/>
          </a:xfrm>
          <a:prstGeom prst="rightArrow">
            <a:avLst>
              <a:gd name="adj1" fmla="val 44343"/>
              <a:gd name="adj2" fmla="val 38975"/>
            </a:avLst>
          </a:prstGeom>
          <a:blipFill rotWithShape="0">
            <a:blip r:embed="rId15"/>
            <a:srcRect/>
            <a:tile tx="0" ty="0" sx="100000" sy="100000" algn="ctr"/>
          </a:blip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30b2e"/>
                </a:solidFill>
                <a:latin typeface="Times New Roman"/>
              </a:rPr>
              <a:t>И</a:t>
            </a:r>
            <a:r>
              <a:rPr b="1" i="1" lang="uk-UA" sz="2000" spc="-1" strike="noStrike">
                <a:solidFill>
                  <a:srgbClr val="c30b2e"/>
                </a:solidFill>
                <a:latin typeface="Times New Roman"/>
              </a:rPr>
              <a:t>нновац</a:t>
            </a:r>
            <a:r>
              <a:rPr b="1" i="1" lang="ru-RU" sz="2000" spc="-1" strike="noStrike">
                <a:solidFill>
                  <a:srgbClr val="c30b2e"/>
                </a:solidFill>
                <a:latin typeface="Times New Roman"/>
              </a:rPr>
              <a:t>и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dc"/>
                </a:solidFill>
                <a:latin typeface="Times New Roman"/>
              </a:rPr>
              <a:t>Основные причины</a:t>
            </a:r>
            <a:r>
              <a:rPr b="1" i="1" lang="uk-UA" sz="4400" spc="-1" strike="noStrike">
                <a:solidFill>
                  <a:srgbClr val="0000d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40e6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1906"/>
                </a:solidFill>
                <a:latin typeface="Times New Roman"/>
              </a:rPr>
              <a:t>осуществление экономических реформ по “перераспределительной”, а не инновационной модели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1906"/>
                </a:solidFill>
                <a:latin typeface="Times New Roman"/>
              </a:rPr>
              <a:t>в структуре производства</a:t>
            </a:r>
            <a:r>
              <a:rPr b="0" lang="ru-RU" sz="2400" spc="-1" strike="noStrike">
                <a:solidFill>
                  <a:srgbClr val="a21906"/>
                </a:solidFill>
                <a:latin typeface="Times New Roman"/>
              </a:rPr>
              <a:t> е</a:t>
            </a:r>
            <a:r>
              <a:rPr b="1" lang="ru-RU" sz="2400" spc="-1" strike="noStrike">
                <a:solidFill>
                  <a:srgbClr val="a21906"/>
                </a:solidFill>
                <a:latin typeface="Times New Roman"/>
              </a:rPr>
              <a:t>ще больше стали доминировать отрасли низкотехнологической укладности, конкурентоспособность которых обеспечивается только за счет низкой заработной платы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1906"/>
                </a:solidFill>
                <a:latin typeface="Times New Roman"/>
              </a:rPr>
              <a:t>вытеснение науки из приоритетов государства, падение спроса на научные исследования и разработки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1906"/>
                </a:solidFill>
                <a:latin typeface="Times New Roman"/>
              </a:rPr>
              <a:t>несоответствие реальных действий законодательной и исполнительной власти провозглашенным и даже законодательно закрепленным положениям инновационной политики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29600" y="228600"/>
            <a:ext cx="685800" cy="609480"/>
          </a:xfrm>
          <a:prstGeom prst="ellipse">
            <a:avLst/>
          </a:prstGeom>
          <a:solidFill>
            <a:srgbClr val="dbe6f1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64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9:18:01Z</dcterms:created>
  <dc:creator>Popovich</dc:creator>
  <dc:description/>
  <dc:language>en-US</dc:language>
  <cp:lastModifiedBy>Cris</cp:lastModifiedBy>
  <dcterms:modified xsi:type="dcterms:W3CDTF">2005-10-03T14:06:51Z</dcterms:modified>
  <cp:revision>39</cp:revision>
  <dc:subject/>
  <dc:title>Науково-технологічний потенціал України: сучасний стан та перспективи розвитку</dc:title>
</cp:coreProperties>
</file>