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wmf" ContentType="image/x-wmf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E742-52B2-49DC-A700-FA8DD5F14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5F3F-5FB6-46FE-85AB-AF266DCB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0936-2E4A-405A-BF70-0D7C2EA25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55F1-8549-49FC-AAF1-927C06B0E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135D-84B3-4D89-BF32-A13A51F52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A1D7-A6DF-4337-83A7-127D1973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DE2D-DC4A-4D5E-8453-0CF02BCF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9B62-26C3-48D2-9A37-E8B088C8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EC7F-D1C7-4557-AD6A-91CFF224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9058-3E19-415D-84B8-951C5C75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790B-4778-4173-83E9-3BF16EED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317C-7992-464D-AF24-CC8A83D2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16DB-3A52-4B96-B9C0-011B300F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F390-C276-4BB2-95D4-98F957E6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66BE-383A-431C-B579-4844E871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7DA0-AB43-44D2-B49F-76A1EA872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ACAE-5087-4EBD-9F27-277E47468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E4338-3F63-4C5F-9EE9-ED330FF29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5922B-F7A3-4E5A-96D2-715DC665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28135-9253-4968-9845-ED78E125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5DCA4-0BD9-40D0-81D5-435D51FC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60C25-8C16-4B05-B652-5570F2DC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8940-EF39-4288-A7CE-456725E1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1A788-C9D0-416D-8833-53943BEC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10B71-1D8F-4536-A304-0EC205F7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AD8AC-76E3-4F2E-BEE4-86E7F8C7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A26A4-91AD-458D-90D3-2E3D7CA0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25B32-78FE-41BE-98A2-5A633CAA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1A8D8-178C-4A6F-8FD6-15ADA5D62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85F22-647D-4D7F-B588-B46A62004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6438-2C53-4013-8EDD-8F319CB9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CA80-7610-44B4-BE58-49582F30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F16E-2DB2-4E8B-A998-4E85CFE5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4867-3131-4BDF-8596-7D0C9E73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2761-BA5C-4236-B840-CA2D3A3E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FB61-18A9-473C-B7EB-1902A47E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9442-B0DD-4E50-BEEC-C4ADB09CD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41B8-8841-4013-8BD6-4BD928CBB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EB58-16CD-48A0-AA49-07CD66E0C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79280" y="1125360"/>
            <a:ext cx="9144000" cy="41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Инновации в Республике Беларусь: состояние и перспектив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В.И. Недилько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Первый заместитель Председа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ГКНТ Республики Беларус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кандидат экономических нау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Алушта, 2005</a:t>
            </a: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-468360" y="189000"/>
            <a:ext cx="33245640" cy="6429600"/>
            <a:chOff x="-468360" y="189000"/>
            <a:chExt cx="33245640" cy="6429600"/>
          </a:xfrm>
        </p:grpSpPr>
        <p:sp>
          <p:nvSpPr>
            <p:cNvPr id="226" name=""/>
            <p:cNvSpPr/>
            <p:nvPr/>
          </p:nvSpPr>
          <p:spPr>
            <a:xfrm>
              <a:off x="0" y="18900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00"/>
                  </a:solidFill>
                  <a:latin typeface="Arial"/>
                </a:rPr>
                <a:t>10. Инновационная деятельность в ВУЗах страны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-468360" y="907920"/>
              <a:ext cx="33245640" cy="57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lvl="2" marL="914400">
                <a:lnSpc>
                  <a:spcPct val="130000"/>
                </a:lnSpc>
                <a:buClr>
                  <a:srgbClr val="ffffff"/>
                </a:buClr>
                <a:buFont typeface="Wingdings" charset="2"/>
                <a:buChar char="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ru-RU" sz="1600" spc="-1" strike="noStrike">
                  <a:solidFill>
                    <a:srgbClr val="ffffff"/>
                  </a:solidFill>
                  <a:latin typeface="Arial"/>
                </a:rPr>
                <a:t>В  2003 г создан “Научно-технологический парк БНТУ “Метолит”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lvl="2" marL="914400">
                <a:lnSpc>
                  <a:spcPct val="130000"/>
                </a:lnSpc>
                <a:buClr>
                  <a:srgbClr val="ffffff"/>
                </a:buClr>
                <a:buFont typeface="Wingdings" charset="2"/>
                <a:buChar char="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ru-RU" sz="1600" spc="-1" strike="noStrike">
                  <a:solidFill>
                    <a:srgbClr val="ffffff"/>
                  </a:solidFill>
                  <a:latin typeface="Arial"/>
                </a:rPr>
                <a:t>Освоен серийный выпуск новых конструкционных, электротехнических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lvl="2" marL="914400">
                <a:lnSpc>
                  <a:spcPct val="13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ffff"/>
                  </a:solidFill>
                  <a:latin typeface="Arial"/>
                </a:rPr>
                <a:t>и инструментальных материалов и изделий на их основе для машиностроения,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lvl="2" marL="914400">
                <a:lnSpc>
                  <a:spcPct val="13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ffff"/>
                  </a:solidFill>
                  <a:latin typeface="Arial"/>
                </a:rPr>
                <a:t>теплотехники, металлургии, строительства и др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lvl="2" marL="914400">
                <a:lnSpc>
                  <a:spcPct val="130000"/>
                </a:lnSpc>
                <a:buClr>
                  <a:srgbClr val="ffffff"/>
                </a:buClr>
                <a:buFont typeface="Wingdings" charset="2"/>
                <a:buChar char="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ru-RU" sz="1600" spc="-1" strike="noStrike">
                  <a:solidFill>
                    <a:srgbClr val="ffffff"/>
                  </a:solidFill>
                  <a:latin typeface="Arial"/>
                </a:rPr>
                <a:t>Создано промышленное оборудование для влажно-тепловой обработки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lvl="2" marL="914400">
                <a:lnSpc>
                  <a:spcPct val="13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ffff"/>
                  </a:solidFill>
                  <a:latin typeface="Arial"/>
                </a:rPr>
                <a:t>тканей в легкой промышленности. Изготовлено и поставлено предприятиям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lvl="2" marL="914400">
                <a:lnSpc>
                  <a:spcPct val="13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ffff"/>
                  </a:solidFill>
                  <a:latin typeface="Arial"/>
                </a:rPr>
                <a:t>более 200 единиц оборудования на сумму около 200 тыс. долл.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lvl="2" marL="914400">
                <a:lnSpc>
                  <a:spcPct val="13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ffff"/>
                  </a:solidFill>
                  <a:latin typeface="Arial"/>
                </a:rPr>
                <a:t>Продукция не уступает мировым аналогам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lvl="2" marL="914400">
                <a:lnSpc>
                  <a:spcPct val="130000"/>
                </a:lnSpc>
                <a:buClr>
                  <a:srgbClr val="ffffff"/>
                </a:buClr>
                <a:buFont typeface="Wingdings" charset="2"/>
                <a:buChar char="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ru-RU" sz="1600" spc="-1" strike="noStrike">
                  <a:solidFill>
                    <a:srgbClr val="ffffff"/>
                  </a:solidFill>
                  <a:latin typeface="Arial"/>
                </a:rPr>
                <a:t>Налажен выпуск материалов эластичных керамико-полимерных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lvl="2" marL="914400">
                <a:lnSpc>
                  <a:spcPct val="13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ffff"/>
                  </a:solidFill>
                  <a:latin typeface="Arial"/>
                </a:rPr>
                <a:t>теплопроводяших электроизоляторов, эластичных теплопроводяших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lvl="2" marL="914400">
                <a:lnSpc>
                  <a:spcPct val="13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ffff"/>
                  </a:solidFill>
                  <a:latin typeface="Arial"/>
                </a:rPr>
                <a:t>подложек для электротехнической и электронной отрасли.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lvl="2" marL="914400">
                <a:lnSpc>
                  <a:spcPct val="13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ffff"/>
                  </a:solidFill>
                  <a:latin typeface="Arial"/>
                </a:rPr>
                <a:t>Ежегодно изготавливаются свыше 900 тыс. штук для более чем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lvl="2" marL="914400">
                <a:lnSpc>
                  <a:spcPct val="13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ffff"/>
                  </a:solidFill>
                  <a:latin typeface="Arial"/>
                </a:rPr>
                <a:t>100 предприятий Беларуси и России. Основные потребители: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lvl="2" marL="914400">
                <a:lnSpc>
                  <a:spcPct val="13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ffff"/>
                  </a:solidFill>
                  <a:latin typeface="Arial"/>
                </a:rPr>
                <a:t>телевизионные предприятия Горизонт, Витязь, Рубин (Россия).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28" name=""/>
          <p:cNvGraphicFramePr/>
          <p:nvPr/>
        </p:nvGraphicFramePr>
        <p:xfrm>
          <a:off x="7812000" y="6165720"/>
          <a:ext cx="1154160" cy="46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12000" y="6165720"/>
                    <a:ext cx="11541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-35280"/>
            <a:ext cx="8820000" cy="10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2. Основные элементы </a:t>
            </a: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инновационной системы</a:t>
            </a:r>
            <a:r>
              <a:rPr b="1" lang="ru-RU" sz="3600" spc="-1" strike="noStrike">
                <a:solidFill>
                  <a:srgbClr val="ffcc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64000" y="3716280"/>
            <a:ext cx="3780000" cy="18716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еханизм финансир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нновационной де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500280"/>
            <a:ext cx="3348000" cy="208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истема подготов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адров дл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нновационн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де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56000" y="2060640"/>
            <a:ext cx="4537080" cy="1655640"/>
          </a:xfrm>
          <a:prstGeom prst="rect">
            <a:avLst/>
          </a:prstGeom>
          <a:solidFill>
            <a:srgbClr val="ffffff"/>
          </a:solidFill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Инновационная инфраструкту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ключая переход 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корпоративно-кластер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структуре управления экономик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2060640"/>
            <a:ext cx="4105080" cy="1423800"/>
          </a:xfrm>
          <a:prstGeom prst="rect">
            <a:avLst/>
          </a:prstGeom>
          <a:solidFill>
            <a:srgbClr val="ffffff"/>
          </a:solidFill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ормативная правовая база по инновационной де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40000" y="1339920"/>
            <a:ext cx="4465440" cy="720720"/>
          </a:xfrm>
          <a:prstGeom prst="rect">
            <a:avLst/>
          </a:prstGeom>
          <a:solidFill>
            <a:srgbClr val="ffffff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Стратегическое планирование по приоритета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50920" y="5587920"/>
            <a:ext cx="4608720" cy="1081080"/>
          </a:xfrm>
          <a:prstGeom prst="rect">
            <a:avLst/>
          </a:prstGeom>
          <a:solidFill>
            <a:srgbClr val="ffffff"/>
          </a:solidFill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еждународное научно-техническое сотрудниче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916360" y="3284640"/>
            <a:ext cx="2743200" cy="2590560"/>
            <a:chOff x="2916360" y="3284640"/>
            <a:chExt cx="2743200" cy="2590560"/>
          </a:xfrm>
        </p:grpSpPr>
        <p:sp>
          <p:nvSpPr>
            <p:cNvPr id="132" name=""/>
            <p:cNvSpPr/>
            <p:nvPr/>
          </p:nvSpPr>
          <p:spPr>
            <a:xfrm>
              <a:off x="2987640" y="3284640"/>
              <a:ext cx="2593800" cy="2590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16360" y="4147920"/>
              <a:ext cx="2743200" cy="11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ahoma"/>
                </a:rPr>
                <a:t>ИННОВАЦИОННАЯ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ahoma"/>
                </a:rPr>
                <a:t>СИСТЕМ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34" name=""/>
          <p:cNvGraphicFramePr/>
          <p:nvPr/>
        </p:nvGraphicFramePr>
        <p:xfrm>
          <a:off x="7740720" y="6165720"/>
          <a:ext cx="1154160" cy="46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40720" y="6165720"/>
                    <a:ext cx="11541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11592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. КОНЦЕПТУАЛЬНЫЙ ПОДХОД К ФОРМИРОВАНИЮ ПОЛИТИ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РЕСПУБЛИКИ БЕЛАРУСЬ В ОБЛАСТИ НАУКИ И ТЕХНОЛОГ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990720"/>
          <a:ext cx="5486400" cy="6021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90720"/>
                    <a:ext cx="548640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7740720" y="6165720"/>
          <a:ext cx="1154160" cy="460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740720" y="6165720"/>
                    <a:ext cx="11541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003640" y="1141560"/>
            <a:ext cx="4069080" cy="1006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высокий жизненный уровень населения, конкурентоспособность национальной экономики, устойчивость социально-экономического развития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национальная безопас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03640" y="3613680"/>
            <a:ext cx="4067280" cy="4590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кспорт, продовольствие, жилье, инвестиционно-инновационная деятельность, здравоохран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03640" y="2587680"/>
            <a:ext cx="4067280" cy="641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уманизация, интеллектуализация, инновационность, энерго- и ресурсоэффективность, экологич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11280" y="147600"/>
            <a:ext cx="786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4. Приоритеты социально-экономическ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развития Республики Беларус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на 2001 - 2005 го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1979640"/>
            <a:ext cx="8064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формирование эффективной системы здравоохран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активизация инновационной и     инвестиционной деятель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ращивание экспорта товаров и услуг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альнейшее развитие жилищного строитель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азвитие агропромышленного комплекса и сопряженных отрасл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7740720" y="6165720"/>
          <a:ext cx="1154160" cy="46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40720" y="6165720"/>
                    <a:ext cx="11541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0" y="476280"/>
          <a:ext cx="9109080" cy="537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76280"/>
                    <a:ext cx="9109080" cy="53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7740720" y="6165720"/>
          <a:ext cx="1154160" cy="460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740720" y="6165720"/>
                    <a:ext cx="11541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>
            <a:lum contrast="2000"/>
          </a:blip>
          <a:stretch/>
        </p:blipFill>
        <p:spPr>
          <a:xfrm>
            <a:off x="609480" y="44280"/>
            <a:ext cx="8001000" cy="6813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828800" y="76320"/>
            <a:ext cx="5410080" cy="678600"/>
          </a:xfrm>
          <a:prstGeom prst="rect">
            <a:avLst/>
          </a:prstGeom>
          <a:solidFill>
            <a:srgbClr val="ffff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6. Инновационная инфраструктур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спублики Беларус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2209680"/>
            <a:ext cx="2743200" cy="586440"/>
          </a:xfrm>
          <a:prstGeom prst="rect">
            <a:avLst/>
          </a:prstGeom>
          <a:solidFill>
            <a:srgbClr val="ccffcc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Инновацион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центры -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5835600"/>
            <a:ext cx="3581280" cy="708120"/>
          </a:xfrm>
          <a:prstGeom prst="rect">
            <a:avLst/>
          </a:prstGeom>
          <a:solidFill>
            <a:srgbClr val="ccffcc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Центр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трансфера технологий - 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1600200"/>
            <a:ext cx="2971800" cy="825120"/>
          </a:xfrm>
          <a:prstGeom prst="rect">
            <a:avLst/>
          </a:prstGeom>
          <a:solidFill>
            <a:srgbClr val="ccffcc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Центры поддержки предпринимательства   - более 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5943600"/>
            <a:ext cx="2666880" cy="549720"/>
          </a:xfrm>
          <a:prstGeom prst="rect">
            <a:avLst/>
          </a:prstGeom>
          <a:solidFill>
            <a:srgbClr val="ccffcc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Белорус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нновационный фон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914400"/>
            <a:ext cx="3429000" cy="581400"/>
          </a:xfrm>
          <a:prstGeom prst="rect">
            <a:avLst/>
          </a:prstGeom>
          <a:solidFill>
            <a:srgbClr val="cc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аучно-технологическ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арки -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91120" y="2819520"/>
            <a:ext cx="287280" cy="287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73800" y="2971800"/>
            <a:ext cx="179280" cy="179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990720"/>
            <a:ext cx="179280" cy="1792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1676520"/>
            <a:ext cx="179280" cy="1792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1280" y="2438280"/>
            <a:ext cx="179640" cy="1796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21520" y="1143000"/>
            <a:ext cx="179280" cy="1792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24480" y="2514600"/>
            <a:ext cx="179640" cy="1792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952880" y="2514600"/>
            <a:ext cx="179640" cy="1792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2819520"/>
            <a:ext cx="179280" cy="1792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62720" y="4038480"/>
            <a:ext cx="179280" cy="1796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29400" y="3124080"/>
            <a:ext cx="179280" cy="1796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162920" y="3200400"/>
            <a:ext cx="179280" cy="1792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62320" y="3200400"/>
            <a:ext cx="179280" cy="1792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8120" y="4191120"/>
            <a:ext cx="179280" cy="1792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38280" y="4191120"/>
            <a:ext cx="179640" cy="1792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10280" y="4952880"/>
            <a:ext cx="179640" cy="1796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5638680"/>
            <a:ext cx="179280" cy="1796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95480" y="5410080"/>
            <a:ext cx="179640" cy="1796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3429000"/>
            <a:ext cx="179280" cy="1792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5410080"/>
            <a:ext cx="179280" cy="1796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3124080"/>
            <a:ext cx="216000" cy="216000"/>
          </a:xfrm>
          <a:prstGeom prst="diamond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61040" y="3200400"/>
            <a:ext cx="287280" cy="2872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76920" y="927000"/>
            <a:ext cx="215640" cy="216000"/>
          </a:xfrm>
          <a:prstGeom prst="diamond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48520" y="1384200"/>
            <a:ext cx="215640" cy="216000"/>
          </a:xfrm>
          <a:prstGeom prst="diamond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2895480"/>
            <a:ext cx="216000" cy="216000"/>
          </a:xfrm>
          <a:prstGeom prst="diamond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238880" y="5029200"/>
            <a:ext cx="216000" cy="216000"/>
          </a:xfrm>
          <a:prstGeom prst="diamond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5715000"/>
            <a:ext cx="215640" cy="216000"/>
          </a:xfrm>
          <a:prstGeom prst="diamond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86200" y="2895480"/>
            <a:ext cx="360360" cy="360360"/>
          </a:xfrm>
          <a:prstGeom prst="diamond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525780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3200400"/>
            <a:ext cx="360360" cy="36036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10280" y="518148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57800" y="990720"/>
            <a:ext cx="216000" cy="21564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2286000"/>
            <a:ext cx="323640" cy="3240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1066680"/>
            <a:ext cx="287280" cy="287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84720" y="1700280"/>
            <a:ext cx="142920" cy="160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828800" y="5943600"/>
            <a:ext cx="360360" cy="360360"/>
          </a:xfrm>
          <a:prstGeom prst="diamond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09880" y="3200400"/>
            <a:ext cx="216000" cy="216000"/>
          </a:xfrm>
          <a:prstGeom prst="pentagon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13400" y="6032520"/>
            <a:ext cx="216000" cy="216000"/>
          </a:xfrm>
          <a:prstGeom prst="pentagon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67080" y="2743200"/>
            <a:ext cx="287280" cy="287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343400" y="2666880"/>
            <a:ext cx="287280" cy="287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62520" y="3276720"/>
            <a:ext cx="360360" cy="36036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3352680"/>
            <a:ext cx="360360" cy="36036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934320" y="5181480"/>
            <a:ext cx="360360" cy="36036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5181480"/>
            <a:ext cx="360360" cy="36036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181480" y="914400"/>
            <a:ext cx="360360" cy="36036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713120" y="3040200"/>
          <a:ext cx="1154160" cy="46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13120" y="3040200"/>
                    <a:ext cx="1154160" cy="46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500"/>
                            </p:stCondLst>
                            <p:childTnLst>
                              <p:par>
                                <p:cTn id="26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>
            <a:lum contrast="2000"/>
          </a:blip>
          <a:stretch/>
        </p:blipFill>
        <p:spPr>
          <a:xfrm>
            <a:off x="609480" y="42840"/>
            <a:ext cx="8001000" cy="6813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828800" y="76320"/>
            <a:ext cx="5410080" cy="678600"/>
          </a:xfrm>
          <a:prstGeom prst="rect">
            <a:avLst/>
          </a:prstGeom>
          <a:solidFill>
            <a:srgbClr val="ffff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7. Развитие инновационной инфраструктур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05520" y="1447920"/>
            <a:ext cx="3429000" cy="838080"/>
          </a:xfrm>
          <a:prstGeom prst="wedgeRectCallout">
            <a:avLst>
              <a:gd name="adj1" fmla="val -44027"/>
              <a:gd name="adj2" fmla="val -10378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г. Новополоц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научно-технологический пар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2120" y="3809880"/>
            <a:ext cx="3429000" cy="762120"/>
          </a:xfrm>
          <a:prstGeom prst="wedgeRectCallout">
            <a:avLst>
              <a:gd name="adj1" fmla="val -416"/>
              <a:gd name="adj2" fmla="val -17875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г. Ли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научно-технологический пар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410080" y="3809880"/>
            <a:ext cx="3124440" cy="685800"/>
          </a:xfrm>
          <a:prstGeom prst="wedgeRectCallout">
            <a:avLst>
              <a:gd name="adj1" fmla="val -9550"/>
              <a:gd name="adj2" fmla="val -13703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г. Могил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нновационный цент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59280" y="5373720"/>
            <a:ext cx="3657600" cy="1066680"/>
          </a:xfrm>
          <a:prstGeom prst="wedgeRectCallout">
            <a:avLst>
              <a:gd name="adj1" fmla="val 15407"/>
              <a:gd name="adj2" fmla="val -62203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г. Гом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научно-технологический парк, инновационный центр, региональное отделение РЦТ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6019920"/>
            <a:ext cx="3429000" cy="685800"/>
          </a:xfrm>
          <a:prstGeom prst="wedgeRectCallout">
            <a:avLst>
              <a:gd name="adj1" fmla="val -46574"/>
              <a:gd name="adj2" fmla="val -10578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г. Бре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научно-технологический пар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8080" y="1219320"/>
            <a:ext cx="3810240" cy="1066680"/>
          </a:xfrm>
          <a:prstGeom prst="wedgeRectCallout">
            <a:avLst>
              <a:gd name="adj1" fmla="val -38041"/>
              <a:gd name="adj2" fmla="val 13422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г. Грод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научно-технологический парк, региональное отделение РЦТ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572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8. С И С Т Е М А  П Р О Г Р А М М   И   П Р О Е К Т О В</a:t>
            </a:r>
            <a:r>
              <a:rPr b="1" lang="en-US" sz="1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276800" y="466560"/>
          <a:ext cx="4616280" cy="6562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76800" y="466560"/>
                    <a:ext cx="4616280" cy="65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611280" y="1052640"/>
            <a:ext cx="3097080" cy="2881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Tahoma"/>
              </a:rPr>
              <a:t>РНТП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– Региональные научно-технические программ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Tahoma"/>
              </a:rPr>
              <a:t>ГНТП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– Государственные научно-технические программ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Tahoma"/>
              </a:rPr>
              <a:t>ОНТП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– Отраслевые научно-технические программ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Tahoma"/>
              </a:rPr>
              <a:t>БРФФИ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– Белорусский  республиканский  фонд  фундаментальных   исследований </a:t>
            </a:r>
            <a:r>
              <a:rPr b="0" lang="en-US" sz="1200" spc="-1" strike="noStrike">
                <a:solidFill>
                  <a:srgbClr val="ff3300"/>
                </a:solidFill>
                <a:latin typeface="Tahoma"/>
              </a:rPr>
              <a:t>ГПФИ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– Государственные программы фундаментальных исследова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Tahoma"/>
              </a:rPr>
              <a:t>ГПОФИ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– Государственные программы ориентированных фундаментальных исследова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Tahoma"/>
              </a:rPr>
              <a:t>ГППИ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– Государственные программы прикладных исследова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7667640" y="6165720"/>
          <a:ext cx="1154160" cy="460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67640" y="6165720"/>
                    <a:ext cx="11541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44440" y="257040"/>
            <a:ext cx="834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9. Эффект внедрения  результатов государственных програм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фундаментальных научных исследова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49120" y="1274760"/>
          <a:ext cx="8825040" cy="5653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9120" y="1274760"/>
                    <a:ext cx="8825040" cy="56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7812000" y="6237360"/>
          <a:ext cx="1154160" cy="460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12000" y="6237360"/>
                    <a:ext cx="11541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06:50:03Z</dcterms:created>
  <dc:creator>ICMSRW5T</dc:creator>
  <dc:description/>
  <dc:language>en-US</dc:language>
  <cp:lastModifiedBy>Cris</cp:lastModifiedBy>
  <dcterms:modified xsi:type="dcterms:W3CDTF">2005-10-03T14:10:35Z</dcterms:modified>
  <cp:revision>3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uthorEmail">
    <vt:lpwstr>alekseev@icm.by</vt:lpwstr>
  </property>
  <property fmtid="{D5CDD505-2E9C-101B-9397-08002B2CF9AE}" pid="3" name="_AuthorEmailDisplayName">
    <vt:lpwstr>Alekseev</vt:lpwstr>
  </property>
  <property fmtid="{D5CDD505-2E9C-101B-9397-08002B2CF9AE}" pid="4" name="_EmailSubject">
    <vt:lpwstr>Доклад Недилько</vt:lpwstr>
  </property>
  <property fmtid="{D5CDD505-2E9C-101B-9397-08002B2CF9AE}" pid="5" name="_ReviewCycleID">
    <vt:r8>-881138160</vt:r8>
  </property>
  <property fmtid="{D5CDD505-2E9C-101B-9397-08002B2CF9AE}" pid="6" name="_ReviewingToolsShownOnce">
    <vt:lpwstr/>
  </property>
</Properties>
</file>